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1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9.png" ContentType="image/pn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16FB7D-A93C-42B9-9130-1F741A4BC88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85A198-9C79-4D64-8A72-6B37B22A00C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211BE5-AB27-4363-906A-C4BFB546530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151817-147C-4E1E-A241-09FFF483297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B5C246-4B47-4DCC-A3DB-1F0AD589ADE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6ADB5A-A71C-44AA-9E2B-0C1EED1A08B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C5ABC7-70CF-4284-82FC-FE669939367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7DB3D1-3D94-485A-A28E-BB922EA27E2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F092C2-0187-4C56-B63C-5E3AC4BE372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2E7BE6-D015-4DF2-BFA9-91B779FFD75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0177B8-2CD6-4629-9D60-6A552853C37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EEAE6A-DE86-4258-81FE-687AE0FB1F7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43A970-C1B0-4496-A9FB-E286FEA706A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6998E6-066D-4CE8-A62B-52C4EFD917F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3065BD-C564-4CAD-8ADB-E733A27FEB9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101890-00F1-46B7-A584-57783F28BA5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D6104A-92FE-4E4C-B3FD-5174615FF4A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984245-0C6B-47B6-A42A-E8B4DCB22CD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78953D-F329-4AA4-B5B2-D160B47E1E3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66BA85-05F7-435E-A04F-FDA68CEBD12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A29EA7-6AD6-4DC3-99F0-14F0816D81A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73B4D9-1434-41E7-B0FC-0C14652FCAE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D58D96-AC03-418D-9616-3802CF317DA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BCB155-B69C-4F7B-A459-1C8A3952166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948368-6997-46C9-B046-B0FADCC5255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B70464-60B2-4627-8FCB-E86FFDE6AB4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6E372F-8629-4819-A84E-61A6AFAEEEB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076D7F-EE29-4C7A-B8C9-385530393EE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C9C752-3E62-47A8-A5EC-0EA0193F279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C43872-E9D8-4828-BB92-4869BFB75B1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73F11C-EE7C-41C7-B242-3D1C2F32795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799-4475-4381-AC6B-B36E8F2E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99A-F0A8-450D-BF87-B54A2A45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415B-5652-4C0A-8D52-9DDCD03F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C41F-0585-4E9A-B8A5-B7F67505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E63-F0EC-494E-9BA7-F590FE55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D4D-3F3F-4DC4-A612-AD70A905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2B9-2584-4765-B1AA-2D78EB00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E6B-EF10-4703-A198-05F65D80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DE7-1910-4C8E-B1CB-A86CAC20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3778-2328-4AD7-B4D1-2B8510F2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8C1-C04C-4A71-98BD-27817797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5B20-CF38-4504-BC95-4D9FEFCC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EA05-CB55-475E-842F-FF9D89898A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9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79280" y="2133720"/>
            <a:ext cx="8785440" cy="29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800" spc="-1" strike="noStrike">
                <a:solidFill>
                  <a:srgbClr val="000000"/>
                </a:solidFill>
                <a:latin typeface="Cambria"/>
              </a:rPr>
              <a:t>BOLLETTINO SETTIMANALE COVID-19 DELL’ AZIENDA USL DI IMOLA</a:t>
            </a:r>
            <a:endParaRPr b="0" lang="en-US" sz="5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79280" y="585144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Comitato di Distretto, Azienda USL di Imola,  25/10/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55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179280" y="541980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ANDREA ROSS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58" name="Immagine 2" descr=""/>
          <p:cNvPicPr/>
          <p:nvPr/>
        </p:nvPicPr>
        <p:blipFill>
          <a:blip r:embed="rId4"/>
          <a:stretch/>
        </p:blipFill>
        <p:spPr>
          <a:xfrm>
            <a:off x="5986440" y="4361040"/>
            <a:ext cx="2978280" cy="1299960"/>
          </a:xfrm>
          <a:prstGeom prst="rect">
            <a:avLst/>
          </a:prstGeom>
          <a:ln w="0">
            <a:noFill/>
          </a:ln>
        </p:spPr>
      </p:pic>
      <p:pic>
        <p:nvPicPr>
          <p:cNvPr id="59" name="Immagine 4" descr=""/>
          <p:cNvPicPr/>
          <p:nvPr/>
        </p:nvPicPr>
        <p:blipFill>
          <a:blip r:embed="rId5"/>
          <a:stretch/>
        </p:blipFill>
        <p:spPr>
          <a:xfrm>
            <a:off x="755640" y="4410000"/>
            <a:ext cx="144000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Prevalenza Casi Attivi x 1.000 ab. x classi di età avanzata, al 25/10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55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EVOLUZIONE CASI IN ETA’ AVANZATA 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0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61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pic>
        <p:nvPicPr>
          <p:cNvPr id="162" name="Immagine 1" descr=""/>
          <p:cNvPicPr/>
          <p:nvPr/>
        </p:nvPicPr>
        <p:blipFill>
          <a:blip r:embed="rId4"/>
          <a:stretch/>
        </p:blipFill>
        <p:spPr>
          <a:xfrm>
            <a:off x="44280" y="1916280"/>
            <a:ext cx="899172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1"/>
          <p:cNvSpPr/>
          <p:nvPr/>
        </p:nvSpPr>
        <p:spPr>
          <a:xfrm>
            <a:off x="179280" y="648648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, prevalenza casi attivi e incidenza nuovi casi x 100.000 abitanti, al 25/10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65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20520" y="145080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CASI COVID PER COMUNE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44280" y="6499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1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71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pic>
        <p:nvPicPr>
          <p:cNvPr id="172" name="Immagine 1" descr=""/>
          <p:cNvPicPr/>
          <p:nvPr/>
        </p:nvPicPr>
        <p:blipFill>
          <a:blip r:embed="rId4"/>
          <a:stretch/>
        </p:blipFill>
        <p:spPr>
          <a:xfrm>
            <a:off x="770040" y="2276640"/>
            <a:ext cx="7618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magine 1" descr=""/>
          <p:cNvPicPr/>
          <p:nvPr/>
        </p:nvPicPr>
        <p:blipFill>
          <a:blip r:embed="rId1"/>
          <a:stretch/>
        </p:blipFill>
        <p:spPr>
          <a:xfrm>
            <a:off x="44280" y="1744560"/>
            <a:ext cx="9079200" cy="46404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1"/>
          <p:cNvSpPr/>
          <p:nvPr/>
        </p:nvSpPr>
        <p:spPr>
          <a:xfrm>
            <a:off x="179280" y="648648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Tassi di incidenza settimanale per 100.000 abitanti residenti, al 25/10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76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0520" y="126036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INCIDENZA SETTIMANALE PER COMUNE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44280" y="6499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2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82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83" name="Connettore 1 2"/>
          <p:cNvSpPr/>
          <p:nvPr/>
        </p:nvSpPr>
        <p:spPr>
          <a:xfrm>
            <a:off x="539640" y="3716280"/>
            <a:ext cx="83534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4" name="Connettore 1 2"/>
          <p:cNvSpPr/>
          <p:nvPr/>
        </p:nvSpPr>
        <p:spPr>
          <a:xfrm>
            <a:off x="539640" y="4221000"/>
            <a:ext cx="8353440" cy="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5" name="Connettore 1 2"/>
          <p:cNvSpPr/>
          <p:nvPr/>
        </p:nvSpPr>
        <p:spPr>
          <a:xfrm>
            <a:off x="539640" y="4724280"/>
            <a:ext cx="835344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Immagine 1" descr=""/>
          <p:cNvPicPr/>
          <p:nvPr/>
        </p:nvPicPr>
        <p:blipFill>
          <a:blip r:embed="rId1"/>
          <a:stretch/>
        </p:blipFill>
        <p:spPr>
          <a:xfrm>
            <a:off x="1614600" y="2171880"/>
            <a:ext cx="5914800" cy="42098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1"/>
          <p:cNvSpPr/>
          <p:nvPr/>
        </p:nvSpPr>
        <p:spPr>
          <a:xfrm>
            <a:off x="115920" y="650412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e percentuali di casi attivi al 25/10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89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8"/>
          <p:cNvSpPr/>
          <p:nvPr/>
        </p:nvSpPr>
        <p:spPr>
          <a:xfrm>
            <a:off x="1787400" y="155736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20520" y="126036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CASI PER SETTING DI ISOLAMENTO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1592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3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95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96" name="CasellaDiTesto 14"/>
          <p:cNvSpPr/>
          <p:nvPr/>
        </p:nvSpPr>
        <p:spPr>
          <a:xfrm>
            <a:off x="5105520" y="182556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25 (4,3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7" name="CasellaDiTesto 16"/>
          <p:cNvSpPr/>
          <p:nvPr/>
        </p:nvSpPr>
        <p:spPr>
          <a:xfrm>
            <a:off x="3132000" y="6073920"/>
            <a:ext cx="13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554 (94,8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8" name="CasellaDiTesto 16"/>
          <p:cNvSpPr/>
          <p:nvPr/>
        </p:nvSpPr>
        <p:spPr>
          <a:xfrm>
            <a:off x="4464000" y="382284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TOTALE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584 CAS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9" name="CasellaDiTesto 14"/>
          <p:cNvSpPr/>
          <p:nvPr/>
        </p:nvSpPr>
        <p:spPr>
          <a:xfrm>
            <a:off x="5956920" y="1978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5 (0,9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0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20520" y="119700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OSTI LETTO OCCUPATI COVID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06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07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1592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4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1353960" y="6504120"/>
            <a:ext cx="754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per settimana, rilevati alle ore 8,00 di ogni lunedì, al 25/10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10" name="Immagine 1" descr=""/>
          <p:cNvPicPr/>
          <p:nvPr/>
        </p:nvPicPr>
        <p:blipFill>
          <a:blip r:embed="rId4"/>
          <a:stretch/>
        </p:blipFill>
        <p:spPr>
          <a:xfrm>
            <a:off x="20520" y="1771560"/>
            <a:ext cx="91234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Sospetti ed accertati, valori assoluti su base settimanale, al 25/10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13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RICOVERI COVID DA PRONTO SOCCORSO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5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1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20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1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22" name="Immagine 1" descr=""/>
          <p:cNvPicPr/>
          <p:nvPr/>
        </p:nvPicPr>
        <p:blipFill>
          <a:blip r:embed="rId4"/>
          <a:stretch/>
        </p:blipFill>
        <p:spPr>
          <a:xfrm>
            <a:off x="0" y="1979640"/>
            <a:ext cx="9144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24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20520" y="1268280"/>
            <a:ext cx="9123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ATTIVITA’ USCA (CONTATTI E VISITE)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6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30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31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2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2771640" y="6516720"/>
            <a:ext cx="61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su base mensile, al 25/10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34" name="Immagine 1" descr=""/>
          <p:cNvPicPr/>
          <p:nvPr/>
        </p:nvPicPr>
        <p:blipFill>
          <a:blip r:embed="rId4"/>
          <a:stretch/>
        </p:blipFill>
        <p:spPr>
          <a:xfrm>
            <a:off x="20520" y="1631880"/>
            <a:ext cx="912348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36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20520" y="130968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DECESSI COVID PER SETTIMANA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41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su base settimanale, al 25/10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7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44" name="Immagine 1" descr=""/>
          <p:cNvPicPr/>
          <p:nvPr/>
        </p:nvPicPr>
        <p:blipFill>
          <a:blip r:embed="rId4"/>
          <a:stretch/>
        </p:blipFill>
        <p:spPr>
          <a:xfrm>
            <a:off x="0" y="1792440"/>
            <a:ext cx="9144000" cy="46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1"/>
          <p:cNvSpPr/>
          <p:nvPr/>
        </p:nvSpPr>
        <p:spPr>
          <a:xfrm>
            <a:off x="108000" y="650556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e Tassi grezzi di mortalità x 1.000 ab. al 25/10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6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47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20520" y="134136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DECESSI COVID PER COMUNE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8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53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11"/>
          <p:cNvSpPr/>
          <p:nvPr/>
        </p:nvSpPr>
        <p:spPr>
          <a:xfrm>
            <a:off x="395280" y="2060640"/>
            <a:ext cx="748980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mbria"/>
              </a:rPr>
              <a:t>Totale: 448 (-) (227M; 221F)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mbria"/>
              </a:rPr>
              <a:t>Età media: 82,5 aa. (range 12-102)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Imola: 235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tel S.Pietro: 65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Medicina: 52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Dozza: 1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Borgo Tossignano: 16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Mordano: 13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tel Guelfo: 8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Fontanelice: 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alfiumanese: 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tel del Rio: 6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Non residenti: 22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55" name="Immagine 1" descr=""/>
          <p:cNvPicPr/>
          <p:nvPr/>
        </p:nvPicPr>
        <p:blipFill>
          <a:blip r:embed="rId4"/>
          <a:stretch/>
        </p:blipFill>
        <p:spPr>
          <a:xfrm>
            <a:off x="2771640" y="3267000"/>
            <a:ext cx="61214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1"/>
          <p:cNvSpPr/>
          <p:nvPr/>
        </p:nvSpPr>
        <p:spPr>
          <a:xfrm>
            <a:off x="57240" y="646596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25/10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7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58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0520" y="134136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DECESSI COVID PER CLASSI DI ETA’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9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64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1"/>
          <p:cNvSpPr/>
          <p:nvPr/>
        </p:nvSpPr>
        <p:spPr>
          <a:xfrm>
            <a:off x="331920" y="6237360"/>
            <a:ext cx="84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Eta’ mediana = 85 (-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66" name="Immagine 1" descr=""/>
          <p:cNvPicPr/>
          <p:nvPr/>
        </p:nvPicPr>
        <p:blipFill>
          <a:blip r:embed="rId4"/>
          <a:stretch/>
        </p:blipFill>
        <p:spPr>
          <a:xfrm>
            <a:off x="20520" y="2013120"/>
            <a:ext cx="912348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6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0520" y="133200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MESSAGGI CHIAVE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-1810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6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1"/>
          <p:cNvSpPr/>
          <p:nvPr/>
        </p:nvSpPr>
        <p:spPr>
          <a:xfrm>
            <a:off x="42840" y="2000160"/>
            <a:ext cx="89280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Rialzo della curva epidemica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incidenza settimanal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 (421,6 nuovi casi x 100.000; +6,6%) e della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media casi/di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 (80,6; +5,0); 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Trasmissibilità in aumento e sopra soglia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RD(t): 1,06 (+0,12); % test positivi: 22,2%; (+1,6%); diffusione nelle età più avanzate (mediana: 55,5 anni; -0,5); reinfezioni al 14%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Pressione sui servizi in lieve incremento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ricoveri ordinari 24 (+11); ricoveri in terapia intensiva 1(-); età mediana ricoverati: 82,5 anni (-); casi attivi (584; +55), test diagnostici (2.541; +2), attività settimanale USCA (12 contatti; +3; 7 visite; +2); ricoveri CoviD da PS (10; +3); OsCo (5; +4); Covid Hotel (0; -); contagi nelle residenze (0; -); contagi nei sanitari (15; +1); decessi CoviD (0; -).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Campagna vaccinal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1.090 (-242) vaccini anticoviD eseguiti. 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68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-10800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0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73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9"/>
          <p:cNvSpPr/>
          <p:nvPr/>
        </p:nvSpPr>
        <p:spPr>
          <a:xfrm>
            <a:off x="20520" y="171936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DOSI SOMMINISTRATE E PRENOTAZIONI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250920" y="5499000"/>
            <a:ext cx="878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PD:  Prime Dosi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B:  Ciclo di Base (II dosi, dosi uniche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C:  Ciclo Completo (dosi aggiuntive, dosi booster)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76" name="Immagine 1" descr=""/>
          <p:cNvPicPr/>
          <p:nvPr/>
        </p:nvPicPr>
        <p:blipFill>
          <a:blip r:embed="rId4"/>
          <a:stretch/>
        </p:blipFill>
        <p:spPr>
          <a:xfrm>
            <a:off x="0" y="2852640"/>
            <a:ext cx="91440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Immagine 1" descr=""/>
          <p:cNvPicPr/>
          <p:nvPr/>
        </p:nvPicPr>
        <p:blipFill>
          <a:blip r:embed="rId1"/>
          <a:stretch/>
        </p:blipFill>
        <p:spPr>
          <a:xfrm>
            <a:off x="299880" y="2048040"/>
            <a:ext cx="8544240" cy="3828960"/>
          </a:xfrm>
          <a:prstGeom prst="rect">
            <a:avLst/>
          </a:prstGeom>
          <a:ln w="0">
            <a:noFill/>
          </a:ln>
        </p:spPr>
      </p:pic>
      <p:sp>
        <p:nvSpPr>
          <p:cNvPr id="27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79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-10800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1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84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9"/>
          <p:cNvSpPr/>
          <p:nvPr/>
        </p:nvSpPr>
        <p:spPr>
          <a:xfrm>
            <a:off x="57240" y="147960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PRIME DOSI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250920" y="607392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3706920" y="5732640"/>
            <a:ext cx="1873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88,5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Immagine 1" descr=""/>
          <p:cNvPicPr/>
          <p:nvPr/>
        </p:nvPicPr>
        <p:blipFill>
          <a:blip r:embed="rId1"/>
          <a:stretch/>
        </p:blipFill>
        <p:spPr>
          <a:xfrm>
            <a:off x="243000" y="1989000"/>
            <a:ext cx="8658000" cy="3867120"/>
          </a:xfrm>
          <a:prstGeom prst="rect">
            <a:avLst/>
          </a:prstGeom>
          <a:ln w="0">
            <a:noFill/>
          </a:ln>
        </p:spPr>
      </p:pic>
      <p:sp>
        <p:nvSpPr>
          <p:cNvPr id="289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90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2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95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9"/>
          <p:cNvSpPr/>
          <p:nvPr/>
        </p:nvSpPr>
        <p:spPr>
          <a:xfrm>
            <a:off x="57240" y="147960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CICLO DI BASE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3708360" y="5708520"/>
            <a:ext cx="1873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86,4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250920" y="607392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Immagine 1" descr=""/>
          <p:cNvPicPr/>
          <p:nvPr/>
        </p:nvPicPr>
        <p:blipFill>
          <a:blip r:embed="rId1"/>
          <a:stretch/>
        </p:blipFill>
        <p:spPr>
          <a:xfrm>
            <a:off x="266760" y="1847880"/>
            <a:ext cx="8610480" cy="4029120"/>
          </a:xfrm>
          <a:prstGeom prst="rect">
            <a:avLst/>
          </a:prstGeom>
          <a:ln w="0">
            <a:noFill/>
          </a:ln>
        </p:spPr>
      </p:pic>
      <p:sp>
        <p:nvSpPr>
          <p:cNvPr id="30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01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3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06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57240" y="147960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TERZE DOSI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3708360" y="5708520"/>
            <a:ext cx="1873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75,9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250920" y="607392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Immagine 1" descr=""/>
          <p:cNvPicPr/>
          <p:nvPr/>
        </p:nvPicPr>
        <p:blipFill>
          <a:blip r:embed="rId1"/>
          <a:stretch/>
        </p:blipFill>
        <p:spPr>
          <a:xfrm>
            <a:off x="171360" y="1768320"/>
            <a:ext cx="8801280" cy="4181760"/>
          </a:xfrm>
          <a:prstGeom prst="rect">
            <a:avLst/>
          </a:prstGeom>
          <a:ln w="0">
            <a:noFill/>
          </a:ln>
        </p:spPr>
      </p:pic>
      <p:sp>
        <p:nvSpPr>
          <p:cNvPr id="31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12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4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17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9"/>
          <p:cNvSpPr/>
          <p:nvPr/>
        </p:nvSpPr>
        <p:spPr>
          <a:xfrm>
            <a:off x="57240" y="134136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QUARTE DOSI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250920" y="6073920"/>
            <a:ext cx="87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Adesione %: numero prenot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3130560" y="5805360"/>
            <a:ext cx="1873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37,3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4354560" y="5805360"/>
            <a:ext cx="1873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38,4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25/10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24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5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2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9"/>
          <p:cNvSpPr/>
          <p:nvPr/>
        </p:nvSpPr>
        <p:spPr>
          <a:xfrm>
            <a:off x="57240" y="1525680"/>
            <a:ext cx="912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SOMMINISTRAZIONI PER TIPOLOGIA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31" name="Immagine 1" descr=""/>
          <p:cNvPicPr/>
          <p:nvPr/>
        </p:nvPicPr>
        <p:blipFill>
          <a:blip r:embed="rId4"/>
          <a:stretch/>
        </p:blipFill>
        <p:spPr>
          <a:xfrm>
            <a:off x="625320" y="2637000"/>
            <a:ext cx="79074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25/10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3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34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6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3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9"/>
          <p:cNvSpPr/>
          <p:nvPr/>
        </p:nvSpPr>
        <p:spPr>
          <a:xfrm>
            <a:off x="20520" y="119700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OPERATORI SOSPESI E ASSENZE COVID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179280" y="5805360"/>
            <a:ext cx="878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* Le riammissioni conseguono a sopraggiunta infezione/malattia o vaccinazione. 18 operatori riammessi per guarigione risultano guariti da più di tre mesi, senza aver provveduto a vaccinarsi: in queste condizioni saranno nuovamente sospesi ad opera dei rispettivi Ordini Professionali.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42" name="Immagine 1" descr=""/>
          <p:cNvPicPr/>
          <p:nvPr/>
        </p:nvPicPr>
        <p:blipFill>
          <a:blip r:embed="rId4"/>
          <a:stretch/>
        </p:blipFill>
        <p:spPr>
          <a:xfrm>
            <a:off x="1859040" y="1871640"/>
            <a:ext cx="544968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25/10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45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7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50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20520" y="119700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ASSENZE COVID IN OPERATORI AUSL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52" name="Immagine 1" descr=""/>
          <p:cNvPicPr/>
          <p:nvPr/>
        </p:nvPicPr>
        <p:blipFill>
          <a:blip r:embed="rId4"/>
          <a:stretch/>
        </p:blipFill>
        <p:spPr>
          <a:xfrm>
            <a:off x="20520" y="1714680"/>
            <a:ext cx="909180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54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8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5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9"/>
          <p:cNvSpPr/>
          <p:nvPr/>
        </p:nvSpPr>
        <p:spPr>
          <a:xfrm>
            <a:off x="20520" y="119700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VACCINAZIONE ANTI-COVID-19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1" name="Rettangolo 1"/>
          <p:cNvSpPr/>
          <p:nvPr/>
        </p:nvSpPr>
        <p:spPr>
          <a:xfrm>
            <a:off x="108000" y="1700280"/>
            <a:ext cx="8928000" cy="48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Nell’ultima settimana sono state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eseguite 1.090 vaccinazioni</a:t>
            </a: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 (-242): 41 I dosi, 45 II dosi, 159 III dosi e 845 IV dosi;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Copertura popolazione target: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88,5% per le prime dosi</a:t>
            </a: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,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86,4% per le seconde dosi</a:t>
            </a: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 e al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75,9% per le terze dosi</a:t>
            </a: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;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Progressione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quarte dosi</a:t>
            </a: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: copertura al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37,3%</a:t>
            </a: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 e adesione al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38,4%</a:t>
            </a: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 del totale della popolazione vaccinabile (14.319 somministrazioni, 444 prenotazioni; target 38.411 assistiti); 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Copertura quarte dosi</a:t>
            </a: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 per classi di età; 60-64: 19,9%; 65-69: 24,6%; 70-74: 32,3%; 75-79: 39,3%; 80-84: 57,6%; &gt;85: 61,6%;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Adesione quarte dosi</a:t>
            </a: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 per classi di età; 60-64: 21,6%; 65-69: 25,8%; 70-74: 36,6%; 75-79: 40,6%; 80-84: 58,2%; &gt;85: 62,2%;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Dal 24/10 il vaccino antiCoviD aggiornato è disponibile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in associazione con l’antinfluenzale</a:t>
            </a: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 presso gli ambulatori vaccinali AUSL e presso i MMG; già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prenotabili le V dosi</a:t>
            </a: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 negli anziani e nei soggetti vulnerabili.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63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8"/>
          <p:cNvSpPr/>
          <p:nvPr/>
        </p:nvSpPr>
        <p:spPr>
          <a:xfrm>
            <a:off x="1828800" y="1557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9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68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9"/>
          <p:cNvSpPr/>
          <p:nvPr/>
        </p:nvSpPr>
        <p:spPr>
          <a:xfrm>
            <a:off x="14400" y="1268280"/>
            <a:ext cx="912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ER CONCLUDERE (1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70" name="Rettangolo 1"/>
          <p:cNvSpPr/>
          <p:nvPr/>
        </p:nvSpPr>
        <p:spPr>
          <a:xfrm>
            <a:off x="108000" y="1795320"/>
            <a:ext cx="892800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L’incidenza settimanale di casi di Covid-19 si mantiene elevata (461,6 casi x 100.000), come pure la trasmissibilità (RD(t)=1,06), la percentuale di test positivi (22,2%) e la proporzione di reinfezioni (14%); contenuta la circolazione in età scolastica; in rialzo quella nelle età avanzate;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Per la nona settimana consecutiva non si registrano decessi Covid sul nostro territorio; in rialzo l’occupazione dei posti letto ordinari, anche se in oltre il 60% dei casi dedicati a soggetti ricoverati per patologie concomitanti e solo incidentalmente trovati positivi per Sars-CoV-2;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L’ondata autunnale d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mbria"/>
                <a:ea typeface="Times New Roman"/>
              </a:rPr>
              <a:t>Omicron 5</a:t>
            </a: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sta assumendo un andamento ondulante e rallentato; già però si prospetta la diffusione di altre sottovarianti di interesse, che non sembrano più aggressive, ma sono sicuramente più abili a schivare la risposta immune, e quindi ad infettare anche persone vaccinate, o a reinfettare persone guarite.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magine 1" descr=""/>
          <p:cNvPicPr/>
          <p:nvPr/>
        </p:nvPicPr>
        <p:blipFill>
          <a:blip r:embed="rId1"/>
          <a:stretch/>
        </p:blipFill>
        <p:spPr>
          <a:xfrm>
            <a:off x="0" y="1889280"/>
            <a:ext cx="9123480" cy="4599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1"/>
          <p:cNvSpPr/>
          <p:nvPr/>
        </p:nvSpPr>
        <p:spPr>
          <a:xfrm>
            <a:off x="179280" y="65102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giornalieri per data di diagnosi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72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0520" y="126828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NUOVI CASI COVID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78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79" name="CasellaDiTesto 12"/>
          <p:cNvSpPr/>
          <p:nvPr/>
        </p:nvSpPr>
        <p:spPr>
          <a:xfrm>
            <a:off x="1763640" y="1700280"/>
            <a:ext cx="1368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OMICRON 1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0" name="CasellaDiTesto 14"/>
          <p:cNvSpPr/>
          <p:nvPr/>
        </p:nvSpPr>
        <p:spPr>
          <a:xfrm>
            <a:off x="3851280" y="4292640"/>
            <a:ext cx="1368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OMICRON 2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1" name="CasellaDiTesto 15"/>
          <p:cNvSpPr/>
          <p:nvPr/>
        </p:nvSpPr>
        <p:spPr>
          <a:xfrm>
            <a:off x="5867280" y="3933720"/>
            <a:ext cx="1368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OMICRON 5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72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8"/>
          <p:cNvSpPr/>
          <p:nvPr/>
        </p:nvSpPr>
        <p:spPr>
          <a:xfrm>
            <a:off x="1828800" y="1557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0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7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9"/>
          <p:cNvSpPr/>
          <p:nvPr/>
        </p:nvSpPr>
        <p:spPr>
          <a:xfrm>
            <a:off x="14400" y="1125360"/>
            <a:ext cx="912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ER CONCLUDERE (2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79" name="Rettangolo 1"/>
          <p:cNvSpPr/>
          <p:nvPr/>
        </p:nvSpPr>
        <p:spPr>
          <a:xfrm>
            <a:off x="108000" y="1557360"/>
            <a:ext cx="8928000" cy="51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Times New Roman"/>
              </a:rPr>
              <a:t>La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Times New Roman"/>
              </a:rPr>
              <a:t>sottovariante X.BB (Gryphon)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Times New Roman"/>
              </a:rPr>
              <a:t>, derivata dalla fusione di due sottovarianti Omicron, si sta diffondendo molto rapidamente in Asia e in particolare a Singapore, dove ha determinato un cospicuo aumento di casi; è molto più contagiosa ed è contrastata solo dai vaccini aggiornati;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Times New Roman"/>
              </a:rPr>
              <a:t>La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Times New Roman"/>
              </a:rPr>
              <a:t>sottovariante BQ.1.1. (Cerberus)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Times New Roman"/>
              </a:rPr>
              <a:t>, discendente di Omicron 5, sta sostituendo progressivamente il progenitore, combinando anch’essa una elevata contagiosità, con una maggiore immunoevasività; è al 19% degli isolamenti in Francia, al 17% negli Stati Uniti e al 5% in Italia;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Times New Roman"/>
              </a:rPr>
              <a:t>Per effetto della diffusione di queste sottovarianti, è molto verosimile che i contagi tornino ad aumentare nelle prossime 4/6 settimane, ma non ci si aspetta un aumento della severità dell’infezione, né che i vaccini abbiano sostanziali perdite di efficacia;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Times New Roman"/>
              </a:rPr>
              <a:t>Sarà quindi fondamentale il mantenimento e/o il miglioramento dei livelli di immunità vaccinale e l’uso responsabile delle mascherine nei luoghi al chiuso con assembramenti, soprattutto se all’abbassarsi della colonnina di mercurio dovesse far seguito l’innalzamento della curva dei contagi.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magine 1" descr=""/>
          <p:cNvPicPr/>
          <p:nvPr/>
        </p:nvPicPr>
        <p:blipFill>
          <a:blip r:embed="rId1"/>
          <a:stretch/>
        </p:blipFill>
        <p:spPr>
          <a:xfrm>
            <a:off x="20520" y="1936800"/>
            <a:ext cx="9123480" cy="45068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1"/>
          <p:cNvSpPr/>
          <p:nvPr/>
        </p:nvSpPr>
        <p:spPr>
          <a:xfrm>
            <a:off x="179280" y="65102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Incidenza cumulativa x 100.000 abitanti per settimana di diagnosi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85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20520" y="133668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INCIDENZA SETTIMANALE NUOVI CASI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89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4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1" name="Connettore 1 2"/>
          <p:cNvSpPr/>
          <p:nvPr/>
        </p:nvSpPr>
        <p:spPr>
          <a:xfrm>
            <a:off x="468360" y="5229360"/>
            <a:ext cx="84963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2" name="CasellaDiTesto 12"/>
          <p:cNvSpPr/>
          <p:nvPr/>
        </p:nvSpPr>
        <p:spPr>
          <a:xfrm>
            <a:off x="1979640" y="1893960"/>
            <a:ext cx="1368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OMICRON 1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3" name="CasellaDiTesto 13"/>
          <p:cNvSpPr/>
          <p:nvPr/>
        </p:nvSpPr>
        <p:spPr>
          <a:xfrm>
            <a:off x="3924360" y="4341960"/>
            <a:ext cx="1368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OMICRON 2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4" name="CasellaDiTesto 14"/>
          <p:cNvSpPr/>
          <p:nvPr/>
        </p:nvSpPr>
        <p:spPr>
          <a:xfrm>
            <a:off x="5867280" y="3789360"/>
            <a:ext cx="1368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OMICRON 5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magine 1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464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1"/>
          <p:cNvSpPr/>
          <p:nvPr/>
        </p:nvSpPr>
        <p:spPr>
          <a:xfrm>
            <a:off x="179280" y="6237360"/>
            <a:ext cx="878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Giorno centrale della media mobile (calcolata su 7 giorni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Intervallo di Confidenza al 95% calcolato con metodo binomiale esatto con distribuzione F di Fisher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7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98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02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20520" y="135900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INDICE DI REPLICAZIONE DIAGNOSTICO RD</a:t>
            </a:r>
            <a:r>
              <a:rPr b="1" lang="it-IT" sz="3200" spc="-1" strike="noStrike">
                <a:solidFill>
                  <a:srgbClr val="3333cc"/>
                </a:solidFill>
                <a:latin typeface="Arial"/>
                <a:ea typeface="Arial"/>
              </a:rPr>
              <a:t>(</a:t>
            </a: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it-IT" sz="3200" spc="-1" strike="noStrike">
                <a:solidFill>
                  <a:srgbClr val="3333cc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4" name="Connettore 1 2"/>
          <p:cNvSpPr/>
          <p:nvPr/>
        </p:nvSpPr>
        <p:spPr>
          <a:xfrm>
            <a:off x="304920" y="5229360"/>
            <a:ext cx="87310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mmagine 1" descr=""/>
          <p:cNvPicPr/>
          <p:nvPr/>
        </p:nvPicPr>
        <p:blipFill>
          <a:blip r:embed="rId1"/>
          <a:stretch/>
        </p:blipFill>
        <p:spPr>
          <a:xfrm>
            <a:off x="23760" y="1743120"/>
            <a:ext cx="9096480" cy="47102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179280" y="65102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Media settimanale di test eseguiti (antigenici + molecolari) e percentuale di positività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7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08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20520" y="126828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TEST POSITIVI/TEST ESEGUITI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6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14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15" name="CasellaDiTesto 15"/>
          <p:cNvSpPr/>
          <p:nvPr/>
        </p:nvSpPr>
        <p:spPr>
          <a:xfrm>
            <a:off x="2416320" y="174312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26,5%</a:t>
            </a:r>
            <a:endParaRPr b="0" lang="en-US" sz="1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6" name="CasellaDiTesto 15"/>
          <p:cNvSpPr/>
          <p:nvPr/>
        </p:nvSpPr>
        <p:spPr>
          <a:xfrm>
            <a:off x="4213440" y="411156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21,2%</a:t>
            </a:r>
            <a:endParaRPr b="0" lang="en-US" sz="1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7" name="CasellaDiTesto 15"/>
          <p:cNvSpPr/>
          <p:nvPr/>
        </p:nvSpPr>
        <p:spPr>
          <a:xfrm>
            <a:off x="6448680" y="397512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35,1%</a:t>
            </a:r>
            <a:endParaRPr b="0" lang="en-US" sz="1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8" name="CasellaDiTesto 15"/>
          <p:cNvSpPr/>
          <p:nvPr/>
        </p:nvSpPr>
        <p:spPr>
          <a:xfrm>
            <a:off x="8677440" y="450864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22,2%</a:t>
            </a:r>
            <a:endParaRPr b="0" lang="en-US" sz="10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magine 1" descr=""/>
          <p:cNvPicPr/>
          <p:nvPr/>
        </p:nvPicPr>
        <p:blipFill>
          <a:blip r:embed="rId1"/>
          <a:stretch/>
        </p:blipFill>
        <p:spPr>
          <a:xfrm>
            <a:off x="44280" y="1768320"/>
            <a:ext cx="9099720" cy="4675320"/>
          </a:xfrm>
          <a:prstGeom prst="rect">
            <a:avLst/>
          </a:prstGeom>
          <a:ln w="0">
            <a:noFill/>
          </a:ln>
        </p:spPr>
      </p:pic>
      <p:sp>
        <p:nvSpPr>
          <p:cNvPr id="12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21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1835280" y="1530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0520" y="126828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INCIDENZA SETTIMANALE PER AUSL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7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27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1"/>
          <p:cNvSpPr/>
          <p:nvPr/>
        </p:nvSpPr>
        <p:spPr>
          <a:xfrm>
            <a:off x="179280" y="64436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Tassi settimanali di incidenza cumulativa x 100.000 abitanti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9" name="Connettore 1 2"/>
          <p:cNvSpPr/>
          <p:nvPr/>
        </p:nvSpPr>
        <p:spPr>
          <a:xfrm>
            <a:off x="539640" y="3860640"/>
            <a:ext cx="84250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0" name="Connettore 1 2"/>
          <p:cNvSpPr/>
          <p:nvPr/>
        </p:nvSpPr>
        <p:spPr>
          <a:xfrm>
            <a:off x="539640" y="4437000"/>
            <a:ext cx="8353440" cy="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1" name="Connettore 1 2"/>
          <p:cNvSpPr/>
          <p:nvPr/>
        </p:nvSpPr>
        <p:spPr>
          <a:xfrm>
            <a:off x="523800" y="5013360"/>
            <a:ext cx="835344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1"/>
          <p:cNvSpPr/>
          <p:nvPr/>
        </p:nvSpPr>
        <p:spPr>
          <a:xfrm>
            <a:off x="179280" y="65768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Frequenza di casi attivi per sesso ed età, al 25/10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34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0520" y="130644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CASI ATTIVI PER ETA’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8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40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1"/>
          <p:cNvSpPr/>
          <p:nvPr/>
        </p:nvSpPr>
        <p:spPr>
          <a:xfrm>
            <a:off x="331920" y="6237360"/>
            <a:ext cx="84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Eta’ mediana = 55,5 (-0,5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42" name="Immagine 1" descr=""/>
          <p:cNvPicPr/>
          <p:nvPr/>
        </p:nvPicPr>
        <p:blipFill>
          <a:blip r:embed="rId4"/>
          <a:stretch/>
        </p:blipFill>
        <p:spPr>
          <a:xfrm>
            <a:off x="44280" y="1974960"/>
            <a:ext cx="9079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Prevalenza Casi Attivi x 1.000 ab. x classi di età scolastica, al 25/10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45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EVOLUZIONE CASI IN ETA’ SCOLASTICA 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9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51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pic>
        <p:nvPicPr>
          <p:cNvPr id="152" name="Immagine 1" descr=""/>
          <p:cNvPicPr/>
          <p:nvPr/>
        </p:nvPicPr>
        <p:blipFill>
          <a:blip r:embed="rId4"/>
          <a:stretch/>
        </p:blipFill>
        <p:spPr>
          <a:xfrm>
            <a:off x="44280" y="2017800"/>
            <a:ext cx="90997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8:57:11Z</dcterms:created>
  <dc:creator>Coglianese</dc:creator>
  <dc:description/>
  <dc:language>en-US</dc:language>
  <cp:lastModifiedBy>Rossi Andrea</cp:lastModifiedBy>
  <cp:lastPrinted>2022-08-29T08:57:52Z</cp:lastPrinted>
  <dcterms:modified xsi:type="dcterms:W3CDTF">2022-10-25T11:06:46Z</dcterms:modified>
  <cp:revision>3306</cp:revision>
  <dc:subject/>
  <dc:title>Presentazione di PowerPoint</dc:title>
</cp:coreProperties>
</file>