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5.wmf" ContentType="image/x-wmf"/>
  <Override PartName="/ppt/media/image24.wmf" ContentType="image/x-wmf"/>
  <Override PartName="/ppt/media/image10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5.wmf" ContentType="image/x-wmf"/>
  <Override PartName="/ppt/media/image28.wmf" ContentType="image/x-wmf"/>
  <Override PartName="/ppt/media/image2.png" ContentType="image/png"/>
  <Override PartName="/ppt/media/image32.png" ContentType="image/png"/>
  <Override PartName="/ppt/media/image15.wmf" ContentType="image/x-wmf"/>
  <Override PartName="/ppt/media/image4.wmf" ContentType="image/x-wmf"/>
  <Override PartName="/ppt/media/image27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79340A2-5258-40B1-95A8-991F9F6532D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Showcard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088CE4F-0120-45D2-BA15-2726B6465D2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FBE9C25-F589-4CAB-A1BD-A0CCF02EC7C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46830DE-AFAA-48C6-AD7E-61041E19B0F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466CD34-65A3-4F99-898F-F3806AF9E74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0C0C78E-743E-4694-A859-ED9B8DE4986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FB3BE37-D43A-4995-AD4F-CA82B9E23DF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A862C56-C11F-4A44-B8BF-08B515E2DF6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1151396-31AF-46AC-9013-5B19A33773A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6730790-3F95-4218-BD89-F74400B355A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731990C-3340-4240-9518-ABA0DB1B3F6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217B5E5-A49E-43C3-89E7-3C71E0E1EAF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DFD3DC8-5FED-4B73-A20F-168807099CE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A67A0FB-8ACB-47D4-8B64-596886225AD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FCB32DB-0ED3-4B05-ABD9-A3234BC28EC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826EFF0-BD55-4404-A1D9-F48591D9B61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C86ED43-F27F-4025-AB8D-51A2E433757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6DD921A-4F47-451A-B2E2-0297AF05DB4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2FCEBA2-2862-498D-BA25-5F3A21F47FE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528AF66-8FE4-4939-B246-D6471EE6384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B8CA720-9654-4782-AE42-4ABA1C6D72C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87897ED-BB78-48AF-B364-D96A4E849F9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F9AAF09-53E1-42F9-8722-635BD04DB12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00B68C0-A2B9-4E59-85AD-CD78B715D53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DEAF98D-5489-4DEB-831E-0DD6F4590B8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78B78F6-A521-4E4E-A4CB-09B46C2E7D7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C58BC9F-F95A-43DA-AEB8-9819590FA00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D4EC161-7B42-4322-B3D3-544F21471E2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C806359-C82D-49F6-BFC5-295EC33A76E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A6EE609-D5E6-49F9-AA2B-7B076F8C6CB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A15CA20-A850-4F3E-ABD2-F95C30AE596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5E18FD4-DB98-4B7E-B9DE-331C08D70F2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D93776C-A7DF-4D14-BC75-722A5EB200E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70E36B0-2F82-4E3A-8E52-C4FE4441942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E5CF-953D-4316-92A8-E246360F3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318A-6FE2-44AC-ABCD-00296EB51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8334-BCEF-41E0-9C5D-55E721468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246D-85C2-474A-B167-A785F1B57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0320-7EA4-4002-BE9A-A28452B89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3EAC-5592-4186-A005-1D111E641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F497-1EE0-4FD8-84D3-880373EBB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A44F-FF5F-4834-AF61-B0A984413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D78A-E464-478F-BF85-1ED9C410A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CB00-223E-4403-AB30-01276739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B5F7-FB06-4A70-930A-D8B240D4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AAB8-6C50-49F9-8732-8AAB6336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3C7D2-280A-40A6-A0BB-ADD50B86F71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Showcard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49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179280" y="2133720"/>
            <a:ext cx="8785440" cy="29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800" spc="-1" strike="noStrike">
                <a:solidFill>
                  <a:srgbClr val="000000"/>
                </a:solidFill>
                <a:latin typeface="Cambria"/>
              </a:rPr>
              <a:t>BOLLETTINO SETTIMANALE COVID-19 DELL’ AZIENDA USL DI IMOLA</a:t>
            </a:r>
            <a:endParaRPr b="0" lang="en-US" sz="5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179280" y="5851440"/>
            <a:ext cx="878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mbria"/>
              </a:rPr>
              <a:t>Comitato di Distretto, Nuovo Circondario Imolese, 12/07/2022</a:t>
            </a:r>
            <a:endParaRPr b="0" lang="en-US" sz="1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55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1"/>
          <p:cNvSpPr/>
          <p:nvPr/>
        </p:nvSpPr>
        <p:spPr>
          <a:xfrm>
            <a:off x="179280" y="541980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ANDREA ROSSI</a:t>
            </a:r>
            <a:endParaRPr b="0" lang="en-US" sz="2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1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58" name="Immagine 2" descr=""/>
          <p:cNvPicPr/>
          <p:nvPr/>
        </p:nvPicPr>
        <p:blipFill>
          <a:blip r:embed="rId4"/>
          <a:stretch/>
        </p:blipFill>
        <p:spPr>
          <a:xfrm>
            <a:off x="5986440" y="4361040"/>
            <a:ext cx="2978280" cy="1299960"/>
          </a:xfrm>
          <a:prstGeom prst="rect">
            <a:avLst/>
          </a:prstGeom>
          <a:ln w="0">
            <a:noFill/>
          </a:ln>
        </p:spPr>
      </p:pic>
      <p:pic>
        <p:nvPicPr>
          <p:cNvPr id="59" name="Immagine 4" descr=""/>
          <p:cNvPicPr/>
          <p:nvPr/>
        </p:nvPicPr>
        <p:blipFill>
          <a:blip r:embed="rId5"/>
          <a:stretch/>
        </p:blipFill>
        <p:spPr>
          <a:xfrm>
            <a:off x="755640" y="4410000"/>
            <a:ext cx="144000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1"/>
          <p:cNvSpPr/>
          <p:nvPr/>
        </p:nvSpPr>
        <p:spPr>
          <a:xfrm>
            <a:off x="179280" y="648648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Valori assoluti, prevalenza casi attivi e incidenza nuovi casi x 100.000 abitanti, al 11/07/2022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52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53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20520" y="1450800"/>
            <a:ext cx="91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cc"/>
                </a:solidFill>
                <a:latin typeface="Cambria"/>
              </a:rPr>
              <a:t>CASI COVID PER COMUNE</a:t>
            </a:r>
            <a:endParaRPr b="0" lang="en-US" sz="4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57" name="Text Box 12"/>
          <p:cNvSpPr/>
          <p:nvPr/>
        </p:nvSpPr>
        <p:spPr>
          <a:xfrm>
            <a:off x="44280" y="64990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10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59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pic>
        <p:nvPicPr>
          <p:cNvPr id="160" name="Immagine 1" descr=""/>
          <p:cNvPicPr/>
          <p:nvPr/>
        </p:nvPicPr>
        <p:blipFill>
          <a:blip r:embed="rId4"/>
          <a:stretch/>
        </p:blipFill>
        <p:spPr>
          <a:xfrm>
            <a:off x="611280" y="2276640"/>
            <a:ext cx="792324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Immagine 3" descr=""/>
          <p:cNvPicPr/>
          <p:nvPr/>
        </p:nvPicPr>
        <p:blipFill>
          <a:blip r:embed="rId1"/>
          <a:stretch/>
        </p:blipFill>
        <p:spPr>
          <a:xfrm>
            <a:off x="44280" y="1673280"/>
            <a:ext cx="9055440" cy="48132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1"/>
          <p:cNvSpPr/>
          <p:nvPr/>
        </p:nvSpPr>
        <p:spPr>
          <a:xfrm>
            <a:off x="179280" y="648648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Tassi di incidenza settimanale per 100.000 abitanti residenti, al 11/07/2022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63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64" name="Picture 4" descr="PUNTI"/>
          <p:cNvPicPr/>
          <p:nvPr/>
        </p:nvPicPr>
        <p:blipFill>
          <a:blip r:embed="rId2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SCRIVI"/>
          <p:cNvPicPr/>
          <p:nvPr/>
        </p:nvPicPr>
        <p:blipFill>
          <a:blip r:embed="rId3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20520" y="1260360"/>
            <a:ext cx="91234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cc"/>
                </a:solidFill>
                <a:latin typeface="Cambria"/>
              </a:rPr>
              <a:t>INCIDENZA SETTIMANALE PER COMUNE</a:t>
            </a: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44280" y="64990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11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69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70" name="Picture 12" descr="SCRIVI"/>
          <p:cNvPicPr/>
          <p:nvPr/>
        </p:nvPicPr>
        <p:blipFill>
          <a:blip r:embed="rId4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71" name="Connettore 1 2"/>
          <p:cNvSpPr/>
          <p:nvPr/>
        </p:nvSpPr>
        <p:spPr>
          <a:xfrm>
            <a:off x="539640" y="4653000"/>
            <a:ext cx="835344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72" name="Connettore 1 2"/>
          <p:cNvSpPr/>
          <p:nvPr/>
        </p:nvSpPr>
        <p:spPr>
          <a:xfrm>
            <a:off x="539640" y="4869000"/>
            <a:ext cx="8353440" cy="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73" name="Connettore 1 2"/>
          <p:cNvSpPr/>
          <p:nvPr/>
        </p:nvSpPr>
        <p:spPr>
          <a:xfrm>
            <a:off x="539640" y="5084640"/>
            <a:ext cx="8353440" cy="0"/>
          </a:xfrm>
          <a:prstGeom prst="line">
            <a:avLst/>
          </a:prstGeom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Immagine 1" descr=""/>
          <p:cNvPicPr/>
          <p:nvPr/>
        </p:nvPicPr>
        <p:blipFill>
          <a:blip r:embed="rId1"/>
          <a:stretch/>
        </p:blipFill>
        <p:spPr>
          <a:xfrm>
            <a:off x="1681200" y="1981080"/>
            <a:ext cx="5915160" cy="440064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11"/>
          <p:cNvSpPr/>
          <p:nvPr/>
        </p:nvSpPr>
        <p:spPr>
          <a:xfrm>
            <a:off x="115920" y="6504120"/>
            <a:ext cx="87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Valori assoluti e percentuali di casi attivi al 11/07/2022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76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77" name="Picture 4" descr="PUNTI"/>
          <p:cNvPicPr/>
          <p:nvPr/>
        </p:nvPicPr>
        <p:blipFill>
          <a:blip r:embed="rId2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SCRIVI"/>
          <p:cNvPicPr/>
          <p:nvPr/>
        </p:nvPicPr>
        <p:blipFill>
          <a:blip r:embed="rId3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8"/>
          <p:cNvSpPr/>
          <p:nvPr/>
        </p:nvSpPr>
        <p:spPr>
          <a:xfrm>
            <a:off x="1787400" y="1557360"/>
            <a:ext cx="358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20520" y="1260360"/>
            <a:ext cx="91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cc"/>
                </a:solidFill>
                <a:latin typeface="Cambria"/>
              </a:rPr>
              <a:t>CASI PER SETTING DI ISOLAMENTO</a:t>
            </a:r>
            <a:endParaRPr b="0" lang="en-US" sz="4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81" name="Text Box 12"/>
          <p:cNvSpPr/>
          <p:nvPr/>
        </p:nvSpPr>
        <p:spPr>
          <a:xfrm>
            <a:off x="11592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12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82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83" name="Picture 12" descr="SCRIVI"/>
          <p:cNvPicPr/>
          <p:nvPr/>
        </p:nvPicPr>
        <p:blipFill>
          <a:blip r:embed="rId4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84" name="CasellaDiTesto 14"/>
          <p:cNvSpPr/>
          <p:nvPr/>
        </p:nvSpPr>
        <p:spPr>
          <a:xfrm>
            <a:off x="5398200" y="175248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25 (1,3%)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85" name="CasellaDiTesto 16"/>
          <p:cNvSpPr/>
          <p:nvPr/>
        </p:nvSpPr>
        <p:spPr>
          <a:xfrm>
            <a:off x="3564000" y="6073920"/>
            <a:ext cx="138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1.678 (87,9%)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86" name="CasellaDiTesto 16"/>
          <p:cNvSpPr/>
          <p:nvPr/>
        </p:nvSpPr>
        <p:spPr>
          <a:xfrm>
            <a:off x="4723920" y="3716280"/>
            <a:ext cx="156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TOTALE</a:t>
            </a:r>
            <a:endParaRPr b="0" lang="en-US" sz="2400" spc="-1" strike="noStrike">
              <a:solidFill>
                <a:srgbClr val="3333cc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1.909 CASI</a:t>
            </a:r>
            <a:endParaRPr b="0" lang="en-US" sz="2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87" name="CasellaDiTesto 14"/>
          <p:cNvSpPr/>
          <p:nvPr/>
        </p:nvSpPr>
        <p:spPr>
          <a:xfrm>
            <a:off x="6449400" y="1989000"/>
            <a:ext cx="113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206 (10,8%)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Immagine 1" descr=""/>
          <p:cNvPicPr/>
          <p:nvPr/>
        </p:nvPicPr>
        <p:blipFill>
          <a:blip r:embed="rId1"/>
          <a:stretch/>
        </p:blipFill>
        <p:spPr>
          <a:xfrm>
            <a:off x="20520" y="4005360"/>
            <a:ext cx="9120240" cy="2879640"/>
          </a:xfrm>
          <a:prstGeom prst="rect">
            <a:avLst/>
          </a:prstGeom>
          <a:ln w="0">
            <a:noFill/>
          </a:ln>
        </p:spPr>
      </p:pic>
      <p:pic>
        <p:nvPicPr>
          <p:cNvPr id="189" name="Immagine 1" descr=""/>
          <p:cNvPicPr/>
          <p:nvPr/>
        </p:nvPicPr>
        <p:blipFill>
          <a:blip r:embed="rId2"/>
          <a:stretch/>
        </p:blipFill>
        <p:spPr>
          <a:xfrm>
            <a:off x="0" y="1160640"/>
            <a:ext cx="9140760" cy="2844720"/>
          </a:xfrm>
          <a:prstGeom prst="rect">
            <a:avLst/>
          </a:prstGeom>
          <a:ln w="0">
            <a:noFill/>
          </a:ln>
        </p:spPr>
      </p:pic>
      <p:sp>
        <p:nvSpPr>
          <p:cNvPr id="190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91" name="Picture 4" descr="PUNTI"/>
          <p:cNvPicPr/>
          <p:nvPr/>
        </p:nvPicPr>
        <p:blipFill>
          <a:blip r:embed="rId3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SCRIVI"/>
          <p:cNvPicPr/>
          <p:nvPr/>
        </p:nvPicPr>
        <p:blipFill>
          <a:blip r:embed="rId4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20520" y="1197000"/>
            <a:ext cx="9123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POSTI LETTO OCCUPATI COVID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95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96" name="Picture 12" descr="SCRIVI"/>
          <p:cNvPicPr/>
          <p:nvPr/>
        </p:nvPicPr>
        <p:blipFill>
          <a:blip r:embed="rId5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97" name="Figura a mano libera 6"/>
          <p:cNvSpPr/>
          <p:nvPr/>
        </p:nvSpPr>
        <p:spPr>
          <a:xfrm>
            <a:off x="6850080" y="2408400"/>
            <a:ext cx="1152360" cy="2236680"/>
          </a:xfrm>
          <a:custGeom>
            <a:avLst/>
            <a:gdLst/>
            <a:ahLst/>
            <a:rect l="l" t="t" r="r" b="b"/>
            <a:pathLst>
              <a:path w="1152248" h="2237015">
                <a:moveTo>
                  <a:pt x="0" y="0"/>
                </a:moveTo>
                <a:cubicBezTo>
                  <a:pt x="171450" y="532039"/>
                  <a:pt x="342900" y="1064079"/>
                  <a:pt x="530678" y="1436915"/>
                </a:cubicBezTo>
                <a:cubicBezTo>
                  <a:pt x="718456" y="1809751"/>
                  <a:pt x="1277710" y="2073729"/>
                  <a:pt x="1126671" y="2237015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98" name="CasellaDiTesto 14"/>
          <p:cNvSpPr/>
          <p:nvPr/>
        </p:nvSpPr>
        <p:spPr>
          <a:xfrm>
            <a:off x="4140360" y="2106720"/>
            <a:ext cx="11984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Cambria"/>
              </a:rPr>
              <a:t>2020</a:t>
            </a:r>
            <a:endParaRPr b="0" lang="en-US" sz="1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99" name="CasellaDiTesto 15"/>
          <p:cNvSpPr/>
          <p:nvPr/>
        </p:nvSpPr>
        <p:spPr>
          <a:xfrm>
            <a:off x="3348000" y="4724280"/>
            <a:ext cx="11984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Cambria"/>
              </a:rPr>
              <a:t>2021</a:t>
            </a:r>
            <a:endParaRPr b="0" lang="en-US" sz="1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00" name="CasellaDiTesto 13"/>
          <p:cNvSpPr/>
          <p:nvPr/>
        </p:nvSpPr>
        <p:spPr>
          <a:xfrm>
            <a:off x="7740720" y="4724280"/>
            <a:ext cx="11984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Cambria"/>
              </a:rPr>
              <a:t>2022</a:t>
            </a:r>
            <a:endParaRPr b="0" lang="en-US" sz="18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11"/>
          <p:cNvSpPr/>
          <p:nvPr/>
        </p:nvSpPr>
        <p:spPr>
          <a:xfrm>
            <a:off x="179280" y="650556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Valori assoluti al 11/07/2022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02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03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20520" y="1380960"/>
            <a:ext cx="9123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RICOVERI PER EROGATORE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07" name="Text Box 12"/>
          <p:cNvSpPr/>
          <p:nvPr/>
        </p:nvSpPr>
        <p:spPr>
          <a:xfrm>
            <a:off x="-36360" y="648828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14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08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09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10" name="Figura a mano libera 6"/>
          <p:cNvSpPr/>
          <p:nvPr/>
        </p:nvSpPr>
        <p:spPr>
          <a:xfrm>
            <a:off x="6850080" y="2408400"/>
            <a:ext cx="1152360" cy="2236680"/>
          </a:xfrm>
          <a:custGeom>
            <a:avLst/>
            <a:gdLst/>
            <a:ahLst/>
            <a:rect l="l" t="t" r="r" b="b"/>
            <a:pathLst>
              <a:path w="1152248" h="2237015">
                <a:moveTo>
                  <a:pt x="0" y="0"/>
                </a:moveTo>
                <a:cubicBezTo>
                  <a:pt x="171450" y="532039"/>
                  <a:pt x="342900" y="1064079"/>
                  <a:pt x="530678" y="1436915"/>
                </a:cubicBezTo>
                <a:cubicBezTo>
                  <a:pt x="718456" y="1809751"/>
                  <a:pt x="1277710" y="2073729"/>
                  <a:pt x="1126671" y="2237015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11" name="Parentesi graffa chiusa 6"/>
          <p:cNvSpPr/>
          <p:nvPr/>
        </p:nvSpPr>
        <p:spPr>
          <a:xfrm>
            <a:off x="7812000" y="2408400"/>
            <a:ext cx="190440" cy="3020760"/>
          </a:xfrm>
          <a:custGeom>
            <a:avLst/>
            <a:gdLst>
              <a:gd name="textAreaLeft" fmla="*/ 0 w 190440"/>
              <a:gd name="textAreaRight" fmla="*/ 68760 w 190440"/>
              <a:gd name="textAreaTop" fmla="*/ 4680 h 3020760"/>
              <a:gd name="textAreaBottom" fmla="*/ 3016080 h 302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7"/>
                  <a:pt x="10800" y="113"/>
                </a:cubicBezTo>
                <a:lnTo>
                  <a:pt x="10800" y="10687"/>
                </a:lnTo>
                <a:cubicBezTo>
                  <a:pt x="10800" y="10744"/>
                  <a:pt x="16200" y="10800"/>
                  <a:pt x="21600" y="10800"/>
                </a:cubicBezTo>
                <a:cubicBezTo>
                  <a:pt x="16200" y="10800"/>
                  <a:pt x="10800" y="10857"/>
                  <a:pt x="10800" y="10913"/>
                </a:cubicBezTo>
                <a:lnTo>
                  <a:pt x="10800" y="21487"/>
                </a:lnTo>
                <a:cubicBezTo>
                  <a:pt x="10800" y="21544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12" name="Immagine 1" descr=""/>
          <p:cNvPicPr/>
          <p:nvPr/>
        </p:nvPicPr>
        <p:blipFill>
          <a:blip r:embed="rId4"/>
          <a:stretch/>
        </p:blipFill>
        <p:spPr>
          <a:xfrm>
            <a:off x="1128600" y="2349360"/>
            <a:ext cx="6828120" cy="32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11"/>
          <p:cNvSpPr/>
          <p:nvPr/>
        </p:nvSpPr>
        <p:spPr>
          <a:xfrm>
            <a:off x="179280" y="650556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Valori assoluti al 11/07/2022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14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15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20520" y="1341360"/>
            <a:ext cx="9123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RICOVERI PER CLASSI DI ETA’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19" name="Text Box 12"/>
          <p:cNvSpPr/>
          <p:nvPr/>
        </p:nvSpPr>
        <p:spPr>
          <a:xfrm>
            <a:off x="-36360" y="648828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15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20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21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22" name="Figura a mano libera 6"/>
          <p:cNvSpPr/>
          <p:nvPr/>
        </p:nvSpPr>
        <p:spPr>
          <a:xfrm>
            <a:off x="6850080" y="2408400"/>
            <a:ext cx="1152360" cy="2236680"/>
          </a:xfrm>
          <a:custGeom>
            <a:avLst/>
            <a:gdLst/>
            <a:ahLst/>
            <a:rect l="l" t="t" r="r" b="b"/>
            <a:pathLst>
              <a:path w="1152248" h="2237015">
                <a:moveTo>
                  <a:pt x="0" y="0"/>
                </a:moveTo>
                <a:cubicBezTo>
                  <a:pt x="171450" y="532039"/>
                  <a:pt x="342900" y="1064079"/>
                  <a:pt x="530678" y="1436915"/>
                </a:cubicBezTo>
                <a:cubicBezTo>
                  <a:pt x="718456" y="1809751"/>
                  <a:pt x="1277710" y="2073729"/>
                  <a:pt x="1126671" y="2237015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23" name="Parentesi graffa chiusa 6"/>
          <p:cNvSpPr/>
          <p:nvPr/>
        </p:nvSpPr>
        <p:spPr>
          <a:xfrm>
            <a:off x="7812000" y="2408400"/>
            <a:ext cx="190440" cy="3020760"/>
          </a:xfrm>
          <a:custGeom>
            <a:avLst/>
            <a:gdLst>
              <a:gd name="textAreaLeft" fmla="*/ 0 w 190440"/>
              <a:gd name="textAreaRight" fmla="*/ 68760 w 190440"/>
              <a:gd name="textAreaTop" fmla="*/ 4680 h 3020760"/>
              <a:gd name="textAreaBottom" fmla="*/ 3016080 h 302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7"/>
                  <a:pt x="10800" y="113"/>
                </a:cubicBezTo>
                <a:lnTo>
                  <a:pt x="10800" y="10687"/>
                </a:lnTo>
                <a:cubicBezTo>
                  <a:pt x="10800" y="10744"/>
                  <a:pt x="16200" y="10800"/>
                  <a:pt x="21600" y="10800"/>
                </a:cubicBezTo>
                <a:cubicBezTo>
                  <a:pt x="16200" y="10800"/>
                  <a:pt x="10800" y="10857"/>
                  <a:pt x="10800" y="10913"/>
                </a:cubicBezTo>
                <a:lnTo>
                  <a:pt x="10800" y="21487"/>
                </a:lnTo>
                <a:cubicBezTo>
                  <a:pt x="10800" y="21544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2987640" y="6237360"/>
            <a:ext cx="358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Eta’ mediana = 83,0 (+11,0)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25" name="Immagine 1" descr=""/>
          <p:cNvPicPr/>
          <p:nvPr/>
        </p:nvPicPr>
        <p:blipFill>
          <a:blip r:embed="rId4"/>
          <a:stretch/>
        </p:blipFill>
        <p:spPr>
          <a:xfrm>
            <a:off x="20520" y="1836720"/>
            <a:ext cx="910296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11"/>
          <p:cNvSpPr/>
          <p:nvPr/>
        </p:nvSpPr>
        <p:spPr>
          <a:xfrm>
            <a:off x="179280" y="650556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Sospetti ed accertati, valori assoluti su base settimanale, al 11/07/2022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27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28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31" name="Text Box 9"/>
          <p:cNvSpPr/>
          <p:nvPr/>
        </p:nvSpPr>
        <p:spPr>
          <a:xfrm>
            <a:off x="20520" y="1341360"/>
            <a:ext cx="9123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RICOVERI COVID DA PRONTO SOCCORSO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-36360" y="648828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16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33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34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35" name="Figura a mano libera 6"/>
          <p:cNvSpPr/>
          <p:nvPr/>
        </p:nvSpPr>
        <p:spPr>
          <a:xfrm>
            <a:off x="6850080" y="2408400"/>
            <a:ext cx="1152360" cy="2236680"/>
          </a:xfrm>
          <a:custGeom>
            <a:avLst/>
            <a:gdLst/>
            <a:ahLst/>
            <a:rect l="l" t="t" r="r" b="b"/>
            <a:pathLst>
              <a:path w="1152248" h="2237015">
                <a:moveTo>
                  <a:pt x="0" y="0"/>
                </a:moveTo>
                <a:cubicBezTo>
                  <a:pt x="171450" y="532039"/>
                  <a:pt x="342900" y="1064079"/>
                  <a:pt x="530678" y="1436915"/>
                </a:cubicBezTo>
                <a:cubicBezTo>
                  <a:pt x="718456" y="1809751"/>
                  <a:pt x="1277710" y="2073729"/>
                  <a:pt x="1126671" y="2237015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36" name="Parentesi graffa chiusa 6"/>
          <p:cNvSpPr/>
          <p:nvPr/>
        </p:nvSpPr>
        <p:spPr>
          <a:xfrm>
            <a:off x="7812000" y="2408400"/>
            <a:ext cx="190440" cy="3020760"/>
          </a:xfrm>
          <a:custGeom>
            <a:avLst/>
            <a:gdLst>
              <a:gd name="textAreaLeft" fmla="*/ 0 w 190440"/>
              <a:gd name="textAreaRight" fmla="*/ 68760 w 190440"/>
              <a:gd name="textAreaTop" fmla="*/ 4680 h 3020760"/>
              <a:gd name="textAreaBottom" fmla="*/ 3016080 h 302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7"/>
                  <a:pt x="10800" y="113"/>
                </a:cubicBezTo>
                <a:lnTo>
                  <a:pt x="10800" y="10687"/>
                </a:lnTo>
                <a:cubicBezTo>
                  <a:pt x="10800" y="10744"/>
                  <a:pt x="16200" y="10800"/>
                  <a:pt x="21600" y="10800"/>
                </a:cubicBezTo>
                <a:cubicBezTo>
                  <a:pt x="16200" y="10800"/>
                  <a:pt x="10800" y="10857"/>
                  <a:pt x="10800" y="10913"/>
                </a:cubicBezTo>
                <a:lnTo>
                  <a:pt x="10800" y="21487"/>
                </a:lnTo>
                <a:cubicBezTo>
                  <a:pt x="10800" y="21544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37" name="Immagine 1" descr=""/>
          <p:cNvPicPr/>
          <p:nvPr/>
        </p:nvPicPr>
        <p:blipFill>
          <a:blip r:embed="rId4"/>
          <a:stretch/>
        </p:blipFill>
        <p:spPr>
          <a:xfrm>
            <a:off x="0" y="1916280"/>
            <a:ext cx="9144000" cy="42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11"/>
          <p:cNvSpPr/>
          <p:nvPr/>
        </p:nvSpPr>
        <p:spPr>
          <a:xfrm>
            <a:off x="179280" y="650556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Valori assoluti al 11/07/2022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39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40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43" name="Text Box 9"/>
          <p:cNvSpPr/>
          <p:nvPr/>
        </p:nvSpPr>
        <p:spPr>
          <a:xfrm>
            <a:off x="20520" y="1525680"/>
            <a:ext cx="9123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CONTAGI NELLA RESIDENZIALITA’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44" name="Text Box 12"/>
          <p:cNvSpPr/>
          <p:nvPr/>
        </p:nvSpPr>
        <p:spPr>
          <a:xfrm>
            <a:off x="-36360" y="648828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17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45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46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47" name="Figura a mano libera 6"/>
          <p:cNvSpPr/>
          <p:nvPr/>
        </p:nvSpPr>
        <p:spPr>
          <a:xfrm>
            <a:off x="6850080" y="2408400"/>
            <a:ext cx="1152360" cy="2236680"/>
          </a:xfrm>
          <a:custGeom>
            <a:avLst/>
            <a:gdLst/>
            <a:ahLst/>
            <a:rect l="l" t="t" r="r" b="b"/>
            <a:pathLst>
              <a:path w="1152248" h="2237015">
                <a:moveTo>
                  <a:pt x="0" y="0"/>
                </a:moveTo>
                <a:cubicBezTo>
                  <a:pt x="171450" y="532039"/>
                  <a:pt x="342900" y="1064079"/>
                  <a:pt x="530678" y="1436915"/>
                </a:cubicBezTo>
                <a:cubicBezTo>
                  <a:pt x="718456" y="1809751"/>
                  <a:pt x="1277710" y="2073729"/>
                  <a:pt x="1126671" y="2237015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48" name="Parentesi graffa chiusa 6"/>
          <p:cNvSpPr/>
          <p:nvPr/>
        </p:nvSpPr>
        <p:spPr>
          <a:xfrm>
            <a:off x="7812000" y="2408400"/>
            <a:ext cx="190440" cy="3020760"/>
          </a:xfrm>
          <a:custGeom>
            <a:avLst/>
            <a:gdLst>
              <a:gd name="textAreaLeft" fmla="*/ 0 w 190440"/>
              <a:gd name="textAreaRight" fmla="*/ 68760 w 190440"/>
              <a:gd name="textAreaTop" fmla="*/ 4680 h 3020760"/>
              <a:gd name="textAreaBottom" fmla="*/ 3016080 h 302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7"/>
                  <a:pt x="10800" y="113"/>
                </a:cubicBezTo>
                <a:lnTo>
                  <a:pt x="10800" y="10687"/>
                </a:lnTo>
                <a:cubicBezTo>
                  <a:pt x="10800" y="10744"/>
                  <a:pt x="16200" y="10800"/>
                  <a:pt x="21600" y="10800"/>
                </a:cubicBezTo>
                <a:cubicBezTo>
                  <a:pt x="16200" y="10800"/>
                  <a:pt x="10800" y="10857"/>
                  <a:pt x="10800" y="10913"/>
                </a:cubicBezTo>
                <a:lnTo>
                  <a:pt x="10800" y="21487"/>
                </a:lnTo>
                <a:cubicBezTo>
                  <a:pt x="10800" y="21544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49" name="Text Box 11"/>
          <p:cNvSpPr/>
          <p:nvPr/>
        </p:nvSpPr>
        <p:spPr>
          <a:xfrm>
            <a:off x="925560" y="2629080"/>
            <a:ext cx="7534080" cy="25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Nessun Ospite CoviD positivo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	</a:t>
            </a:r>
            <a:endParaRPr b="0" lang="en-US" sz="24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1" lang="it-IT" sz="500" spc="-1" strike="noStrike">
                <a:solidFill>
                  <a:srgbClr val="000000"/>
                </a:solidFill>
                <a:latin typeface="Cambria"/>
              </a:rPr>
              <a:t>  </a:t>
            </a:r>
            <a:endParaRPr b="0" lang="en-US" sz="5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Cambria"/>
              </a:rPr>
              <a:t>TOTALE 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Cambria"/>
              </a:rPr>
              <a:t>0 ospiti  (-2)</a:t>
            </a:r>
            <a:endParaRPr b="0" lang="en-US" sz="24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(Ospiti ricoverati: 0; -)</a:t>
            </a:r>
            <a:endParaRPr b="0" lang="en-US" sz="24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Cambria"/>
              </a:rPr>
              <a:t>9 (+6) operatori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 in isolamento, in 7 strutture (+5)</a:t>
            </a:r>
            <a:endParaRPr b="0" lang="en-US" sz="24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Immagine 1" descr=""/>
          <p:cNvPicPr/>
          <p:nvPr/>
        </p:nvPicPr>
        <p:blipFill>
          <a:blip r:embed="rId1"/>
          <a:stretch/>
        </p:blipFill>
        <p:spPr>
          <a:xfrm>
            <a:off x="22320" y="4005360"/>
            <a:ext cx="9086760" cy="2835000"/>
          </a:xfrm>
          <a:prstGeom prst="rect">
            <a:avLst/>
          </a:prstGeom>
          <a:ln w="0">
            <a:noFill/>
          </a:ln>
        </p:spPr>
      </p:pic>
      <p:pic>
        <p:nvPicPr>
          <p:cNvPr id="251" name="Immagine 1" descr=""/>
          <p:cNvPicPr/>
          <p:nvPr/>
        </p:nvPicPr>
        <p:blipFill>
          <a:blip r:embed="rId2"/>
          <a:stretch/>
        </p:blipFill>
        <p:spPr>
          <a:xfrm>
            <a:off x="20520" y="1173240"/>
            <a:ext cx="9088560" cy="2832120"/>
          </a:xfrm>
          <a:prstGeom prst="rect">
            <a:avLst/>
          </a:prstGeom>
          <a:ln w="0">
            <a:noFill/>
          </a:ln>
        </p:spPr>
      </p:pic>
      <p:sp>
        <p:nvSpPr>
          <p:cNvPr id="252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53" name="Picture 4" descr="PUNTI"/>
          <p:cNvPicPr/>
          <p:nvPr/>
        </p:nvPicPr>
        <p:blipFill>
          <a:blip r:embed="rId3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SCRIVI"/>
          <p:cNvPicPr/>
          <p:nvPr/>
        </p:nvPicPr>
        <p:blipFill>
          <a:blip r:embed="rId4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20520" y="1268280"/>
            <a:ext cx="91234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Cambria"/>
              </a:rPr>
              <a:t>ATTIVITA’ MENSILE USCA (CONTATTI E VISITE)</a:t>
            </a:r>
            <a:endParaRPr b="0" lang="en-US" sz="2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57" name="Text Box 12"/>
          <p:cNvSpPr/>
          <p:nvPr/>
        </p:nvSpPr>
        <p:spPr>
          <a:xfrm>
            <a:off x="-36360" y="648828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18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58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59" name="Picture 12" descr="SCRIVI"/>
          <p:cNvPicPr/>
          <p:nvPr/>
        </p:nvPicPr>
        <p:blipFill>
          <a:blip r:embed="rId5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60" name="Figura a mano libera 6"/>
          <p:cNvSpPr/>
          <p:nvPr/>
        </p:nvSpPr>
        <p:spPr>
          <a:xfrm>
            <a:off x="6850080" y="2408400"/>
            <a:ext cx="1152360" cy="2236680"/>
          </a:xfrm>
          <a:custGeom>
            <a:avLst/>
            <a:gdLst/>
            <a:ahLst/>
            <a:rect l="l" t="t" r="r" b="b"/>
            <a:pathLst>
              <a:path w="1152248" h="2237015">
                <a:moveTo>
                  <a:pt x="0" y="0"/>
                </a:moveTo>
                <a:cubicBezTo>
                  <a:pt x="171450" y="532039"/>
                  <a:pt x="342900" y="1064079"/>
                  <a:pt x="530678" y="1436915"/>
                </a:cubicBezTo>
                <a:cubicBezTo>
                  <a:pt x="718456" y="1809751"/>
                  <a:pt x="1277710" y="2073729"/>
                  <a:pt x="1126671" y="2237015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61" name="Parentesi graffa chiusa 6"/>
          <p:cNvSpPr/>
          <p:nvPr/>
        </p:nvSpPr>
        <p:spPr>
          <a:xfrm>
            <a:off x="7812000" y="2408400"/>
            <a:ext cx="190440" cy="3020760"/>
          </a:xfrm>
          <a:custGeom>
            <a:avLst/>
            <a:gdLst>
              <a:gd name="textAreaLeft" fmla="*/ 0 w 190440"/>
              <a:gd name="textAreaRight" fmla="*/ 68760 w 190440"/>
              <a:gd name="textAreaTop" fmla="*/ 4680 h 3020760"/>
              <a:gd name="textAreaBottom" fmla="*/ 3016080 h 302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7"/>
                  <a:pt x="10800" y="113"/>
                </a:cubicBezTo>
                <a:lnTo>
                  <a:pt x="10800" y="10687"/>
                </a:lnTo>
                <a:cubicBezTo>
                  <a:pt x="10800" y="10744"/>
                  <a:pt x="16200" y="10800"/>
                  <a:pt x="21600" y="10800"/>
                </a:cubicBezTo>
                <a:cubicBezTo>
                  <a:pt x="16200" y="10800"/>
                  <a:pt x="10800" y="10857"/>
                  <a:pt x="10800" y="10913"/>
                </a:cubicBezTo>
                <a:lnTo>
                  <a:pt x="10800" y="21487"/>
                </a:lnTo>
                <a:cubicBezTo>
                  <a:pt x="10800" y="21544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62" name="CasellaDiTesto 16"/>
          <p:cNvSpPr/>
          <p:nvPr/>
        </p:nvSpPr>
        <p:spPr>
          <a:xfrm>
            <a:off x="1403280" y="2106720"/>
            <a:ext cx="11988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Cambria"/>
              </a:rPr>
              <a:t>2020</a:t>
            </a:r>
            <a:endParaRPr b="0" lang="en-US" sz="1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63" name="CasellaDiTesto 17"/>
          <p:cNvSpPr/>
          <p:nvPr/>
        </p:nvSpPr>
        <p:spPr>
          <a:xfrm>
            <a:off x="3019320" y="4465800"/>
            <a:ext cx="1200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Cambria"/>
              </a:rPr>
              <a:t>2021</a:t>
            </a:r>
            <a:endParaRPr b="0" lang="en-US" sz="1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64" name="CasellaDiTesto 15"/>
          <p:cNvSpPr/>
          <p:nvPr/>
        </p:nvSpPr>
        <p:spPr>
          <a:xfrm>
            <a:off x="7356600" y="4465800"/>
            <a:ext cx="11998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Cambria"/>
              </a:rPr>
              <a:t>2022</a:t>
            </a:r>
            <a:endParaRPr b="0" lang="en-US" sz="18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Immagine 1" descr=""/>
          <p:cNvPicPr/>
          <p:nvPr/>
        </p:nvPicPr>
        <p:blipFill>
          <a:blip r:embed="rId1"/>
          <a:stretch/>
        </p:blipFill>
        <p:spPr>
          <a:xfrm>
            <a:off x="44280" y="3957480"/>
            <a:ext cx="9055440" cy="2900520"/>
          </a:xfrm>
          <a:prstGeom prst="rect">
            <a:avLst/>
          </a:prstGeom>
          <a:ln w="0">
            <a:noFill/>
          </a:ln>
        </p:spPr>
      </p:pic>
      <p:pic>
        <p:nvPicPr>
          <p:cNvPr id="266" name="Immagine 1" descr=""/>
          <p:cNvPicPr/>
          <p:nvPr/>
        </p:nvPicPr>
        <p:blipFill>
          <a:blip r:embed="rId2"/>
          <a:stretch/>
        </p:blipFill>
        <p:spPr>
          <a:xfrm>
            <a:off x="44280" y="1149480"/>
            <a:ext cx="9055440" cy="2784240"/>
          </a:xfrm>
          <a:prstGeom prst="rect">
            <a:avLst/>
          </a:prstGeom>
          <a:ln w="0">
            <a:noFill/>
          </a:ln>
        </p:spPr>
      </p:pic>
      <p:sp>
        <p:nvSpPr>
          <p:cNvPr id="267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68" name="Picture 4" descr="PUNTI"/>
          <p:cNvPicPr/>
          <p:nvPr/>
        </p:nvPicPr>
        <p:blipFill>
          <a:blip r:embed="rId3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SCRIVI"/>
          <p:cNvPicPr/>
          <p:nvPr/>
        </p:nvPicPr>
        <p:blipFill>
          <a:blip r:embed="rId4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20520" y="1125360"/>
            <a:ext cx="9123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DECESSI COVID PER SETTIMANA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72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73" name="Picture 12" descr="SCRIVI"/>
          <p:cNvPicPr/>
          <p:nvPr/>
        </p:nvPicPr>
        <p:blipFill>
          <a:blip r:embed="rId5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74" name="CasellaDiTesto 13"/>
          <p:cNvSpPr/>
          <p:nvPr/>
        </p:nvSpPr>
        <p:spPr>
          <a:xfrm>
            <a:off x="4044960" y="2197080"/>
            <a:ext cx="11984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Cambria"/>
              </a:rPr>
              <a:t>2020</a:t>
            </a:r>
            <a:endParaRPr b="0" lang="en-US" sz="1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75" name="CasellaDiTesto 14"/>
          <p:cNvSpPr/>
          <p:nvPr/>
        </p:nvSpPr>
        <p:spPr>
          <a:xfrm>
            <a:off x="3019320" y="4557600"/>
            <a:ext cx="11988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Cambria"/>
              </a:rPr>
              <a:t>2021</a:t>
            </a:r>
            <a:endParaRPr b="0" lang="en-US" sz="1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76" name="CasellaDiTesto 15"/>
          <p:cNvSpPr/>
          <p:nvPr/>
        </p:nvSpPr>
        <p:spPr>
          <a:xfrm>
            <a:off x="7524720" y="4557600"/>
            <a:ext cx="11984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Cambria"/>
              </a:rPr>
              <a:t>2022</a:t>
            </a:r>
            <a:endParaRPr b="0" lang="en-US" sz="18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61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20520" y="1332000"/>
            <a:ext cx="91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cc"/>
                </a:solidFill>
                <a:latin typeface="Cambria"/>
              </a:rPr>
              <a:t>MESSAGGI CHIAVE</a:t>
            </a:r>
            <a:endParaRPr b="0" lang="en-US" sz="4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-1810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2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67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1"/>
          <p:cNvSpPr/>
          <p:nvPr/>
        </p:nvSpPr>
        <p:spPr>
          <a:xfrm>
            <a:off x="42840" y="2000160"/>
            <a:ext cx="89280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</a:rPr>
              <a:t>Nuova progressione dei contagi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</a:rPr>
              <a:t>incidenza settimanale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</a:rPr>
              <a:t> (1,261,1 nuovi casi x 100.000; +29,7%); </a:t>
            </a: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</a:rPr>
              <a:t>media casi/die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</a:rPr>
              <a:t> (241; +54,3); </a:t>
            </a:r>
            <a:endParaRPr b="0" lang="en-US" sz="2200" spc="-1" strike="noStrike">
              <a:solidFill>
                <a:srgbClr val="3333cc"/>
              </a:solidFill>
              <a:latin typeface="Showcard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</a:rPr>
              <a:t>Trasmissibilità sempre oltre la soglia epidemica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</a:rPr>
              <a:t>: RD(t): 1,28 (+0,06); % test positivi: 35,1%; (+2,6%); contagi diffusi in tutte le età (età mediana: 47,5 anni); prevalenza di Omicron 5;</a:t>
            </a:r>
            <a:endParaRPr b="0" lang="en-US" sz="2200" spc="-1" strike="noStrike">
              <a:solidFill>
                <a:srgbClr val="3333cc"/>
              </a:solidFill>
              <a:latin typeface="Showcard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</a:rPr>
              <a:t>Carico sanitario incrementale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</a:rPr>
              <a:t>: ricoveri ordinari (per/con CoviD: 23; +8); terapia intensiva (2; -); età mediana ricoverati: 83,0 anni; casi attivi (1.909; +416), test diagnostici (4.806; +806), attività settimanale USCA (+13 contatti; +8 visite); ricoveri CoviD da PS (11; -5); OsCo (0; -1); Covid Hotel (0; -2); contagi nelle residenze (0; -2); contagi nei sanitari (47; +19); decessi CoviD (0; -1).</a:t>
            </a:r>
            <a:endParaRPr b="0" lang="en-US" sz="2200" spc="-1" strike="noStrike">
              <a:solidFill>
                <a:srgbClr val="3333cc"/>
              </a:solidFill>
              <a:latin typeface="Showcard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</a:rPr>
              <a:t>Campagna vaccinale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</a:rPr>
              <a:t>: 361 (-103) vaccinazioni eseguite. </a:t>
            </a:r>
            <a:endParaRPr b="0" lang="en-US" sz="22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11"/>
          <p:cNvSpPr/>
          <p:nvPr/>
        </p:nvSpPr>
        <p:spPr>
          <a:xfrm>
            <a:off x="108000" y="6505560"/>
            <a:ext cx="87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Valori assoluti e Tassi grezzi di mortalità x 1.000 ab. al 11/07/2022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78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79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20520" y="1341360"/>
            <a:ext cx="91234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3333cc"/>
                </a:solidFill>
                <a:latin typeface="Cambria"/>
              </a:rPr>
              <a:t>DECESSI COVID PER COMUNE</a:t>
            </a:r>
            <a:endParaRPr b="0" lang="en-US" sz="4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83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20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84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85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11"/>
          <p:cNvSpPr/>
          <p:nvPr/>
        </p:nvSpPr>
        <p:spPr>
          <a:xfrm>
            <a:off x="395280" y="2060640"/>
            <a:ext cx="7489800" cy="42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mbria"/>
              </a:rPr>
              <a:t>Totale: 435 (+1) (218M; 217F)</a:t>
            </a: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mbria"/>
              </a:rPr>
              <a:t>Età media: 82,6 aa. (range 12-102)</a:t>
            </a: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mbria"/>
              </a:rPr>
              <a:t>Imola: 227</a:t>
            </a:r>
            <a:endParaRPr b="0" lang="en-US" sz="16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mbria"/>
              </a:rPr>
              <a:t>Castel S.Pietro: 64</a:t>
            </a:r>
            <a:endParaRPr b="0" lang="en-US" sz="16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mbria"/>
              </a:rPr>
              <a:t>Medicina: 51</a:t>
            </a:r>
            <a:endParaRPr b="0" lang="en-US" sz="16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mbria"/>
              </a:rPr>
              <a:t>Dozza: 17</a:t>
            </a:r>
            <a:endParaRPr b="0" lang="en-US" sz="16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mbria"/>
              </a:rPr>
              <a:t>Borgo Tossignano: 16</a:t>
            </a:r>
            <a:endParaRPr b="0" lang="en-US" sz="16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mbria"/>
              </a:rPr>
              <a:t>Mordano: 11</a:t>
            </a:r>
            <a:endParaRPr b="0" lang="en-US" sz="16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mbria"/>
              </a:rPr>
              <a:t>Castel Guelfo: 8</a:t>
            </a:r>
            <a:endParaRPr b="0" lang="en-US" sz="16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mbria"/>
              </a:rPr>
              <a:t>Fontanelice: 7</a:t>
            </a:r>
            <a:endParaRPr b="0" lang="en-US" sz="16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mbria"/>
              </a:rPr>
              <a:t>Casalfiumanese: 7</a:t>
            </a:r>
            <a:endParaRPr b="0" lang="en-US" sz="16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mbria"/>
              </a:rPr>
              <a:t>Castel del Rio: 5</a:t>
            </a:r>
            <a:endParaRPr b="0" lang="en-US" sz="16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mbria"/>
              </a:rPr>
              <a:t>Non residenti: 22</a:t>
            </a:r>
            <a:endParaRPr b="0" lang="en-US" sz="16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87" name="Immagine 1" descr=""/>
          <p:cNvPicPr/>
          <p:nvPr/>
        </p:nvPicPr>
        <p:blipFill>
          <a:blip r:embed="rId4"/>
          <a:stretch/>
        </p:blipFill>
        <p:spPr>
          <a:xfrm>
            <a:off x="2700360" y="3191040"/>
            <a:ext cx="626436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11"/>
          <p:cNvSpPr/>
          <p:nvPr/>
        </p:nvSpPr>
        <p:spPr>
          <a:xfrm>
            <a:off x="57240" y="6465960"/>
            <a:ext cx="87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Valori assoluti al 11/07/2022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89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90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93" name="Text Box 9"/>
          <p:cNvSpPr/>
          <p:nvPr/>
        </p:nvSpPr>
        <p:spPr>
          <a:xfrm>
            <a:off x="20520" y="1341360"/>
            <a:ext cx="91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cc"/>
                </a:solidFill>
                <a:latin typeface="Cambria"/>
              </a:rPr>
              <a:t>DECESSI COVID PER CLASSI DI ETA’</a:t>
            </a:r>
            <a:endParaRPr b="0" lang="en-US" sz="4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94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21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95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96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11"/>
          <p:cNvSpPr/>
          <p:nvPr/>
        </p:nvSpPr>
        <p:spPr>
          <a:xfrm>
            <a:off x="331920" y="6237360"/>
            <a:ext cx="848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Eta’ mediana = 85 (-)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98" name="Immagine 2" descr=""/>
          <p:cNvPicPr/>
          <p:nvPr/>
        </p:nvPicPr>
        <p:blipFill>
          <a:blip r:embed="rId4"/>
          <a:stretch/>
        </p:blipFill>
        <p:spPr>
          <a:xfrm>
            <a:off x="57240" y="1868400"/>
            <a:ext cx="903744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00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03" name="Text Box 12"/>
          <p:cNvSpPr/>
          <p:nvPr/>
        </p:nvSpPr>
        <p:spPr>
          <a:xfrm>
            <a:off x="-10800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22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04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05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9"/>
          <p:cNvSpPr/>
          <p:nvPr/>
        </p:nvSpPr>
        <p:spPr>
          <a:xfrm>
            <a:off x="20520" y="1719360"/>
            <a:ext cx="91234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cc"/>
                </a:solidFill>
                <a:latin typeface="Cambria"/>
              </a:rPr>
              <a:t>DOSI SOMMINISTRATE E PRENOTAZIONI</a:t>
            </a: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07" name="Text Box 11"/>
          <p:cNvSpPr/>
          <p:nvPr/>
        </p:nvSpPr>
        <p:spPr>
          <a:xfrm>
            <a:off x="250920" y="5499000"/>
            <a:ext cx="8785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PD:  Prime Dosi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CB:  Ciclo di Base (II dosi, dosi uniche)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CC:  Ciclo Completo (dosi aggiuntive, dosi booster) 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08" name="Immagine 1" descr=""/>
          <p:cNvPicPr/>
          <p:nvPr/>
        </p:nvPicPr>
        <p:blipFill>
          <a:blip r:embed="rId4"/>
          <a:stretch/>
        </p:blipFill>
        <p:spPr>
          <a:xfrm>
            <a:off x="0" y="2684520"/>
            <a:ext cx="914400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Immagine 1" descr=""/>
          <p:cNvPicPr/>
          <p:nvPr/>
        </p:nvPicPr>
        <p:blipFill>
          <a:blip r:embed="rId1"/>
          <a:stretch/>
        </p:blipFill>
        <p:spPr>
          <a:xfrm>
            <a:off x="299880" y="2048040"/>
            <a:ext cx="8544240" cy="3828960"/>
          </a:xfrm>
          <a:prstGeom prst="rect">
            <a:avLst/>
          </a:prstGeom>
          <a:ln w="0">
            <a:noFill/>
          </a:ln>
        </p:spPr>
      </p:pic>
      <p:sp>
        <p:nvSpPr>
          <p:cNvPr id="310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11" name="Picture 4" descr="PUNTI"/>
          <p:cNvPicPr/>
          <p:nvPr/>
        </p:nvPicPr>
        <p:blipFill>
          <a:blip r:embed="rId2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5" descr="SCRIVI"/>
          <p:cNvPicPr/>
          <p:nvPr/>
        </p:nvPicPr>
        <p:blipFill>
          <a:blip r:embed="rId3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14" name="Text Box 12"/>
          <p:cNvSpPr/>
          <p:nvPr/>
        </p:nvSpPr>
        <p:spPr>
          <a:xfrm>
            <a:off x="-10800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23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15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16" name="Picture 12" descr="SCRIVI"/>
          <p:cNvPicPr/>
          <p:nvPr/>
        </p:nvPicPr>
        <p:blipFill>
          <a:blip r:embed="rId4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9"/>
          <p:cNvSpPr/>
          <p:nvPr/>
        </p:nvSpPr>
        <p:spPr>
          <a:xfrm>
            <a:off x="57240" y="1479600"/>
            <a:ext cx="91231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Cambria"/>
              </a:rPr>
              <a:t>COPERTURE PRIME DOSI PER ETA’</a:t>
            </a:r>
            <a:endParaRPr b="0" lang="en-US" sz="2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18" name="Text Box 11"/>
          <p:cNvSpPr/>
          <p:nvPr/>
        </p:nvSpPr>
        <p:spPr>
          <a:xfrm>
            <a:off x="250920" y="6073920"/>
            <a:ext cx="87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Copertura %: numero somministrazioni/popolazione target per età x 100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3706920" y="5732640"/>
            <a:ext cx="1873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mbria"/>
              </a:rPr>
              <a:t>88,5</a:t>
            </a:r>
            <a:endParaRPr b="0" lang="en-US" sz="18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21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24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24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25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26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9"/>
          <p:cNvSpPr/>
          <p:nvPr/>
        </p:nvSpPr>
        <p:spPr>
          <a:xfrm>
            <a:off x="57240" y="1479600"/>
            <a:ext cx="91231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Cambria"/>
              </a:rPr>
              <a:t>COPERTURE CICLO DI BASE PER ETA’</a:t>
            </a:r>
            <a:endParaRPr b="0" lang="en-US" sz="2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28" name="Text Box 9"/>
          <p:cNvSpPr/>
          <p:nvPr/>
        </p:nvSpPr>
        <p:spPr>
          <a:xfrm>
            <a:off x="3708360" y="5708520"/>
            <a:ext cx="18734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mbria"/>
              </a:rPr>
              <a:t>86,5</a:t>
            </a:r>
            <a:endParaRPr b="0" lang="en-US" sz="1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29" name="Text Box 11"/>
          <p:cNvSpPr/>
          <p:nvPr/>
        </p:nvSpPr>
        <p:spPr>
          <a:xfrm>
            <a:off x="250920" y="6073920"/>
            <a:ext cx="87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Copertura %: numero somministrazioni/popolazione target per età x 100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30" name="Immagine 1" descr=""/>
          <p:cNvPicPr/>
          <p:nvPr/>
        </p:nvPicPr>
        <p:blipFill>
          <a:blip r:embed="rId4"/>
          <a:stretch/>
        </p:blipFill>
        <p:spPr>
          <a:xfrm>
            <a:off x="243000" y="1989000"/>
            <a:ext cx="8658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Immagine 1" descr=""/>
          <p:cNvPicPr/>
          <p:nvPr/>
        </p:nvPicPr>
        <p:blipFill>
          <a:blip r:embed="rId1"/>
          <a:stretch/>
        </p:blipFill>
        <p:spPr>
          <a:xfrm>
            <a:off x="266760" y="1700280"/>
            <a:ext cx="8610480" cy="4029120"/>
          </a:xfrm>
          <a:prstGeom prst="rect">
            <a:avLst/>
          </a:prstGeom>
          <a:ln w="0">
            <a:noFill/>
          </a:ln>
        </p:spPr>
      </p:pic>
      <p:sp>
        <p:nvSpPr>
          <p:cNvPr id="332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33" name="Picture 4" descr="PUNTI"/>
          <p:cNvPicPr/>
          <p:nvPr/>
        </p:nvPicPr>
        <p:blipFill>
          <a:blip r:embed="rId2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5" descr="SCRIVI"/>
          <p:cNvPicPr/>
          <p:nvPr/>
        </p:nvPicPr>
        <p:blipFill>
          <a:blip r:embed="rId3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36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25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37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38" name="Picture 12" descr="SCRIVI"/>
          <p:cNvPicPr/>
          <p:nvPr/>
        </p:nvPicPr>
        <p:blipFill>
          <a:blip r:embed="rId4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9"/>
          <p:cNvSpPr/>
          <p:nvPr/>
        </p:nvSpPr>
        <p:spPr>
          <a:xfrm>
            <a:off x="57240" y="1341360"/>
            <a:ext cx="91231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Cambria"/>
              </a:rPr>
              <a:t>COPERTURE TERZE DOSI PER ETA’</a:t>
            </a:r>
            <a:endParaRPr b="0" lang="en-US" sz="2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40" name="Text Box 9"/>
          <p:cNvSpPr/>
          <p:nvPr/>
        </p:nvSpPr>
        <p:spPr>
          <a:xfrm>
            <a:off x="3708360" y="5637240"/>
            <a:ext cx="18734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mbria"/>
              </a:rPr>
              <a:t>75,1</a:t>
            </a:r>
            <a:endParaRPr b="0" lang="en-US" sz="1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41" name="Text Box 11"/>
          <p:cNvSpPr/>
          <p:nvPr/>
        </p:nvSpPr>
        <p:spPr>
          <a:xfrm>
            <a:off x="250920" y="6073920"/>
            <a:ext cx="87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Copertura %: numero somministrazioni/popolazione target per età x 100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Immagine 1" descr=""/>
          <p:cNvPicPr/>
          <p:nvPr/>
        </p:nvPicPr>
        <p:blipFill>
          <a:blip r:embed="rId1"/>
          <a:stretch/>
        </p:blipFill>
        <p:spPr>
          <a:xfrm>
            <a:off x="171360" y="1768320"/>
            <a:ext cx="8801280" cy="4181760"/>
          </a:xfrm>
          <a:prstGeom prst="rect">
            <a:avLst/>
          </a:prstGeom>
          <a:ln w="0">
            <a:noFill/>
          </a:ln>
        </p:spPr>
      </p:pic>
      <p:sp>
        <p:nvSpPr>
          <p:cNvPr id="343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44" name="Picture 4" descr="PUNTI"/>
          <p:cNvPicPr/>
          <p:nvPr/>
        </p:nvPicPr>
        <p:blipFill>
          <a:blip r:embed="rId2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5" descr="SCRIVI"/>
          <p:cNvPicPr/>
          <p:nvPr/>
        </p:nvPicPr>
        <p:blipFill>
          <a:blip r:embed="rId3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46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47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26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48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49" name="Picture 12" descr="SCRIVI"/>
          <p:cNvPicPr/>
          <p:nvPr/>
        </p:nvPicPr>
        <p:blipFill>
          <a:blip r:embed="rId4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50" name="Text Box 9"/>
          <p:cNvSpPr/>
          <p:nvPr/>
        </p:nvSpPr>
        <p:spPr>
          <a:xfrm>
            <a:off x="57240" y="1341360"/>
            <a:ext cx="91231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Cambria"/>
              </a:rPr>
              <a:t>COPERTURE QUARTE DOSI PER ETA’</a:t>
            </a:r>
            <a:endParaRPr b="0" lang="en-US" sz="2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51" name="Text Box 11"/>
          <p:cNvSpPr/>
          <p:nvPr/>
        </p:nvSpPr>
        <p:spPr>
          <a:xfrm>
            <a:off x="250920" y="6073920"/>
            <a:ext cx="878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Copertura %: numero somministrazioni/popolazione target per età x 100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Adesione %: numero prenotazioni/popolazione target per età x 100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52" name="Text Box 9"/>
          <p:cNvSpPr/>
          <p:nvPr/>
        </p:nvSpPr>
        <p:spPr>
          <a:xfrm>
            <a:off x="3130560" y="5805360"/>
            <a:ext cx="1873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mbria"/>
              </a:rPr>
              <a:t>51,2</a:t>
            </a:r>
            <a:endParaRPr b="0" lang="en-US" sz="1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53" name="Text Box 9"/>
          <p:cNvSpPr/>
          <p:nvPr/>
        </p:nvSpPr>
        <p:spPr>
          <a:xfrm>
            <a:off x="4354560" y="5805360"/>
            <a:ext cx="1873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mbria"/>
              </a:rPr>
              <a:t>52,1</a:t>
            </a:r>
            <a:endParaRPr b="0" lang="en-US" sz="18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11"/>
          <p:cNvSpPr/>
          <p:nvPr/>
        </p:nvSpPr>
        <p:spPr>
          <a:xfrm>
            <a:off x="179280" y="650556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Valori assoluti al 11/07/2022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55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56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58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59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27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60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61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9"/>
          <p:cNvSpPr/>
          <p:nvPr/>
        </p:nvSpPr>
        <p:spPr>
          <a:xfrm>
            <a:off x="20520" y="1197000"/>
            <a:ext cx="9123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OPERATORI SOSPESI E ASSENZE COVID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63" name="Text Box 11"/>
          <p:cNvSpPr/>
          <p:nvPr/>
        </p:nvSpPr>
        <p:spPr>
          <a:xfrm>
            <a:off x="179280" y="5805360"/>
            <a:ext cx="878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* Le riammissioni conseguono a sopraggiunta infezione/malattia o vaccinazione. 19 operatori riammessi per guarigione risultano guariti da più di tre mesi, senza aver provveduto a vaccinarsi: in queste condizioni saranno nuovamente sospesi ad opera dei rispettivi Ordini Professionali. 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64" name="Immagine 1" descr=""/>
          <p:cNvPicPr/>
          <p:nvPr/>
        </p:nvPicPr>
        <p:blipFill>
          <a:blip r:embed="rId4"/>
          <a:stretch/>
        </p:blipFill>
        <p:spPr>
          <a:xfrm>
            <a:off x="1679400" y="1844640"/>
            <a:ext cx="562932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11"/>
          <p:cNvSpPr/>
          <p:nvPr/>
        </p:nvSpPr>
        <p:spPr>
          <a:xfrm>
            <a:off x="179280" y="650556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Valori assoluti al 11/07/2022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66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67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69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70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28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71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72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9"/>
          <p:cNvSpPr/>
          <p:nvPr/>
        </p:nvSpPr>
        <p:spPr>
          <a:xfrm>
            <a:off x="20520" y="1238400"/>
            <a:ext cx="9123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ASSENZE COVID NEL PERSONALE AUSL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74" name="Immagine 3" descr=""/>
          <p:cNvPicPr/>
          <p:nvPr/>
        </p:nvPicPr>
        <p:blipFill>
          <a:blip r:embed="rId4"/>
          <a:stretch/>
        </p:blipFill>
        <p:spPr>
          <a:xfrm>
            <a:off x="44280" y="1852560"/>
            <a:ext cx="909972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76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79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29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80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81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9"/>
          <p:cNvSpPr/>
          <p:nvPr/>
        </p:nvSpPr>
        <p:spPr>
          <a:xfrm>
            <a:off x="20520" y="1341360"/>
            <a:ext cx="9123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VACCINAZIONE ANTI-COVID-19 (1)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83" name="Rettangolo 1"/>
          <p:cNvSpPr/>
          <p:nvPr/>
        </p:nvSpPr>
        <p:spPr>
          <a:xfrm>
            <a:off x="250920" y="1968480"/>
            <a:ext cx="8642160" cy="43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7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Nell’ultima settimana sono state </a:t>
            </a: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eseguite 361 vaccinazioni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 (-103): 57 I dosi, 60 II dosi, 125 III dosi e 121 IV dosi;</a:t>
            </a:r>
            <a:endParaRPr b="0" lang="en-US" sz="22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Copertura popolazione target: </a:t>
            </a: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88,5% per le prime dosi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, </a:t>
            </a: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86,5% per le seconde dosi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 e al </a:t>
            </a: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75,1% per le terze dosi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;</a:t>
            </a:r>
            <a:endParaRPr b="0" lang="en-US" sz="22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Progressione </a:t>
            </a: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terze dosi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: completati 90.047 cicli, con ulteriori 48 utenti prenotati; ad oggi ne mancano all’appello circa 2.000 (III dosi a più di 120 gg dalle seconde);</a:t>
            </a:r>
            <a:endParaRPr b="0" lang="en-US" sz="22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Progressione </a:t>
            </a: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quarte dosi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: adesione al </a:t>
            </a: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52,1%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 del totale della popolazione vaccinabile (7.161 somministrazioni, 130 prenotazioni; target circa 14.000 assistiti);</a:t>
            </a:r>
            <a:endParaRPr b="0" lang="en-US" sz="22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Età 5/11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: 2.692 prime dosi eseguite (copertura 32,3%); 2.107 cicli completi (copertura 25,3%); </a:t>
            </a:r>
            <a:endParaRPr b="0" lang="en-US" sz="22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Immagine 1" descr=""/>
          <p:cNvPicPr/>
          <p:nvPr/>
        </p:nvPicPr>
        <p:blipFill>
          <a:blip r:embed="rId1"/>
          <a:stretch/>
        </p:blipFill>
        <p:spPr>
          <a:xfrm>
            <a:off x="0" y="1746360"/>
            <a:ext cx="9144000" cy="47419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1"/>
          <p:cNvSpPr/>
          <p:nvPr/>
        </p:nvSpPr>
        <p:spPr>
          <a:xfrm>
            <a:off x="179280" y="651024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Valori assoluti giornalieri per data di diagnosi 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71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72" name="Picture 4" descr="PUNTI"/>
          <p:cNvPicPr/>
          <p:nvPr/>
        </p:nvPicPr>
        <p:blipFill>
          <a:blip r:embed="rId2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SCRIVI"/>
          <p:cNvPicPr/>
          <p:nvPr/>
        </p:nvPicPr>
        <p:blipFill>
          <a:blip r:embed="rId3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20520" y="1268280"/>
            <a:ext cx="9123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NUOVI CASI COVID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3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77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78" name="Picture 12" descr="SCRIVI"/>
          <p:cNvPicPr/>
          <p:nvPr/>
        </p:nvPicPr>
        <p:blipFill>
          <a:blip r:embed="rId4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79" name="CasellaDiTesto 11"/>
          <p:cNvSpPr/>
          <p:nvPr/>
        </p:nvSpPr>
        <p:spPr>
          <a:xfrm>
            <a:off x="619200" y="4413240"/>
            <a:ext cx="1368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Cambria"/>
                <a:ea typeface="Courier New"/>
              </a:rPr>
              <a:t>DELTA</a:t>
            </a:r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80" name="CasellaDiTesto 12"/>
          <p:cNvSpPr/>
          <p:nvPr/>
        </p:nvSpPr>
        <p:spPr>
          <a:xfrm>
            <a:off x="5724360" y="1773360"/>
            <a:ext cx="1368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Cambria"/>
                <a:ea typeface="Courier New"/>
              </a:rPr>
              <a:t>OMICRON 1</a:t>
            </a:r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81" name="CasellaDiTesto 14"/>
          <p:cNvSpPr/>
          <p:nvPr/>
        </p:nvSpPr>
        <p:spPr>
          <a:xfrm>
            <a:off x="6948360" y="4292640"/>
            <a:ext cx="1368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Cambria"/>
                <a:ea typeface="Courier New"/>
              </a:rPr>
              <a:t>OMICRON 2</a:t>
            </a:r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82" name="CasellaDiTesto 15"/>
          <p:cNvSpPr/>
          <p:nvPr/>
        </p:nvSpPr>
        <p:spPr>
          <a:xfrm>
            <a:off x="8028000" y="3933720"/>
            <a:ext cx="1368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Cambria"/>
                <a:ea typeface="Courier New"/>
              </a:rPr>
              <a:t>OMICRON 5</a:t>
            </a:r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85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8"/>
          <p:cNvSpPr/>
          <p:nvPr/>
        </p:nvSpPr>
        <p:spPr>
          <a:xfrm>
            <a:off x="1828800" y="155736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88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30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89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90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9"/>
          <p:cNvSpPr/>
          <p:nvPr/>
        </p:nvSpPr>
        <p:spPr>
          <a:xfrm>
            <a:off x="20520" y="1309680"/>
            <a:ext cx="9123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VACCINAZIONE ANTI-COVID-19 (2)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92" name="Rettangolo 1"/>
          <p:cNvSpPr/>
          <p:nvPr/>
        </p:nvSpPr>
        <p:spPr>
          <a:xfrm>
            <a:off x="34920" y="1938240"/>
            <a:ext cx="8993160" cy="45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7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Over 50 non vaccinati</a:t>
            </a:r>
            <a:r>
              <a:rPr b="1" lang="it-IT" sz="2100" spc="-1" strike="noStrike">
                <a:solidFill>
                  <a:srgbClr val="000000"/>
                </a:solidFill>
                <a:latin typeface="Cambria"/>
                <a:ea typeface="Calibri"/>
              </a:rPr>
              <a:t> (circa 2.700 residenti): accesso diretto in tutti gli hub vaccinali; vaccino </a:t>
            </a:r>
            <a:r>
              <a:rPr b="1" lang="it-IT" sz="21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Novavax</a:t>
            </a:r>
            <a:r>
              <a:rPr b="1" lang="it-IT" sz="2100" spc="-1" strike="noStrike">
                <a:solidFill>
                  <a:srgbClr val="000000"/>
                </a:solidFill>
                <a:latin typeface="Cambria"/>
                <a:ea typeface="Calibri"/>
              </a:rPr>
              <a:t>: 145 somministrazioni (-);</a:t>
            </a:r>
            <a:endParaRPr b="0" lang="en-US" sz="21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Quarta dose negli over 80</a:t>
            </a:r>
            <a:r>
              <a:rPr b="1" lang="it-IT" sz="2100" spc="-1" strike="noStrike">
                <a:solidFill>
                  <a:srgbClr val="000000"/>
                </a:solidFill>
                <a:latin typeface="Cambria"/>
                <a:ea typeface="Calibri"/>
              </a:rPr>
              <a:t> e</a:t>
            </a:r>
            <a:r>
              <a:rPr b="1" lang="it-IT" sz="21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 negli ultra-fragili 60-79</a:t>
            </a:r>
            <a:r>
              <a:rPr b="1" lang="it-IT" sz="2100" spc="-1" strike="noStrike">
                <a:solidFill>
                  <a:srgbClr val="000000"/>
                </a:solidFill>
                <a:latin typeface="Cambria"/>
                <a:ea typeface="Calibri"/>
              </a:rPr>
              <a:t>: prosegue l’offerta vaccinale ambulatoriale con attività presso gli ambulatori vaccinali della sanità pubblica (Ospedale Vecchio, primo piano);</a:t>
            </a:r>
            <a:endParaRPr b="0" lang="en-US" sz="21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Completamento delle azioni di chiamata attiva per utenti ancora non prenotati per le terze e le quarte dosi</a:t>
            </a:r>
            <a:r>
              <a:rPr b="1" lang="it-IT" sz="2100" spc="-1" strike="noStrike">
                <a:solidFill>
                  <a:srgbClr val="000000"/>
                </a:solidFill>
                <a:latin typeface="Cambria"/>
                <a:ea typeface="Calibri"/>
              </a:rPr>
              <a:t> (sms prenotativo, azione di recall da parte del MMG, lettera aperta di sensibilizzazione).</a:t>
            </a:r>
            <a:endParaRPr b="0" lang="en-US" sz="21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Cambria"/>
                <a:ea typeface="Calibri"/>
              </a:rPr>
              <a:t>Dopo la raccomandazione di estendere la </a:t>
            </a:r>
            <a:r>
              <a:rPr b="1" lang="it-IT" sz="21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quarta dose a chi ha più di 60 anni</a:t>
            </a:r>
            <a:r>
              <a:rPr b="1" lang="it-IT" sz="2100" spc="-1" strike="noStrike">
                <a:solidFill>
                  <a:srgbClr val="000000"/>
                </a:solidFill>
                <a:latin typeface="Cambria"/>
                <a:ea typeface="Calibri"/>
              </a:rPr>
              <a:t> da parte di EMA e ECDC, lunedì pomeriggio è arrivato in Italia il via libera dell’AIFA; entro la settimana si darà corso alla vaccinazione di questo nuovo target di popolazione (trascorsi almeno 120 giorni dall’ultimo richiamo o dall’ultima infezione).</a:t>
            </a:r>
            <a:endParaRPr b="0" lang="en-US" sz="21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94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96" name="Text Box 8"/>
          <p:cNvSpPr/>
          <p:nvPr/>
        </p:nvSpPr>
        <p:spPr>
          <a:xfrm>
            <a:off x="1828800" y="155736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97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31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98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99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400" name="Text Box 9"/>
          <p:cNvSpPr/>
          <p:nvPr/>
        </p:nvSpPr>
        <p:spPr>
          <a:xfrm>
            <a:off x="14400" y="1268280"/>
            <a:ext cx="9123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PER CONCLUDERE (1)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01" name="Rettangolo 1"/>
          <p:cNvSpPr/>
          <p:nvPr/>
        </p:nvSpPr>
        <p:spPr>
          <a:xfrm>
            <a:off x="108000" y="1849320"/>
            <a:ext cx="8640720" cy="45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Cambria"/>
                <a:ea typeface="Calibri"/>
              </a:rPr>
              <a:t>L’ondata </a:t>
            </a:r>
            <a:r>
              <a:rPr b="1" lang="it-IT" sz="19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Omicron 5 continua a crescere di intensità</a:t>
            </a:r>
            <a:r>
              <a:rPr b="1" lang="it-IT" sz="1900" spc="-1" strike="noStrike">
                <a:solidFill>
                  <a:srgbClr val="000000"/>
                </a:solidFill>
                <a:latin typeface="Cambria"/>
                <a:ea typeface="Calibri"/>
              </a:rPr>
              <a:t>, anche se l’incremento dei casi di malattia nelle ultime due settimane (+30% e +25%) risulta meno marcato rispetto a quelle precedenti (+40% e +69%), e questo è un segnale di avvicinamento al picco;</a:t>
            </a:r>
            <a:endParaRPr b="0" lang="en-US" sz="19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Cambria"/>
                <a:ea typeface="Calibri"/>
              </a:rPr>
              <a:t>L’ondata Omicron 5 ha un evidente </a:t>
            </a:r>
            <a:r>
              <a:rPr b="1" lang="it-IT" sz="19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gradiente da est ad ovest</a:t>
            </a:r>
            <a:r>
              <a:rPr b="1" lang="it-IT" sz="1900" spc="-1" strike="noStrike">
                <a:solidFill>
                  <a:srgbClr val="000000"/>
                </a:solidFill>
                <a:latin typeface="Cambria"/>
                <a:ea typeface="Calibri"/>
              </a:rPr>
              <a:t>; la Romagna ed Imola sono ormai prossime al punto di massimo, mentre i territori emiliani continuano ad avere un ritmo di crescita più sostenuto; sono in costante aumento le reinfezioni (oltre il 12% del totale);</a:t>
            </a:r>
            <a:endParaRPr b="0" lang="en-US" sz="19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L’occupazione dei posti letto ordinari continua a crescere</a:t>
            </a:r>
            <a:r>
              <a:rPr b="1" lang="it-IT" sz="1900" spc="-1" strike="noStrike">
                <a:solidFill>
                  <a:srgbClr val="000000"/>
                </a:solidFill>
                <a:latin typeface="Cambria"/>
                <a:ea typeface="Calibri"/>
              </a:rPr>
              <a:t>, anche se con una intensità molto inferiore a quella dei casi incidenti (5%); oggi i ricoveri sono dieci volte quelli di un anno fa, restando comunque ampiamente al di sotto della soglia di allarme; sono ricoverati anziani (età mediana = 83 anni), con infezione CoviD sovrapposta a gravi malattie croniche; nel 50% dei casi il ricovero avviene per motivi diversi dal CoviD.</a:t>
            </a:r>
            <a:endParaRPr b="0" lang="en-US" sz="19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403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405" name="Text Box 8"/>
          <p:cNvSpPr/>
          <p:nvPr/>
        </p:nvSpPr>
        <p:spPr>
          <a:xfrm>
            <a:off x="1828800" y="155736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06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32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07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408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409" name="Text Box 9"/>
          <p:cNvSpPr/>
          <p:nvPr/>
        </p:nvSpPr>
        <p:spPr>
          <a:xfrm>
            <a:off x="14400" y="1197000"/>
            <a:ext cx="9123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PER CONCLUDERE (2)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10" name="Rettangolo 1"/>
          <p:cNvSpPr/>
          <p:nvPr/>
        </p:nvSpPr>
        <p:spPr>
          <a:xfrm>
            <a:off x="108000" y="1628640"/>
            <a:ext cx="8640720" cy="53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Cambria"/>
                <a:ea typeface="Calibri"/>
              </a:rPr>
              <a:t>Le attuali varianti circolanti, che hanno un indice di trasmissione di 15, non si possono arrestare in alcun modo; il tracciamento è diventato un inutile esercizio di stile (il virus corre troppo velocemente);</a:t>
            </a:r>
            <a:endParaRPr b="0" lang="en-US" sz="19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Cambria"/>
                <a:ea typeface="Calibri"/>
              </a:rPr>
              <a:t>E’ importante </a:t>
            </a:r>
            <a:r>
              <a:rPr b="1" lang="it-IT" sz="19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concentrare l’attenzione e la protezione sugli anziani e sui vulnerabili</a:t>
            </a:r>
            <a:r>
              <a:rPr b="1" lang="it-IT" sz="1900" spc="-1" strike="noStrike">
                <a:solidFill>
                  <a:srgbClr val="000000"/>
                </a:solidFill>
                <a:latin typeface="Cambria"/>
                <a:ea typeface="Calibri"/>
              </a:rPr>
              <a:t>, ampliando la platea a cui viene offerta la quarta dose e utilizzando precauzioni barriera e antivirali quando indicato;</a:t>
            </a:r>
            <a:endParaRPr b="0" lang="en-US" sz="19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Cambria"/>
                <a:ea typeface="Calibri"/>
              </a:rPr>
              <a:t>L’attuale </a:t>
            </a:r>
            <a:r>
              <a:rPr b="1" lang="it-IT" sz="19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vaccino</a:t>
            </a:r>
            <a:r>
              <a:rPr b="1" lang="it-IT" sz="1900" spc="-1" strike="noStrike">
                <a:solidFill>
                  <a:srgbClr val="000000"/>
                </a:solidFill>
                <a:latin typeface="Cambria"/>
                <a:ea typeface="Calibri"/>
              </a:rPr>
              <a:t> non è affatto superato, </a:t>
            </a:r>
            <a:r>
              <a:rPr b="1" lang="it-IT" sz="19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impedisce le manifestazioni più gravi della malattia</a:t>
            </a:r>
            <a:r>
              <a:rPr b="1" lang="it-IT" sz="1900" spc="-1" strike="noStrike">
                <a:solidFill>
                  <a:srgbClr val="000000"/>
                </a:solidFill>
                <a:latin typeface="Cambria"/>
                <a:ea typeface="Calibri"/>
              </a:rPr>
              <a:t> ed </a:t>
            </a:r>
            <a:r>
              <a:rPr b="1" lang="it-IT" sz="19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alleggerisce significativamente il carico ospedaliero dei ricoveri</a:t>
            </a:r>
            <a:r>
              <a:rPr b="1" lang="it-IT" sz="1900" spc="-1" strike="noStrike">
                <a:solidFill>
                  <a:srgbClr val="000000"/>
                </a:solidFill>
                <a:latin typeface="Cambria"/>
                <a:ea typeface="Calibri"/>
              </a:rPr>
              <a:t>;</a:t>
            </a:r>
            <a:endParaRPr b="0" lang="en-US" sz="19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Cambria"/>
                <a:ea typeface="Calibri"/>
              </a:rPr>
              <a:t>Sarebbe sbagliato aprire indiscriminatamente il rubinetto dei contagi, lasciando andare indisturbato il virus; è ancora troppo presto, siamo in una </a:t>
            </a:r>
            <a:r>
              <a:rPr b="1" lang="it-IT" sz="19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fase di transizione fra epidemia ed endemia</a:t>
            </a:r>
            <a:r>
              <a:rPr b="1" lang="it-IT" sz="1900" spc="-1" strike="noStrike">
                <a:solidFill>
                  <a:srgbClr val="000000"/>
                </a:solidFill>
                <a:latin typeface="Cambria"/>
                <a:ea typeface="Calibri"/>
              </a:rPr>
              <a:t> e si rischierebbe di pagare un prezzo non sostenibile in termini di decessi e di ricoveri ospedalieri; ormai è chiaro che questo virus non ci abbandonerà, ma al tempo stesso è evidente che i suoi effetti col tempo si stanno attenuando.</a:t>
            </a:r>
            <a:endParaRPr b="0" lang="en-US" sz="19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412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414" name="Text Box 8"/>
          <p:cNvSpPr/>
          <p:nvPr/>
        </p:nvSpPr>
        <p:spPr>
          <a:xfrm>
            <a:off x="1828800" y="155736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15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33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16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417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418" name="Text Box 9"/>
          <p:cNvSpPr/>
          <p:nvPr/>
        </p:nvSpPr>
        <p:spPr>
          <a:xfrm>
            <a:off x="14400" y="1380960"/>
            <a:ext cx="9123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PER CONCLUDERE (3)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19" name="Rettangolo 1"/>
          <p:cNvSpPr/>
          <p:nvPr/>
        </p:nvSpPr>
        <p:spPr>
          <a:xfrm>
            <a:off x="108000" y="1919160"/>
            <a:ext cx="8928000" cy="456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  <a:ea typeface="Calibri"/>
              </a:rPr>
              <a:t>Nel contesto dato dobbiamo ricercare un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compromesso fra il rischio di lasciare in giro individui contagiosi e quello di doverci privare del lavoro di troppe persone per un eccesso di precauzione</a:t>
            </a:r>
            <a:r>
              <a:rPr b="1" lang="it-IT" sz="2000" spc="-1" strike="noStrike">
                <a:solidFill>
                  <a:srgbClr val="000000"/>
                </a:solidFill>
                <a:latin typeface="Cambria"/>
                <a:ea typeface="Calibri"/>
              </a:rPr>
              <a:t>;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  <a:ea typeface="Calibri"/>
              </a:rPr>
              <a:t>Per cominciare si dovrebbe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ridurre la durata dell’isolamento</a:t>
            </a:r>
            <a:r>
              <a:rPr b="1" lang="it-IT" sz="2000" spc="-1" strike="noStrike">
                <a:solidFill>
                  <a:srgbClr val="000000"/>
                </a:solidFill>
                <a:latin typeface="Cambria"/>
                <a:ea typeface="Calibri"/>
              </a:rPr>
              <a:t> al periodo di effettiva contagiosità (5 giorni in luogo di 7 appaiono adeguati per le varianti in circolazione),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uscendone senza bisogno del test</a:t>
            </a:r>
            <a:r>
              <a:rPr b="1" lang="it-IT" sz="2000" spc="-1" strike="noStrike">
                <a:solidFill>
                  <a:srgbClr val="000000"/>
                </a:solidFill>
                <a:latin typeface="Cambria"/>
                <a:ea typeface="Calibri"/>
              </a:rPr>
              <a:t>;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  <a:ea typeface="Calibri"/>
              </a:rPr>
              <a:t>Si dovrebbe inoltre iniziare a ragionare sulla possibilità che i lavoratori dei servizi essenziali (fra i quali quelli della Sanità), se asintomatici, possano comunque prestare servizio indossando sempre le FFP2;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  <a:ea typeface="Calibri"/>
              </a:rPr>
              <a:t>Per quanto riguarda la quarantena degli asintomatici, è ancora troppo presto per abbandonarla, ma se prosegue l’attenuazione del virus da una parte e la protezione dei fragili dall’altra (con la vaccinazione, con i farmaci antivirali e con le misure barriera) non ci siamo molto lontani. 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Immagine 1" descr=""/>
          <p:cNvPicPr/>
          <p:nvPr/>
        </p:nvPicPr>
        <p:blipFill>
          <a:blip r:embed="rId1"/>
          <a:stretch/>
        </p:blipFill>
        <p:spPr>
          <a:xfrm>
            <a:off x="20520" y="1792440"/>
            <a:ext cx="9102960" cy="46512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1"/>
          <p:cNvSpPr/>
          <p:nvPr/>
        </p:nvSpPr>
        <p:spPr>
          <a:xfrm>
            <a:off x="179280" y="651024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Incidenza cumulativa x 100.000 abitanti per settimana di diagnosi 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85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86" name="Picture 4" descr="PUNTI"/>
          <p:cNvPicPr/>
          <p:nvPr/>
        </p:nvPicPr>
        <p:blipFill>
          <a:blip r:embed="rId2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SCRIVI"/>
          <p:cNvPicPr/>
          <p:nvPr/>
        </p:nvPicPr>
        <p:blipFill>
          <a:blip r:embed="rId3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9"/>
          <p:cNvSpPr/>
          <p:nvPr/>
        </p:nvSpPr>
        <p:spPr>
          <a:xfrm>
            <a:off x="20520" y="1336680"/>
            <a:ext cx="91234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cc"/>
                </a:solidFill>
                <a:latin typeface="Cambria"/>
              </a:rPr>
              <a:t>INCIDENZA SETTIMANALE NUOVI CASI</a:t>
            </a: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89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90" name="Picture 12" descr="SCRIVI"/>
          <p:cNvPicPr/>
          <p:nvPr/>
        </p:nvPicPr>
        <p:blipFill>
          <a:blip r:embed="rId4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4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92" name="Connettore 1 2"/>
          <p:cNvSpPr/>
          <p:nvPr/>
        </p:nvSpPr>
        <p:spPr>
          <a:xfrm>
            <a:off x="468360" y="5229360"/>
            <a:ext cx="849636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Immagine 1" descr=""/>
          <p:cNvPicPr/>
          <p:nvPr/>
        </p:nvPicPr>
        <p:blipFill>
          <a:blip r:embed="rId1"/>
          <a:stretch/>
        </p:blipFill>
        <p:spPr>
          <a:xfrm>
            <a:off x="0" y="1806480"/>
            <a:ext cx="9144000" cy="44308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1"/>
          <p:cNvSpPr/>
          <p:nvPr/>
        </p:nvSpPr>
        <p:spPr>
          <a:xfrm>
            <a:off x="179280" y="6237360"/>
            <a:ext cx="878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Giorno centrale della media mobile (calcolata su 7 giorni)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Intervallo di Confidenza al 95% calcolato con metodo binomiale esatto con distribuzione F di Fisher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95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96" name="Picture 4" descr="PUNTI"/>
          <p:cNvPicPr/>
          <p:nvPr/>
        </p:nvPicPr>
        <p:blipFill>
          <a:blip r:embed="rId2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SCRIVI"/>
          <p:cNvPicPr/>
          <p:nvPr/>
        </p:nvPicPr>
        <p:blipFill>
          <a:blip r:embed="rId3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99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00" name="Picture 12" descr="SCRIVI"/>
          <p:cNvPicPr/>
          <p:nvPr/>
        </p:nvPicPr>
        <p:blipFill>
          <a:blip r:embed="rId4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9"/>
          <p:cNvSpPr/>
          <p:nvPr/>
        </p:nvSpPr>
        <p:spPr>
          <a:xfrm>
            <a:off x="20520" y="1359000"/>
            <a:ext cx="91234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cc"/>
                </a:solidFill>
                <a:latin typeface="Cambria"/>
              </a:rPr>
              <a:t>INDICE DI REPLICAZIONE DIAGNOSTICO RD</a:t>
            </a:r>
            <a:r>
              <a:rPr b="1" lang="it-IT" sz="3200" spc="-1" strike="noStrike">
                <a:solidFill>
                  <a:srgbClr val="3333cc"/>
                </a:solidFill>
                <a:latin typeface="Arial"/>
                <a:ea typeface="Arial"/>
              </a:rPr>
              <a:t>(</a:t>
            </a:r>
            <a:r>
              <a:rPr b="0" lang="it-IT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it-IT" sz="3200" spc="-1" strike="noStrike">
                <a:solidFill>
                  <a:srgbClr val="3333cc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02" name="Connettore 1 2"/>
          <p:cNvSpPr/>
          <p:nvPr/>
        </p:nvSpPr>
        <p:spPr>
          <a:xfrm>
            <a:off x="304920" y="5300640"/>
            <a:ext cx="873108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Immagine 1" descr=""/>
          <p:cNvPicPr/>
          <p:nvPr/>
        </p:nvPicPr>
        <p:blipFill>
          <a:blip r:embed="rId1"/>
          <a:stretch/>
        </p:blipFill>
        <p:spPr>
          <a:xfrm>
            <a:off x="23760" y="1700280"/>
            <a:ext cx="9096480" cy="47718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1"/>
          <p:cNvSpPr/>
          <p:nvPr/>
        </p:nvSpPr>
        <p:spPr>
          <a:xfrm>
            <a:off x="179280" y="651024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Media settimanale di test eseguiti (antigenici + molecolari) e percentuale di positività 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05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06" name="Picture 4" descr="PUNTI"/>
          <p:cNvPicPr/>
          <p:nvPr/>
        </p:nvPicPr>
        <p:blipFill>
          <a:blip r:embed="rId2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SCRIVI"/>
          <p:cNvPicPr/>
          <p:nvPr/>
        </p:nvPicPr>
        <p:blipFill>
          <a:blip r:embed="rId3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20520" y="1268280"/>
            <a:ext cx="91234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cc"/>
                </a:solidFill>
                <a:latin typeface="Cambria"/>
              </a:rPr>
              <a:t>TEST POSITIVI/TEST ESEGUITI</a:t>
            </a: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6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12" name="Picture 12" descr="SCRIVI"/>
          <p:cNvPicPr/>
          <p:nvPr/>
        </p:nvPicPr>
        <p:blipFill>
          <a:blip r:embed="rId4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13" name="CasellaDiTesto 15"/>
          <p:cNvSpPr/>
          <p:nvPr/>
        </p:nvSpPr>
        <p:spPr>
          <a:xfrm>
            <a:off x="6593040" y="1773360"/>
            <a:ext cx="49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Calibri"/>
              </a:rPr>
              <a:t>26,5%</a:t>
            </a:r>
            <a:endParaRPr b="0" lang="en-US" sz="1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14" name="CasellaDiTesto 15"/>
          <p:cNvSpPr/>
          <p:nvPr/>
        </p:nvSpPr>
        <p:spPr>
          <a:xfrm>
            <a:off x="8393400" y="4478400"/>
            <a:ext cx="49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Calibri"/>
              </a:rPr>
              <a:t>30,9%</a:t>
            </a:r>
            <a:endParaRPr b="0" lang="en-US" sz="1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15" name="CasellaDiTesto 15"/>
          <p:cNvSpPr/>
          <p:nvPr/>
        </p:nvSpPr>
        <p:spPr>
          <a:xfrm>
            <a:off x="8465400" y="4292640"/>
            <a:ext cx="49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Calibri"/>
              </a:rPr>
              <a:t>32,5%</a:t>
            </a:r>
            <a:endParaRPr b="0" lang="en-US" sz="1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16" name="CasellaDiTesto 15"/>
          <p:cNvSpPr/>
          <p:nvPr/>
        </p:nvSpPr>
        <p:spPr>
          <a:xfrm>
            <a:off x="8676000" y="4119480"/>
            <a:ext cx="49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Calibri"/>
              </a:rPr>
              <a:t>35,1%</a:t>
            </a:r>
            <a:endParaRPr b="0" lang="en-US" sz="10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Immagine 1" descr=""/>
          <p:cNvPicPr/>
          <p:nvPr/>
        </p:nvPicPr>
        <p:blipFill>
          <a:blip r:embed="rId1"/>
          <a:stretch/>
        </p:blipFill>
        <p:spPr>
          <a:xfrm>
            <a:off x="20520" y="1768320"/>
            <a:ext cx="9102960" cy="4675320"/>
          </a:xfrm>
          <a:prstGeom prst="rect">
            <a:avLst/>
          </a:prstGeom>
          <a:ln w="0">
            <a:noFill/>
          </a:ln>
        </p:spPr>
      </p:pic>
      <p:sp>
        <p:nvSpPr>
          <p:cNvPr id="118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19" name="Picture 4" descr="PUNTI"/>
          <p:cNvPicPr/>
          <p:nvPr/>
        </p:nvPicPr>
        <p:blipFill>
          <a:blip r:embed="rId2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SCRIVI"/>
          <p:cNvPicPr/>
          <p:nvPr/>
        </p:nvPicPr>
        <p:blipFill>
          <a:blip r:embed="rId3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8"/>
          <p:cNvSpPr/>
          <p:nvPr/>
        </p:nvSpPr>
        <p:spPr>
          <a:xfrm>
            <a:off x="1835280" y="153036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20520" y="1268280"/>
            <a:ext cx="91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cc"/>
                </a:solidFill>
                <a:latin typeface="Cambria"/>
              </a:rPr>
              <a:t>INCIDENZA SETTIMANALE PER AUSL</a:t>
            </a:r>
            <a:endParaRPr b="0" lang="en-US" sz="4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7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25" name="Picture 12" descr="SCRIVI"/>
          <p:cNvPicPr/>
          <p:nvPr/>
        </p:nvPicPr>
        <p:blipFill>
          <a:blip r:embed="rId4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1"/>
          <p:cNvSpPr/>
          <p:nvPr/>
        </p:nvSpPr>
        <p:spPr>
          <a:xfrm>
            <a:off x="179280" y="644364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Tassi settimanali di incidenza cumulativa x 100.000 abitanti 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27" name="Connettore 1 2"/>
          <p:cNvSpPr/>
          <p:nvPr/>
        </p:nvSpPr>
        <p:spPr>
          <a:xfrm>
            <a:off x="539640" y="4724280"/>
            <a:ext cx="842508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28" name="Connettore 1 2"/>
          <p:cNvSpPr/>
          <p:nvPr/>
        </p:nvSpPr>
        <p:spPr>
          <a:xfrm>
            <a:off x="539640" y="4941720"/>
            <a:ext cx="8353440" cy="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29" name="Connettore 1 2"/>
          <p:cNvSpPr/>
          <p:nvPr/>
        </p:nvSpPr>
        <p:spPr>
          <a:xfrm>
            <a:off x="523800" y="5157720"/>
            <a:ext cx="8353440" cy="0"/>
          </a:xfrm>
          <a:prstGeom prst="line">
            <a:avLst/>
          </a:prstGeom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1"/>
          <p:cNvSpPr/>
          <p:nvPr/>
        </p:nvSpPr>
        <p:spPr>
          <a:xfrm>
            <a:off x="179280" y="657684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Frequenza di casi attivi per sesso ed età, al 11/07/2022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31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32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20520" y="1306440"/>
            <a:ext cx="91234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3333cc"/>
                </a:solidFill>
                <a:latin typeface="Cambria"/>
              </a:rPr>
              <a:t>CASI ATTIVI PER ETA’</a:t>
            </a:r>
            <a:endParaRPr b="0" lang="en-US" sz="4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8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38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1"/>
          <p:cNvSpPr/>
          <p:nvPr/>
        </p:nvSpPr>
        <p:spPr>
          <a:xfrm>
            <a:off x="331920" y="6237360"/>
            <a:ext cx="848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Eta’ mediana = 47,5 (-1,5)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40" name="Immagine 1" descr=""/>
          <p:cNvPicPr/>
          <p:nvPr/>
        </p:nvPicPr>
        <p:blipFill>
          <a:blip r:embed="rId4"/>
          <a:stretch/>
        </p:blipFill>
        <p:spPr>
          <a:xfrm>
            <a:off x="44280" y="2001960"/>
            <a:ext cx="9099720" cy="41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11"/>
          <p:cNvSpPr/>
          <p:nvPr/>
        </p:nvSpPr>
        <p:spPr>
          <a:xfrm>
            <a:off x="179280" y="650556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Prevalenza Casi Attivi x 1.000 ab. x classi di età avanzata, al 11/07/2022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42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43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20520" y="1341360"/>
            <a:ext cx="9123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EVOLUZIONE CASI IN ETA’ AVANZATA 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9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48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49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pic>
        <p:nvPicPr>
          <p:cNvPr id="150" name="Immagine 1" descr=""/>
          <p:cNvPicPr/>
          <p:nvPr/>
        </p:nvPicPr>
        <p:blipFill>
          <a:blip r:embed="rId4"/>
          <a:stretch/>
        </p:blipFill>
        <p:spPr>
          <a:xfrm>
            <a:off x="0" y="1897200"/>
            <a:ext cx="914400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3T08:57:11Z</dcterms:created>
  <dc:creator>Coglianese</dc:creator>
  <dc:description/>
  <dc:language>en-US</dc:language>
  <cp:lastModifiedBy>Rossi Andrea</cp:lastModifiedBy>
  <cp:lastPrinted>2022-06-06T08:46:36Z</cp:lastPrinted>
  <dcterms:modified xsi:type="dcterms:W3CDTF">2022-07-12T08:41:56Z</dcterms:modified>
  <cp:revision>2970</cp:revision>
  <dc:subject/>
  <dc:title>Presentazione di PowerPoint</dc:title>
</cp:coreProperties>
</file>