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8.png" ContentType="image/png"/>
  <Override PartName="/ppt/media/image19.wmf" ContentType="image/x-wmf"/>
  <Override PartName="/ppt/media/image8.png" ContentType="image/png"/>
  <Override PartName="/ppt/media/image16.wmf" ContentType="image/x-wmf"/>
  <Override PartName="/ppt/media/image12.wmf" ContentType="image/x-wmf"/>
  <Override PartName="/ppt/media/image4.png" ContentType="image/png"/>
  <Override PartName="/ppt/media/image13.png" ContentType="image/png"/>
  <Override PartName="/ppt/media/image33.wmf" ContentType="image/x-wmf"/>
  <Override PartName="/ppt/media/image17.wmf" ContentType="image/x-wmf"/>
  <Override PartName="/ppt/media/image9.png" ContentType="image/png"/>
  <Override PartName="/ppt/media/image30.wmf" ContentType="image/x-wmf"/>
  <Override PartName="/ppt/media/image31.wmf" ContentType="image/x-wmf"/>
  <Override PartName="/ppt/media/image29.wmf" ContentType="image/x-wmf"/>
  <Override PartName="/ppt/media/image32.wmf" ContentType="image/x-wmf"/>
  <Override PartName="/ppt/media/image34.wmf" ContentType="image/x-wmf"/>
  <Override PartName="/ppt/media/image37.wmf" ContentType="image/x-wmf"/>
  <Override PartName="/ppt/media/image38.wmf" ContentType="image/x-wmf"/>
  <Override PartName="/ppt/media/image20.png" ContentType="image/png"/>
  <Override PartName="/ppt/media/image11.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6.wmf" ContentType="image/x-wmf"/>
  <Override PartName="/ppt/media/image36.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2.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259"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60" name="PlaceHolder 2"/>
          <p:cNvSpPr>
            <a:spLocks noGrp="1"/>
          </p:cNvSpPr>
          <p:nvPr>
            <p:ph type="dt" idx="91"/>
          </p:nvPr>
        </p:nvSpPr>
        <p:spPr>
          <a:xfrm>
            <a:off x="3849840" y="-360"/>
            <a:ext cx="2946240" cy="49356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it-IT"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3"/>
          <p:cNvSpPr>
            <a:spLocks noGrp="1"/>
          </p:cNvSpPr>
          <p:nvPr>
            <p:ph type="sldImg"/>
          </p:nvPr>
        </p:nvSpPr>
        <p:spPr>
          <a:xfrm>
            <a:off x="928440" y="738360"/>
            <a:ext cx="4940280" cy="370512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2" name="PlaceHolder 4"/>
          <p:cNvSpPr>
            <a:spLocks noGrp="1"/>
          </p:cNvSpPr>
          <p:nvPr>
            <p:ph type="body"/>
          </p:nvPr>
        </p:nvSpPr>
        <p:spPr>
          <a:xfrm>
            <a:off x="680760" y="4689360"/>
            <a:ext cx="5435640" cy="444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3" name="PlaceHolder 5"/>
          <p:cNvSpPr>
            <a:spLocks noGrp="1"/>
          </p:cNvSpPr>
          <p:nvPr>
            <p:ph type="ftr" idx="92"/>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64" name="PlaceHolder 6"/>
          <p:cNvSpPr>
            <a:spLocks noGrp="1"/>
          </p:cNvSpPr>
          <p:nvPr>
            <p:ph type="sldNum" idx="93"/>
          </p:nvPr>
        </p:nvSpPr>
        <p:spPr>
          <a:xfrm>
            <a:off x="3849840" y="9378720"/>
            <a:ext cx="2946240" cy="49356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it-IT"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D73C4F-D545-499D-88B9-42F70C712B3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928800" y="738360"/>
            <a:ext cx="4940280" cy="3705120"/>
          </a:xfrm>
          <a:prstGeom prst="rect">
            <a:avLst/>
          </a:prstGeom>
          <a:ln w="0">
            <a:noFill/>
          </a:ln>
        </p:spPr>
      </p:sp>
      <p:sp>
        <p:nvSpPr>
          <p:cNvPr id="1515"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6"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86CC9D-AD15-4129-A6CB-C28138D8647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928800" y="738360"/>
            <a:ext cx="4940280" cy="3705120"/>
          </a:xfrm>
          <a:prstGeom prst="rect">
            <a:avLst/>
          </a:prstGeom>
          <a:ln w="0">
            <a:noFill/>
          </a:ln>
        </p:spPr>
      </p:sp>
      <p:sp>
        <p:nvSpPr>
          <p:cNvPr id="1518"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9"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BC8047-6651-491C-8F45-B8C34CC3FE8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928800" y="738360"/>
            <a:ext cx="4940280" cy="3705120"/>
          </a:xfrm>
          <a:prstGeom prst="rect">
            <a:avLst/>
          </a:prstGeom>
          <a:ln w="0">
            <a:noFill/>
          </a:ln>
        </p:spPr>
      </p:sp>
      <p:sp>
        <p:nvSpPr>
          <p:cNvPr id="1521"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2"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F6C418-3AD7-447E-9B7C-07DE47642C6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928800" y="738360"/>
            <a:ext cx="4940280" cy="3705120"/>
          </a:xfrm>
          <a:prstGeom prst="rect">
            <a:avLst/>
          </a:prstGeom>
          <a:ln w="0">
            <a:noFill/>
          </a:ln>
        </p:spPr>
      </p:sp>
      <p:sp>
        <p:nvSpPr>
          <p:cNvPr id="1524"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5"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4E5393-FD14-40A5-91C1-688B104D996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928800" y="738360"/>
            <a:ext cx="4940280" cy="3705120"/>
          </a:xfrm>
          <a:prstGeom prst="rect">
            <a:avLst/>
          </a:prstGeom>
          <a:ln w="0">
            <a:noFill/>
          </a:ln>
        </p:spPr>
      </p:sp>
      <p:sp>
        <p:nvSpPr>
          <p:cNvPr id="1527"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8"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9E15B-F183-43EB-8974-7AA0780DB4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928800" y="738360"/>
            <a:ext cx="4940280" cy="3705120"/>
          </a:xfrm>
          <a:prstGeom prst="rect">
            <a:avLst/>
          </a:prstGeom>
          <a:ln w="0">
            <a:noFill/>
          </a:ln>
        </p:spPr>
      </p:sp>
      <p:sp>
        <p:nvSpPr>
          <p:cNvPr id="1530"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1"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3263F6-7610-4E49-8C05-B180ACF7622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928800" y="738360"/>
            <a:ext cx="4940280" cy="3705120"/>
          </a:xfrm>
          <a:prstGeom prst="rect">
            <a:avLst/>
          </a:prstGeom>
          <a:ln w="0">
            <a:noFill/>
          </a:ln>
        </p:spPr>
      </p:sp>
      <p:sp>
        <p:nvSpPr>
          <p:cNvPr id="1533"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4"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3EB4C9-1D0F-4B96-A0F1-4DC326E9F28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928800" y="738360"/>
            <a:ext cx="4940280" cy="3705120"/>
          </a:xfrm>
          <a:prstGeom prst="rect">
            <a:avLst/>
          </a:prstGeom>
          <a:ln w="0">
            <a:noFill/>
          </a:ln>
        </p:spPr>
      </p:sp>
      <p:sp>
        <p:nvSpPr>
          <p:cNvPr id="1536"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7"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8C40CC-6A5A-41E0-97C4-811CAE22DA8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928800" y="738360"/>
            <a:ext cx="4940280" cy="3705120"/>
          </a:xfrm>
          <a:prstGeom prst="rect">
            <a:avLst/>
          </a:prstGeom>
          <a:ln w="0">
            <a:noFill/>
          </a:ln>
        </p:spPr>
      </p:sp>
      <p:sp>
        <p:nvSpPr>
          <p:cNvPr id="1539"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0"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D013C0-2B29-4125-8A2E-DC41DE7C6B0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928800" y="738360"/>
            <a:ext cx="4940280" cy="3705120"/>
          </a:xfrm>
          <a:prstGeom prst="rect">
            <a:avLst/>
          </a:prstGeom>
          <a:ln w="0">
            <a:noFill/>
          </a:ln>
        </p:spPr>
      </p:sp>
      <p:sp>
        <p:nvSpPr>
          <p:cNvPr id="1542"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3"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1AB7A9-ECFA-445B-BE1A-7EF289295CD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928800" y="738360"/>
            <a:ext cx="4940280" cy="3705120"/>
          </a:xfrm>
          <a:prstGeom prst="rect">
            <a:avLst/>
          </a:prstGeom>
          <a:ln w="0">
            <a:noFill/>
          </a:ln>
        </p:spPr>
      </p:sp>
      <p:sp>
        <p:nvSpPr>
          <p:cNvPr id="1545"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6"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D961E2-31D3-4EAC-8AF8-A42CED5E5F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928800" y="738360"/>
            <a:ext cx="4940280" cy="3705120"/>
          </a:xfrm>
          <a:prstGeom prst="rect">
            <a:avLst/>
          </a:prstGeom>
          <a:ln w="0">
            <a:noFill/>
          </a:ln>
        </p:spPr>
      </p:sp>
      <p:sp>
        <p:nvSpPr>
          <p:cNvPr id="1548"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9"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84EF7A-8267-40E2-A37F-A0BFAD52FCC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928800" y="738360"/>
            <a:ext cx="4940280" cy="3705120"/>
          </a:xfrm>
          <a:prstGeom prst="rect">
            <a:avLst/>
          </a:prstGeom>
          <a:ln w="0">
            <a:noFill/>
          </a:ln>
        </p:spPr>
      </p:sp>
      <p:sp>
        <p:nvSpPr>
          <p:cNvPr id="1551"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2"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79CB3A-632A-4616-803F-16779B47575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928800" y="738360"/>
            <a:ext cx="4940280" cy="3705120"/>
          </a:xfrm>
          <a:prstGeom prst="rect">
            <a:avLst/>
          </a:prstGeom>
          <a:ln w="0">
            <a:noFill/>
          </a:ln>
        </p:spPr>
      </p:sp>
      <p:sp>
        <p:nvSpPr>
          <p:cNvPr id="1554"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5"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017373-E77D-400D-AE86-950C01365B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928800" y="738360"/>
            <a:ext cx="4940280" cy="3705120"/>
          </a:xfrm>
          <a:prstGeom prst="rect">
            <a:avLst/>
          </a:prstGeom>
          <a:ln w="0">
            <a:noFill/>
          </a:ln>
        </p:spPr>
      </p:sp>
      <p:sp>
        <p:nvSpPr>
          <p:cNvPr id="1557"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8"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9E8E33-500D-488D-996C-322693A949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928800" y="738360"/>
            <a:ext cx="4940280" cy="3705120"/>
          </a:xfrm>
          <a:prstGeom prst="rect">
            <a:avLst/>
          </a:prstGeom>
          <a:ln w="0">
            <a:noFill/>
          </a:ln>
        </p:spPr>
      </p:sp>
      <p:sp>
        <p:nvSpPr>
          <p:cNvPr id="1560"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1"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A14D96-F682-45D0-A122-E48187C071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928800" y="738360"/>
            <a:ext cx="4940280" cy="3705120"/>
          </a:xfrm>
          <a:prstGeom prst="rect">
            <a:avLst/>
          </a:prstGeom>
          <a:ln w="0">
            <a:noFill/>
          </a:ln>
        </p:spPr>
      </p:sp>
      <p:sp>
        <p:nvSpPr>
          <p:cNvPr id="1563"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4"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A6C72A-D7D7-4322-8ADB-8DDDA30196E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928800" y="738360"/>
            <a:ext cx="4940280" cy="3705120"/>
          </a:xfrm>
          <a:prstGeom prst="rect">
            <a:avLst/>
          </a:prstGeom>
          <a:ln w="0">
            <a:noFill/>
          </a:ln>
        </p:spPr>
      </p:sp>
      <p:sp>
        <p:nvSpPr>
          <p:cNvPr id="1566"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7"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29AA50-4077-4E23-B851-F572E49D765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928800" y="738360"/>
            <a:ext cx="4940280" cy="3705120"/>
          </a:xfrm>
          <a:prstGeom prst="rect">
            <a:avLst/>
          </a:prstGeom>
          <a:ln w="0">
            <a:noFill/>
          </a:ln>
        </p:spPr>
      </p:sp>
      <p:sp>
        <p:nvSpPr>
          <p:cNvPr id="1500"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1"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E6648B-CE58-44E3-8D50-1D0D708652C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928800" y="738360"/>
            <a:ext cx="4940280" cy="3705120"/>
          </a:xfrm>
          <a:prstGeom prst="rect">
            <a:avLst/>
          </a:prstGeom>
          <a:ln w="0">
            <a:noFill/>
          </a:ln>
        </p:spPr>
      </p:sp>
      <p:sp>
        <p:nvSpPr>
          <p:cNvPr id="1503"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4"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DECFE6-6B56-4268-8EF3-A6410160E9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928800" y="738360"/>
            <a:ext cx="4940280" cy="3705120"/>
          </a:xfrm>
          <a:prstGeom prst="rect">
            <a:avLst/>
          </a:prstGeom>
          <a:ln w="0">
            <a:noFill/>
          </a:ln>
        </p:spPr>
      </p:sp>
      <p:sp>
        <p:nvSpPr>
          <p:cNvPr id="1506"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7"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6EA82C-CA4F-4D35-A383-E54738C9054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928800" y="738360"/>
            <a:ext cx="4940280" cy="3705120"/>
          </a:xfrm>
          <a:prstGeom prst="rect">
            <a:avLst/>
          </a:prstGeom>
          <a:ln w="0">
            <a:noFill/>
          </a:ln>
        </p:spPr>
      </p:sp>
      <p:sp>
        <p:nvSpPr>
          <p:cNvPr id="1509"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0"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15DBF2-C57F-432D-8DD4-B174DEBFD4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928800" y="738360"/>
            <a:ext cx="4940280" cy="3705120"/>
          </a:xfrm>
          <a:prstGeom prst="rect">
            <a:avLst/>
          </a:prstGeom>
          <a:ln w="0">
            <a:noFill/>
          </a:ln>
        </p:spPr>
      </p:sp>
      <p:sp>
        <p:nvSpPr>
          <p:cNvPr id="1512" name="PlaceHolder 2"/>
          <p:cNvSpPr>
            <a:spLocks noGrp="1"/>
          </p:cNvSpPr>
          <p:nvPr>
            <p:ph type="body"/>
          </p:nvPr>
        </p:nvSpPr>
        <p:spPr>
          <a:xfrm>
            <a:off x="680760" y="4689360"/>
            <a:ext cx="54356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3" name="Segnaposto numero diapositiva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FA0BB1-8B2B-499D-AA75-863B036302A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A8830-8E2C-4744-A004-F7F31E887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23E07-7C3A-47E8-B135-BA1EA63F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22950-E7B2-41D0-A757-1608AA5F7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1221A-861F-4B54-AB8A-44819802F2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7F588-C7C2-473A-B147-03166D9C46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12A58-E7EC-40F1-8C25-42E1541DC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A730E-5E65-45E6-A021-1F8C0B59C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04C9E-BAA7-4E8D-9698-177C1D0C0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991990-1F89-4A14-8869-2D1AD7BDD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AEF304-98EC-4A72-AF71-6385455D94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71A1A1-8E40-4ED3-BA65-9705F509A1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378790-EB17-4183-8BD6-99B9BE28C4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150CD-ACC7-41DD-8B32-C62BB9654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11D95F-6C20-4DA6-B3F0-1A2085F38F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0AF1D0-9A88-46EF-A716-7E8AE9C77D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2E3D7D-3F58-4089-92C2-B70A446245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47BF83-792B-499F-ABA4-BC6242EC0F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024C02-2742-4D27-8071-DCDD9557BA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6C51A2-19C6-4EA5-9BE7-827BD21B4E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261A96-26F1-426A-BB26-1BDBE208ED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FBDE3E-C2B9-4755-BAD6-E0A64A8F7D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E8E956-20FA-4E94-8840-32D7BC5C74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3E2983-7000-4081-A69A-3275A2A378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FFAE3-3D42-4ECD-AFC8-F5DD26405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08B3AB-6DCD-449E-BF48-278C327C65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F4C1D9-12F5-44D1-B9E7-8710C931A2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D92082-62AC-4ACD-B018-EFC8BB112D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28AB59-08B2-4541-AD7E-6EBEEDDC9A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187F2D-F89E-4346-8E8A-BDFA197F76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0496DD-9367-4432-936C-4440AFC25E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938176-20B4-49B0-8283-776040627A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304F93-7F3E-46AA-8228-98FAD0BAAB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F8B6A5-2B81-4C52-A7FA-F5FF4829D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36DED-969C-4C34-B385-21F0DC44A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2D981-53D9-46E7-B0BB-3CA5FF25F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9203D1-4433-46CA-A743-84B773AD48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422D28-81EA-439C-8736-A7EB486CAD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7D7A88-292B-471B-9B74-21D40AF648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7B5CF3-E15A-448B-B2EC-F63FA87A4E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FD2F1B-A9FA-455D-A51C-296E50879C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78F083-CC89-452D-9F4D-2F94B889D8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23177-826C-4584-A33F-2AE8FCEE1C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BDE8A8-D936-41AF-BAAA-E1C2BB9F64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D74AA8-2D1B-4244-BF8F-700A9DEE31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876E2E-DC17-4D61-8D8C-002CAFC9C2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F7A81-4C3A-4D63-BF4E-4E9393D44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B812E4-7EF1-4D8D-92AB-14E37C2A90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7AF838-E842-4903-AF6F-9C9E7326AD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2A9B72-5B5B-4016-A771-D1F9B47402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FF0453-FDBF-431B-9067-99766A6A34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1ECBD6-9214-4F55-8693-EFB0D2CA06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C94825-F597-4985-9DB4-2A79B82A31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E7EFFC-D856-4350-9CDB-E6EACD8521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0BF9E4-0220-4FAD-93A2-B9BDDC09F5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4E5970-796C-4D3C-B637-85B1FEC703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4D7A36-F924-4937-8372-9E7FFEB7DC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DCB2D-B545-48AD-9CCD-CC14CABDA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DF3861-547A-4266-AA29-2B0B5D01E6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34BF00-F36F-470D-84C3-DFB2FCA537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BC19C-6EEE-4844-8969-A6AEF42DF1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CCDD39-495F-49D0-BFE6-A728ADD5FF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6010E4-8C93-40D2-B4F1-89DAEC0A11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BFFEBD4-72D8-4D8C-BCEC-31BEAB10FE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A651AB-C14B-4019-8096-11CD8A247E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38E5E95-C38E-4617-A05C-14442303EC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981701-73F0-4FD6-BF41-BF3D4677BC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355C26-9992-40F2-A86C-DE2CA5846C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19000-D206-4833-BA1E-621259BC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3BE545-D23E-4763-84A0-EF9E08D30B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E3F367-2C7F-4972-8F6A-5DED27BA75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6DB343-CE4C-481B-90A9-7618DD352F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7A8921-3772-4BE4-B0C4-96200DDF7B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B71841-87B6-4407-B84D-AAE3DE375A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B8113D-8FAF-4680-B472-2CBB7D744B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2E9C24-2E85-4EF0-A088-3DA3754762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015C94A-1010-4949-BD06-9DDABCA6A2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8072C76-B741-4387-A5BF-763BD6DA2F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6539E27-E718-444F-8703-46B30BF96FC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E776D-A9A2-4F73-9BEE-DCC7F91B1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B070CD-33D8-40D3-B639-8D02BD289E1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892DFC1-E0BB-4E49-9768-702A5731D1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42D45D-34AC-4B5A-83F2-BBF204FFDB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B75F87-0477-471A-AABF-0940905167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A3304A-B0D7-43C0-8287-98CFFA16C8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32A775-CEED-49AD-90D6-6A53FD080E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6945C1-CB62-4456-9E31-60AF9B83CC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D9EB6C-4939-48D8-8475-A4E2B6C423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8149FE-0770-4888-ACE6-EE97D1A00A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1D4F50-3289-44D3-8469-91BF9F821B8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8F2FB-E894-4C88-83C3-547036989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110D03F-D19D-4148-B278-90BFAB40AF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43E52FF-7175-4C56-9159-D47AB31E299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47502D-6C11-4426-AE02-91740942F3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524F0A-C43E-4A23-AC4F-DE35480E16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C32964-D06F-4BF1-A3BF-0CD3D61421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5D3015-9D22-4E20-87C0-889DF83339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4D7AD2-FBA6-4587-A721-19EA287A1F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A9DF0A-613B-49B3-B8DC-F73C843CD4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5C8B35-D6E9-4CA0-8892-41CD7F40DE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49DFB7-0AB3-4D9D-8131-470B98FCFA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62B1-56A4-4881-9218-D5DC8F13D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62611F-B84D-47E3-968D-2E19E4BB7B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52F2D2-4081-447F-B418-8B1A6E528D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1FEE214-9CA4-4669-A172-C3A365080C5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A4F53ED-5278-4FD0-BCEB-3B962A8788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2CA742-1EE7-4EE8-B06A-DBA377EB652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14E95B-4568-457C-9EA9-1FCC8E6AB7E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AD2C5E-58DD-4FCB-A650-D93B3B6811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3E7826-4AF5-410E-852D-FD9AF14797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12A71F-0623-483D-92B8-2907C05853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419840-BB6F-4278-AB25-46EF2E374C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76C3-D871-45BF-AE9E-E0E75BE0B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A4B72-98D9-4B46-8FF6-60A0BFA15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BE7C8D-086B-4855-B739-20864A0ED1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9EBCBE-773A-425A-B3FB-30F17C069D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8C5DC3F-0E45-4AF6-ACAF-FC11763E4B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D5BFB67-184A-4D10-8ECE-19D16537567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AC54DB-DECA-4B89-ABCB-AB4CA0F5A3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E2EA076-C069-432A-85A9-7B3A2E215FF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65A666-FA52-46DB-8BA9-02350A18BF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9906970-FA3D-45AB-A534-79B57ED3CFF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7A852AF-8415-42CC-A468-CEE46917D0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F4F95C-42AC-46A9-9ACC-9DADED48658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0AA62-515D-464D-AE3F-B3629AE4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8ABE97E-C7CF-4C67-A948-940DFECA3A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36FA7B-B7FE-40EC-B50E-953C0747A0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7D4A38-7EE6-462F-AB82-E36AC3E305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948620A-A0B2-4C06-9EFE-E352FE3D51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46EC353-D59C-46A9-B7E6-8E55EAEBDD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69B5549-9134-4191-9908-1E414C20AFF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B9F1AD-4FC9-434B-8770-E5E7F8AB68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B2BA0AA-0FD6-4E16-A771-CADC01FD2A3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E0C5C6-DD75-4667-8C83-4D91E949C6F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1A5CBE-A65E-4DF9-A1D7-6EF7743F32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8CCDB-B19B-43E7-80D0-20AC15BB3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2999EE-4331-4EF5-ADA2-D20538751A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030475-5DE7-4A62-8853-ECC3DD7FCAD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5ED065A-EEBA-41EB-A97E-04ED65F0414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DC5559-F625-411A-AD27-AF46D7B56A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70822C-D732-41E6-8553-F4E8F7D889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1AAA3E-E8CB-4BE9-ADDA-7BE8287A3B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D25B3D-3B46-4E10-8D43-66EDF3ADCCC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900A04-B730-4749-A6D3-18C1085907F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0C347BE-8B33-4C94-9BF5-29CC8E8C97A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7B62D73-AB98-4C5A-B6FE-3B5FC086EF9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8334E-671C-4DA4-AA54-F94139C0A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8EE785E-8914-41B2-8A7F-F605865DA62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FEDDF2A-1938-448D-8DEC-2F51A09DA4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33A797-6432-4067-805B-10B1DF5F0F9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076E273-5F17-46E4-A755-218C4C4D902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7E73E51-4965-433B-88F7-13938A89C1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2D7B92-B2B2-4727-BFA9-66416E3111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6D151CE-1E74-40F2-97D3-09BC5E0D8E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388340-3773-4AA6-BF59-13C0FD23DD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3788A7-38CE-4868-812C-99C830C0E7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B9627A8-54EB-4BAC-B43E-9B399119F91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76C62-6359-4C03-A778-673992451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F0A6688-F5B7-4C69-8172-2BDD7F35AC6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E993F81-34C8-4CC4-B2EA-A0CBEEC61D7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1BAED4A-D0D8-4B08-9119-C0CDC26EDB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9AF8EA5-4345-4AD0-B4C1-E323AC80741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17C5215-4919-4A48-BBE7-D69C7448470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98CC24-5D4E-4B4E-82F1-28020E203D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F53D824-37B0-4EE6-B78E-A8A0C43592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51A06E-650C-4496-9842-38D4D3665A5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21BC84-1463-4D1E-872A-30657B82829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2F3D46-9879-4882-941F-E0A8A437092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06B1B-C587-4B60-B8CB-77AFBE815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3E9F927-398D-48C1-9ECA-EFFFDFD48EF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3965237-D6B0-4045-BA7E-95376841EC6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BFA26B4-9BE1-47DB-9635-D42D369AAF6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F84F0C9-9A64-47C2-8D69-41ED01A4B95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174C1A-CFFA-4C99-BF31-A319F770760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9CB0BD-F29E-4968-B7FE-1A2F4B4B1D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BD0526-1064-471D-9584-3CE2640F073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CED0AEE-344D-438F-8EB3-FF59AB84FA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EA92976-8D8C-49E1-91DF-7E5057185BA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1782B1A-3156-4FBB-8982-706F6F25FF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227B4-917F-4725-87D4-207737028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144007C-C3D4-451D-A96F-B9DC5BEB535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22FDF2-16C9-43AB-8388-28FEF816A2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2947373-3502-4656-AD80-035209F80DA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E091736-92A6-45C0-B182-C7FBA0764FB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F846370-1EF2-4D93-AF2A-D32858C19A9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BFF78DE-8CAC-4518-A8DC-A26DE2FF4CD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897DADE-F6C3-4B3A-9310-72635342C4F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1DCE267-DDFC-4295-9537-E0CD085022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8F51E64-09F1-4EA3-9DA6-6DDA67E95BB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9FC778-A428-4BB1-BB2A-0B0F43B8FD0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55B51-44DE-430B-9C16-FD22257F3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09E2EC-D033-47E2-AEAA-1670061FD0A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8B20804-29E8-4133-AFAB-A3543734F3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51F1EA-6B57-4ED4-8623-C35BE088538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9F9D44-A4F4-41D9-ABB2-F2ACA076E9D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AEF61CF-D834-4C60-8FCF-F5B54B8DC4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032B5E-4C92-4153-B09D-B03F8C9B830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153337D-9FDD-4035-8D38-56D7DC3FA16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723906F-1C81-4F5A-8586-DFDF0752CC0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2995CC8-A6FB-425F-BDE1-A0988BCBBC1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E0E41FF-D79A-4409-92E2-7E9E34AC03A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DDE59-23FD-42DC-9042-5E473451A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CB44E90-5EC1-46C6-BFD0-CCB195DDC90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AE0C3AC-E934-4A5E-A046-B4B0DF8A749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C8F72BA-A291-4E0A-9B89-DA5BE4BAD5E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3F395BA-60B6-439E-92FC-28B2B0D426B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0E8CBE-08D4-4244-84A3-34283C430A3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B8F903-E4D9-4D38-8462-1B9DAC040B4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82862B0-4431-4B89-8191-90322BF633F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1DA36CA-673A-4086-92E0-19795D38407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B632A04-E730-4DA5-B0E2-C7EA7F709C9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253D600-B89D-4644-A954-62F4CF3573A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B79C7-B6AE-4BA4-85DC-4C50C9E9DD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D3C3EAC-E084-4706-A542-D35A4E905B2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392BCD0-AC08-4411-B1B1-79DE5E03B10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D32CC8-0A78-40D8-B07C-81F5D591266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14E9BE2-02EE-4A7E-AC76-AFE9DCAD905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212E76B-5D9B-472A-8BF9-96AA586825C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A896B24-EF94-4B55-94F0-039772FCA77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F36B8C-A7BB-4189-A7F5-1CE026D202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200FFB9-9DC2-4B46-BF3A-EB26EE28787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BBCA488-A97E-4A70-877B-2E3F81C8E9C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72AA661-05CA-410E-8B8D-CB150D82542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BEE3-86AA-483E-A56F-D86A6928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C44C4-C9A5-4026-8E75-041731B93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5C11266-62A7-45B8-88C2-AD6BE05DE6F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96EF58A-0430-4AAD-BD1F-E4D6FC5BD2D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C23EED3-4E47-4165-BF00-C5F456A992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4E070B0-A5DB-470A-B4F6-E2A8D28229D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5988066-9293-411E-9F45-561046DBD1A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FFE9F04-7FB9-45B2-ACAF-492F3F51301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AAD6DFA-5DAC-493A-ADA2-38AF9EE45B2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6D12C65-31DA-4299-808D-80839D5D926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E7C19E6-8232-4E6D-AF06-47E968B42D3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AEF728C-FB18-4117-89E4-F916574AE0C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10456-E49D-409B-8E91-CABC1D221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F086136-F2DC-4A5E-8D8B-4AC2AE1A11A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F5074C8-6E16-4B3A-980F-3CB6C83700B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9AA01E9-2040-437F-9E5F-03B2B37BC66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AE5DE04-8257-4646-B634-6FCF9B33885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84D1DD6-5AAE-45DE-AD55-92DA02C0169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778BF8-96AE-4C14-96A5-26BDBC600F6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7422D8-E4FE-4457-930F-8603F40284D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B390721-17FA-4F83-AF14-D5D3E6BE7A5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F041037-19D4-41CF-B402-1A00B4D3966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1291B11-A8E4-4446-9416-2C791688F7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AC48C-9813-473F-BB04-1B7B3E693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2DD79F0-95A3-41C9-9C9D-7F538088DE0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0D7B01B-7714-4DFA-8448-739D0CF316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50515C0-AAEE-4256-815E-1CBDF6E1FA8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8C3DB77-1DFC-4BD9-B41A-DF914F5DB75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DCBD14E-9EEA-4FA4-96FF-AF415C91C68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FFB9797-C6B6-46EE-A128-AD7FB637A0C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2C3F425-6FA5-4B40-9055-7835FC83642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E463673-F7A8-425F-91C7-5489ABA0EA4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010DE0E-B92F-4227-A32B-19CDBE928A6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1910EF8-3CD3-49B9-AF5D-B8BD5D0CA80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AF475-EFBC-4045-9DC5-0228E93AF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E6B1EE8-27D7-498C-96B3-15C8AA7AC1A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8AC6354-2725-4A64-99C4-7938E747BC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4385683-8D88-4A02-A7A4-279E2056BC6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EFB1057-B89F-4322-8E74-A0DE9007BE2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ADD1A32-DEF5-4BFD-BB41-CCB8E6BE08C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42CA926-B5F5-4FB5-A61D-B9FF9923868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D62C7E6-9862-43DC-B8BC-41ABC36E58E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403BEB5-B4CE-4E48-8283-0F323750F2C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526974F-7BFC-43E6-95D6-BB5F096622A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DCEBC72-5626-4851-BB91-65555B6E46A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7906F-D347-4DA7-BAE3-B76C36665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8C1F146-F521-4055-BE57-D0BC6471AB1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07DF80D-B460-4FBA-828E-0BB51E65237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700ABF7-A155-4691-BA96-EEDC67BE7E4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F75FD28-2FB6-4DD3-B266-F0A721A8AA4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79968A5-EF74-4888-97FB-B5724FADD7A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2BAC0C4-B55C-4B8F-950B-FEC4DCF3E14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F665DF4-5432-46DD-B76F-42C1C94527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C79ABF0-D593-4174-8659-4BBC27F10A6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7FBCF49-ED41-41B2-8D23-92D282A43B3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0E6364A-56CA-4B35-8794-437F09B398D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25DA0C-B082-4D99-96DB-4B34537E8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75B9880-EAC6-471C-9BA9-DCC7CC9C0D2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03B82E9-5FF8-4BB3-A5A4-CEED18C1C96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9B4EE57-714F-4DC4-B5E1-C79F7689C03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94D4BC3-D97C-4DA8-9E19-7CAA02EB8C4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160616C-C51A-4B2A-910B-77151E1357E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F76F0C9-00A0-433A-900E-739070B15B7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25ED2F8-3BA2-486F-857E-BDC09CEB67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1F1BD4B-5790-4FA0-B040-E13DB4F663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DB69B9D-3839-4EBF-B45F-0A810DCB564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025ACD6-4F7A-44C2-8F47-2C48C4D83AB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31C65-2DB7-43AC-A0C2-23BE1B680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D2FF120-DA8E-495F-8821-464BA89394F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B6CCB-AA1B-44E2-BD82-B70BB21188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702B6F-C885-4120-868A-5A00B8C4C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675D9-2431-4D1C-8AE8-550A430C2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84C94-8529-481E-A62A-51CF683D8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BCFCA-59DD-4814-866D-869FB5923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7BCAD-CCE0-4671-9239-EE265D292B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54622-163E-4384-9F82-CE2A195DC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02A31-40A6-426E-B2D2-851C85B5C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0011A-46FB-4D9B-83BB-F71091912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83105-D11D-4514-B2B6-3CAC64137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7915B-BC23-4B16-B145-66B0569A5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CA776E-9D1C-4E22-9B3E-0454C176D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D2C0CB-5687-4D9E-9CF7-79B63D8CF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9C757B-5258-44EB-8C56-84E0E6B19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1966-4F3A-4A22-9AD9-15DE928D9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F8F99-E790-439B-9908-434685C16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7C5CED-E792-4DF0-BF2D-0C74EDA5D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3E884-4ECB-4EA8-A6BD-8FDD2518D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9767B-DA19-4414-8103-E650EB1CA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FEA13-3F14-41D1-AF03-1EE1A5A90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1DBAB-5E43-4657-B218-DF7252138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6ECB9-4B30-415B-A428-C0DCF716B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8226F-C14F-49C2-88D3-D500CD58F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342B4-89C6-4F57-9BC9-D70628323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1EB69C-5935-46FA-B6F4-682669AE0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E417-B552-4D03-AC2B-F3B6F57DA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821405-D8AA-4F34-A62D-6EAB7FFD25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883687-29B1-423B-A101-3E84CC739E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EB4BF8-3A4F-425D-94AC-AAB0F3A22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D4287-FCF8-48E9-A87E-7ADA4C6E7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B5D16A-8EA1-4F20-B2E1-5CC5660A6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0CFFC-3D87-4F99-B189-6AD9AA037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93476-2809-43E0-BDA6-0906E300D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A3CBF-5209-4C57-BC4C-F7CE333A5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470D7-FB10-49C1-A1A7-0AE6396B3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5F73F-98F6-4532-A711-E7E172AAE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D3061-8230-4EEA-B579-54649A249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AB2F9-4F89-4E04-A6D2-EA01D63A0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DBB3D-F1A3-45AA-BA2F-8C5F3C2ED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26F048-44A9-42E6-9073-022EA76B3B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025649-7CDB-4771-AC54-E7D460CDB1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8F6BC-2F11-4F3C-8CC8-D45D58F0E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AF791-5E72-47E0-8EB0-A34E420E7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1AAE6-80B9-462A-9F4D-6D73097E6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46ECC-6830-42BD-A472-9A6C21026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14DAE-9312-4830-8912-149D3BB6A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76F48-AB85-47DB-906D-506E8D97E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A9FC-A1D2-47FF-89CE-C8881A44F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4E401-E348-412F-BBC0-2AA2E81AD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BE126-02BE-4DDE-B718-281C23F29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252C7E-4A16-4E04-8FDF-571688F985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AE30D3-4ADA-4ACC-B6CE-91C4D40AF8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B0C9C2-D02C-4DFF-938A-7C1A749E6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AB88C1-B304-4658-AE54-5D48FD2316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6AD85-341B-44A8-A608-551571F00C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42CD5-A98B-44F8-819B-B3C12D7872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3FB73-8D69-4A3E-80CD-8A8658B4C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F3750-9726-4C69-922C-B36994897E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62E2-4840-4BBD-8F66-8401DC3D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C0A2E-D5F5-4EE8-8997-59D7AEFEC6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FB426-20F3-4E7F-BAE1-7933C9F97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CEAFC8-334B-4A36-9F24-BBA8AC440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E4896-78F5-4582-A970-682B79645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AF2A5-6215-4B2B-BF13-AA925E2D92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E9B6D3-3BCA-4B37-B4F3-EB62DB04A0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72DAFF-3CA7-4DC5-A546-3D82DF5BAC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BC7655-2A18-4715-840D-45EF303ECB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D0011-D8F9-4FD1-9529-42E87BC164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03E38C-3795-45AB-9777-4521028B6D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0440-2B86-444D-815A-7F31E71FEE7A}" type="datetime">
              <a:rPr b="0" lang="it-IT"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FA25-28E7-406B-8117-BAA91AD1743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5D5C-8C98-4CF9-942C-14A3D2E6C11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8"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42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156F-7C3D-4C8F-9D52-7A13AED3DF0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46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3960-327E-4D3C-A838-B54839FFA63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50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04BD-FF86-48D3-8A8D-082CEBB2D66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4"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5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5E68-239F-4C25-8D93-B77DF69B493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9"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590"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D660-7DEC-401E-9983-AFCD13008BD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8"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9E5B-3A27-4A12-B216-A8F10A243ED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67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25AD-26CD-4FBF-8E6D-D221EF93227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2"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71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DBE8-B5D7-4987-99F6-C5542788B6A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75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31B5-D227-4375-971F-B91CA28AA4B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F13B-3E72-4BC9-91E1-B897A2710230}" type="datetime">
              <a:rPr b="0" lang="it-IT"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467E-92E2-4FE2-9565-17F28F960AB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9"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800"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ECEE-4D87-402D-9B09-98FFFCCF0DF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1"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842"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F2FC-36FD-43DE-A6D3-33D8F89CF07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88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C568-A232-4C22-943F-301E70163FD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2"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5"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926"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62A6-8B47-4884-8386-00245F0A2E4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4"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96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2D4B-F231-48CC-8DEC-C44A296AB51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01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81FC-0E47-44BB-8CB9-DC071372AB3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8"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1"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052"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FBFA-46F3-4A35-A717-541669D4B0C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0"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3"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094"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9DB3-BDE2-4C13-9395-6DC0B2FF71B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2"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35"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136"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8F9D-FE86-495D-8508-B35452AE797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4"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7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17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6685-AE47-4ECE-AF60-9CFE77DD9AC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6/07/2015</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FC01-5AE9-4317-B654-6814E1D56D7A}"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9"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220"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5473-A88A-4CD1-8E48-816AC2064A5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6/07/2015</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3441-B344-48DA-946D-22A5E6D59A31}"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9"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03D1-8EAF-4EE9-AC78-8C1F20B4E34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1D07-2D07-4585-99F8-7FAC3F22B64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25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3C4-259E-495C-95BD-3DED7AE4604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80C9-527C-4E89-9AF1-292E707C4D4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Rectangle 7"/>
          <p:cNvSpPr/>
          <p:nvPr/>
        </p:nvSpPr>
        <p:spPr>
          <a:xfrm>
            <a:off x="1063800" y="0"/>
            <a:ext cx="8094600" cy="10526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1"/>
          <p:cNvSpPr>
            <a:spLocks noGrp="1"/>
          </p:cNvSpPr>
          <p:nvPr>
            <p:ph type="title"/>
          </p:nvPr>
        </p:nvSpPr>
        <p:spPr>
          <a:xfrm>
            <a:off x="91440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6/07/2015</a:t>
            </a:r>
            <a:endParaRPr b="0" lang="en-US" sz="1400" spc="-1" strike="noStrike">
              <a:solidFill>
                <a:srgbClr val="000000"/>
              </a:solidFill>
              <a:latin typeface="Times New Roman"/>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592C-DBE7-411C-B662-7D2E3F05D7F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wmf"/><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wmf"/><Relationship Id="rId3" Type="http://schemas.openxmlformats.org/officeDocument/2006/relationships/slideLayout" Target="../slideLayouts/slideLayout12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wmf"/><Relationship Id="rId3"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wmf"/><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wmf"/><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25.wmf"/><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29.wmf"/><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0.wmf"/><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1.wmf"/><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5.wmf"/><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2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2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2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2"/>
          <p:cNvSpPr/>
          <p:nvPr/>
        </p:nvSpPr>
        <p:spPr>
          <a:xfrm>
            <a:off x="1925640" y="260280"/>
            <a:ext cx="631836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Conferenza Territoriale </a:t>
            </a:r>
            <a:br>
              <a:rPr sz="2400"/>
            </a:br>
            <a:r>
              <a:rPr b="1" lang="it-IT" sz="2400" spc="-1" strike="noStrike">
                <a:solidFill>
                  <a:srgbClr val="ffffff"/>
                </a:solidFill>
                <a:latin typeface="Trebuchet MS"/>
              </a:rPr>
              <a:t>Sociale e Sanitaria</a:t>
            </a:r>
            <a:endParaRPr b="0" lang="en-US" sz="2400" spc="-1" strike="noStrike">
              <a:solidFill>
                <a:srgbClr val="000000"/>
              </a:solidFill>
              <a:latin typeface="Times New Roman"/>
            </a:endParaRPr>
          </a:p>
        </p:txBody>
      </p:sp>
      <p:sp>
        <p:nvSpPr>
          <p:cNvPr id="1266" name="Rectangle 29"/>
          <p:cNvSpPr/>
          <p:nvPr/>
        </p:nvSpPr>
        <p:spPr>
          <a:xfrm>
            <a:off x="2340000" y="2165400"/>
            <a:ext cx="5751360" cy="34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4800" spc="-1" strike="noStrike">
                <a:solidFill>
                  <a:srgbClr val="009959"/>
                </a:solidFill>
                <a:latin typeface="Trebuchet MS"/>
              </a:rPr>
              <a:t>Bilanci di esercizio 2022 delle Aziende Sanitarie dell’Area di Bologna</a:t>
            </a:r>
            <a:br>
              <a:rPr sz="4800"/>
            </a:br>
            <a:r>
              <a:rPr b="1" lang="it-IT" sz="2400" spc="-1" strike="noStrike">
                <a:solidFill>
                  <a:srgbClr val="339933"/>
                </a:solidFill>
                <a:latin typeface="Trebuchet MS"/>
              </a:rPr>
              <a:t>                      </a:t>
            </a:r>
            <a:br>
              <a:rPr sz="1600"/>
            </a:br>
            <a:br>
              <a:rPr sz="1600"/>
            </a:br>
            <a:r>
              <a:rPr b="1" lang="it-IT" sz="1800" spc="-1" strike="noStrike">
                <a:solidFill>
                  <a:srgbClr val="009959"/>
                </a:solidFill>
                <a:latin typeface="Trebuchet MS"/>
              </a:rPr>
              <a:t>Bologna, 9 maggio 2023</a:t>
            </a:r>
            <a:endParaRPr b="0" lang="en-US" sz="1800" spc="-1" strike="noStrike">
              <a:solidFill>
                <a:srgbClr val="000000"/>
              </a:solidFill>
              <a:latin typeface="Times New Roman"/>
            </a:endParaRPr>
          </a:p>
        </p:txBody>
      </p:sp>
      <p:grpSp>
        <p:nvGrpSpPr>
          <p:cNvPr id="1267" name="Group 2"/>
          <p:cNvGrpSpPr/>
          <p:nvPr/>
        </p:nvGrpSpPr>
        <p:grpSpPr>
          <a:xfrm>
            <a:off x="2087640" y="1197000"/>
            <a:ext cx="5778360" cy="647640"/>
            <a:chOff x="2087640" y="1197000"/>
            <a:chExt cx="5778360" cy="647640"/>
          </a:xfrm>
        </p:grpSpPr>
        <p:pic>
          <p:nvPicPr>
            <p:cNvPr id="1268" name="Immagine 4" descr="COLORETRAS"/>
            <p:cNvPicPr/>
            <p:nvPr/>
          </p:nvPicPr>
          <p:blipFill>
            <a:blip r:embed="rId1"/>
            <a:stretch/>
          </p:blipFill>
          <p:spPr>
            <a:xfrm>
              <a:off x="6531480" y="1228680"/>
              <a:ext cx="1334520" cy="471240"/>
            </a:xfrm>
            <a:prstGeom prst="rect">
              <a:avLst/>
            </a:prstGeom>
            <a:ln w="0">
              <a:noFill/>
            </a:ln>
          </p:spPr>
        </p:pic>
        <p:pic>
          <p:nvPicPr>
            <p:cNvPr id="1269" name="Immagine 1" descr="Alto"/>
            <p:cNvPicPr/>
            <p:nvPr/>
          </p:nvPicPr>
          <p:blipFill>
            <a:blip r:embed="rId2"/>
            <a:srcRect l="0" t="0" r="0" b="32621"/>
            <a:stretch/>
          </p:blipFill>
          <p:spPr>
            <a:xfrm>
              <a:off x="2087640" y="1197000"/>
              <a:ext cx="4419720" cy="6476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egnaposto numero diapositiva 1"/>
          <p:cNvSpPr/>
          <p:nvPr/>
        </p:nvSpPr>
        <p:spPr>
          <a:xfrm>
            <a:off x="7010280" y="63658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9117-E48B-4F66-B820-EA3F45FFA560}"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07"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08" name="Text Box 15"/>
          <p:cNvSpPr/>
          <p:nvPr/>
        </p:nvSpPr>
        <p:spPr>
          <a:xfrm>
            <a:off x="6012000" y="249120"/>
            <a:ext cx="2927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Spesa Assistenza Farmaceutica</a:t>
            </a:r>
            <a:endParaRPr b="0" lang="en-US" sz="2000" spc="-1" strike="noStrike">
              <a:solidFill>
                <a:srgbClr val="000000"/>
              </a:solidFill>
              <a:latin typeface="Times New Roman"/>
            </a:endParaRPr>
          </a:p>
        </p:txBody>
      </p:sp>
      <p:sp>
        <p:nvSpPr>
          <p:cNvPr id="1309" name="Text Box 15"/>
          <p:cNvSpPr/>
          <p:nvPr/>
        </p:nvSpPr>
        <p:spPr>
          <a:xfrm>
            <a:off x="1217520" y="5157720"/>
            <a:ext cx="7790040" cy="1311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spesa complessiva 2022 (convenzionata + acquisto ospedaliero) registra un incremento del +2,9% rispetto al 2021.</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9966"/>
                </a:solidFill>
                <a:latin typeface="Arial"/>
                <a:ea typeface="Arial"/>
              </a:rPr>
              <a:t>Acquisto Ospedaliero di Farmaci. </a:t>
            </a:r>
            <a:r>
              <a:rPr b="0" lang="it-IT" sz="1000" spc="-1" strike="noStrike">
                <a:solidFill>
                  <a:srgbClr val="000000"/>
                </a:solidFill>
                <a:latin typeface="Arial"/>
                <a:ea typeface="Arial"/>
              </a:rPr>
              <a:t>Si osserva un incremento (2022 vs 2021) pari a +2,3% a fronte di una media regionale del +6,1%.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spesa in incremento riguarda prevalentemente la Distribuzione diretta di Farmaci per malattie rare e la Distribuzione «per conto» da parte delle farmacie.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spesa convenzionata netta pro capite pesata 2022 è pari a € 123,34 con uno scostamento dalla media RER di € 12,14. </a:t>
            </a:r>
            <a:endParaRPr b="0" lang="en-US" sz="1000" spc="-1" strike="noStrike">
              <a:solidFill>
                <a:srgbClr val="000000"/>
              </a:solidFill>
              <a:latin typeface="Times New Roman"/>
            </a:endParaRPr>
          </a:p>
        </p:txBody>
      </p:sp>
      <p:pic>
        <p:nvPicPr>
          <p:cNvPr id="1310" name="Immagine 2" descr=""/>
          <p:cNvPicPr/>
          <p:nvPr/>
        </p:nvPicPr>
        <p:blipFill>
          <a:blip r:embed="rId2"/>
          <a:stretch/>
        </p:blipFill>
        <p:spPr>
          <a:xfrm>
            <a:off x="1692360" y="1168560"/>
            <a:ext cx="6624720" cy="39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Segnaposto numero diapositiva 1"/>
          <p:cNvSpPr/>
          <p:nvPr/>
        </p:nvSpPr>
        <p:spPr>
          <a:xfrm>
            <a:off x="7010280" y="63658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2ABD-1405-4CD9-BC0C-978196FFFBC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12"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13" name="Text Box 15"/>
          <p:cNvSpPr/>
          <p:nvPr/>
        </p:nvSpPr>
        <p:spPr>
          <a:xfrm>
            <a:off x="6012000" y="171360"/>
            <a:ext cx="2927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Acquis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Servizi non sanitari</a:t>
            </a:r>
            <a:endParaRPr b="0" lang="en-US" sz="2000" spc="-1" strike="noStrike">
              <a:solidFill>
                <a:srgbClr val="000000"/>
              </a:solidFill>
              <a:latin typeface="Times New Roman"/>
            </a:endParaRPr>
          </a:p>
        </p:txBody>
      </p:sp>
      <p:sp>
        <p:nvSpPr>
          <p:cNvPr id="1314" name="Text Box 15"/>
          <p:cNvSpPr/>
          <p:nvPr/>
        </p:nvSpPr>
        <p:spPr>
          <a:xfrm>
            <a:off x="1187280" y="2276640"/>
            <a:ext cx="78487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ggregato di spesa relativo all’acquisto di </a:t>
            </a:r>
            <a:r>
              <a:rPr b="1" lang="it-IT" sz="1100" spc="-1" strike="noStrike">
                <a:solidFill>
                  <a:srgbClr val="009959"/>
                </a:solidFill>
                <a:latin typeface="Arial"/>
                <a:ea typeface="Arial"/>
              </a:rPr>
              <a:t>Servizi non sanitari </a:t>
            </a:r>
            <a:r>
              <a:rPr b="0" lang="it-IT" sz="1100" spc="-1" strike="noStrike">
                <a:solidFill>
                  <a:srgbClr val="000000"/>
                </a:solidFill>
                <a:latin typeface="Arial"/>
                <a:ea typeface="Arial"/>
              </a:rPr>
              <a:t>registra un incremento di € +4,391 milioni rispetto al consuntivo 2021 (+26,5%). Il principale determinante dell’aumento è la spesa per </a:t>
            </a:r>
            <a:r>
              <a:rPr b="0" lang="it-IT" sz="1100" spc="-1" strike="noStrike" u="sng">
                <a:solidFill>
                  <a:srgbClr val="000000"/>
                </a:solidFill>
                <a:uFillTx/>
                <a:latin typeface="Arial"/>
                <a:ea typeface="Arial"/>
              </a:rPr>
              <a:t>Energia elettrica e Riscaldamento</a:t>
            </a:r>
            <a:r>
              <a:rPr b="0" lang="it-IT" sz="1100" spc="-1" strike="noStrike">
                <a:solidFill>
                  <a:srgbClr val="000000"/>
                </a:solidFill>
                <a:latin typeface="Arial"/>
                <a:ea typeface="Arial"/>
              </a:rPr>
              <a:t> che complessivamente presentano un aumento di € +5.541.133 milioni rispetto al 2021 (+174,59%).</a:t>
            </a:r>
            <a:endParaRPr b="0" lang="en-US" sz="1100" spc="-1" strike="noStrike">
              <a:solidFill>
                <a:srgbClr val="000000"/>
              </a:solidFill>
              <a:latin typeface="Times New Roman"/>
            </a:endParaRPr>
          </a:p>
        </p:txBody>
      </p:sp>
      <p:pic>
        <p:nvPicPr>
          <p:cNvPr id="1315" name="Immagine 25" descr=""/>
          <p:cNvPicPr/>
          <p:nvPr/>
        </p:nvPicPr>
        <p:blipFill>
          <a:blip r:embed="rId2"/>
          <a:stretch/>
        </p:blipFill>
        <p:spPr>
          <a:xfrm>
            <a:off x="1960560" y="1341360"/>
            <a:ext cx="6211800" cy="831960"/>
          </a:xfrm>
          <a:prstGeom prst="rect">
            <a:avLst/>
          </a:prstGeom>
          <a:ln w="0">
            <a:noFill/>
          </a:ln>
        </p:spPr>
      </p:pic>
      <p:pic>
        <p:nvPicPr>
          <p:cNvPr id="1316" name="Immagine 1" descr=""/>
          <p:cNvPicPr/>
          <p:nvPr/>
        </p:nvPicPr>
        <p:blipFill>
          <a:blip r:embed="rId3"/>
          <a:stretch/>
        </p:blipFill>
        <p:spPr>
          <a:xfrm>
            <a:off x="1835280" y="3284640"/>
            <a:ext cx="6599160" cy="27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Segnaposto numero diapositiva 1"/>
          <p:cNvSpPr/>
          <p:nvPr/>
        </p:nvSpPr>
        <p:spPr>
          <a:xfrm>
            <a:off x="6966000" y="654840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4ACC-91F0-49E9-8CD6-D2C114D21DA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18"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19" name="CasellaDiTesto 2"/>
          <p:cNvSpPr/>
          <p:nvPr/>
        </p:nvSpPr>
        <p:spPr>
          <a:xfrm>
            <a:off x="5076720" y="333720"/>
            <a:ext cx="36100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Risorse Umane 2022-2021</a:t>
            </a:r>
            <a:endParaRPr b="0" lang="en-US" sz="2000" spc="-1" strike="noStrike">
              <a:solidFill>
                <a:srgbClr val="000000"/>
              </a:solidFill>
              <a:latin typeface="Times New Roman"/>
            </a:endParaRPr>
          </a:p>
        </p:txBody>
      </p:sp>
      <p:sp>
        <p:nvSpPr>
          <p:cNvPr id="1320" name="Text Box 15"/>
          <p:cNvSpPr/>
          <p:nvPr/>
        </p:nvSpPr>
        <p:spPr>
          <a:xfrm>
            <a:off x="1114560" y="4729320"/>
            <a:ext cx="79246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l </a:t>
            </a:r>
            <a:r>
              <a:rPr b="0" lang="it-IT" sz="1000" spc="-1" strike="noStrike" u="sng">
                <a:solidFill>
                  <a:srgbClr val="000000"/>
                </a:solidFill>
                <a:uFillTx/>
                <a:latin typeface="Arial"/>
                <a:ea typeface="Arial"/>
              </a:rPr>
              <a:t>costo del personale dipendente e delle risorse umane complessive</a:t>
            </a:r>
            <a:r>
              <a:rPr b="0" lang="it-IT" sz="1000" spc="-1" strike="noStrike">
                <a:solidFill>
                  <a:srgbClr val="000000"/>
                </a:solidFill>
                <a:latin typeface="Arial"/>
                <a:ea typeface="Arial"/>
              </a:rPr>
              <a:t>, rappresentato in bilancio nei conti economici di competenza e nei conti economici delle poste straordinarie delle sopravvenienze passive e attive per gli oneri contrattuali arretrati, registra un risultato finale pari a € +2,715 milioni (+2,71%) rispetto al consuntivo 2021 ed € +3,875 milioni rispetto al preventivo 2022.</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 costi comprendono anche i costi relativi al rinnovo contrattuale dell’area del comparto per il triennio 2019-2021 siglato in data 2.11.2022.</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spesa personale dipendente comprende, altresì, IVC 2019-2021 per la dirigenza e IVC 2022-2024 per comparto e dirigenza, per l’annualità, nonché l’indennità di Pronto Soccorso del comparto, l’aumento del trattamento accessorio (0,22% del comparto), l’ordinamento professionale del comparto (0,55%) ex art. 102 comma 5 CCNL 2.11.2022, e legge Gelli relativa all’annualità 2022 (montante 2019-22). </a:t>
            </a:r>
            <a:endParaRPr b="0" lang="en-US" sz="1000" spc="-1" strike="noStrike">
              <a:solidFill>
                <a:srgbClr val="000000"/>
              </a:solidFill>
              <a:latin typeface="Times New Roman"/>
            </a:endParaRPr>
          </a:p>
        </p:txBody>
      </p:sp>
      <p:pic>
        <p:nvPicPr>
          <p:cNvPr id="1321" name="Immagine 1" descr=""/>
          <p:cNvPicPr/>
          <p:nvPr/>
        </p:nvPicPr>
        <p:blipFill>
          <a:blip r:embed="rId2"/>
          <a:stretch/>
        </p:blipFill>
        <p:spPr>
          <a:xfrm>
            <a:off x="1476360" y="1139760"/>
            <a:ext cx="7294680" cy="348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Segnaposto numero diapositiva 1"/>
          <p:cNvSpPr/>
          <p:nvPr/>
        </p:nvSpPr>
        <p:spPr>
          <a:xfrm>
            <a:off x="6912000" y="638640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C383-6C51-4E03-8018-5A2C315DDA4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23"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24" name="CasellaDiTesto 2"/>
          <p:cNvSpPr/>
          <p:nvPr/>
        </p:nvSpPr>
        <p:spPr>
          <a:xfrm>
            <a:off x="5219640" y="181440"/>
            <a:ext cx="3467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Personale dipendente 2022-2020</a:t>
            </a:r>
            <a:endParaRPr b="0" lang="en-US" sz="2000" spc="-1" strike="noStrike">
              <a:solidFill>
                <a:srgbClr val="000000"/>
              </a:solidFill>
              <a:latin typeface="Times New Roman"/>
            </a:endParaRPr>
          </a:p>
        </p:txBody>
      </p:sp>
      <p:sp>
        <p:nvSpPr>
          <p:cNvPr id="1325" name="Text Box 15"/>
          <p:cNvSpPr/>
          <p:nvPr/>
        </p:nvSpPr>
        <p:spPr>
          <a:xfrm>
            <a:off x="1241280" y="4599000"/>
            <a:ext cx="7723440" cy="999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 tabella mostra i dati relativi esclusivamente al personale dipendente conteggiati alla data 31/12. </a:t>
            </a:r>
            <a:endParaRPr b="0" lang="en-US" sz="11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 variazione tra il 2022 e il 2021 registra un decremento complessivo pari a -0,82%.  </a:t>
            </a:r>
            <a:endParaRPr b="0" lang="en-US" sz="11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  </a:t>
            </a:r>
            <a:endParaRPr b="0" lang="en-US" sz="1100" spc="-1" strike="noStrike">
              <a:solidFill>
                <a:srgbClr val="000000"/>
              </a:solidFill>
              <a:latin typeface="Times New Roman"/>
            </a:endParaRPr>
          </a:p>
        </p:txBody>
      </p:sp>
      <p:pic>
        <p:nvPicPr>
          <p:cNvPr id="1326" name="Immagine 5" descr=""/>
          <p:cNvPicPr/>
          <p:nvPr/>
        </p:nvPicPr>
        <p:blipFill>
          <a:blip r:embed="rId2"/>
          <a:stretch/>
        </p:blipFill>
        <p:spPr>
          <a:xfrm>
            <a:off x="2525760" y="1130400"/>
            <a:ext cx="5067360" cy="320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egnaposto numero diapositiva 1"/>
          <p:cNvSpPr/>
          <p:nvPr/>
        </p:nvSpPr>
        <p:spPr>
          <a:xfrm>
            <a:off x="6881760" y="64501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D1A8-37AF-4291-9774-FEA879ED95E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28"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29" name="Text Box 15"/>
          <p:cNvSpPr/>
          <p:nvPr/>
        </p:nvSpPr>
        <p:spPr>
          <a:xfrm>
            <a:off x="5005440" y="169920"/>
            <a:ext cx="375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Fondo Regionale per la Non Autosufficienza (FRNA) 2022</a:t>
            </a:r>
            <a:endParaRPr b="0" lang="en-US" sz="2000" spc="-1" strike="noStrike">
              <a:solidFill>
                <a:srgbClr val="000000"/>
              </a:solidFill>
              <a:latin typeface="Times New Roman"/>
            </a:endParaRPr>
          </a:p>
        </p:txBody>
      </p:sp>
      <p:sp>
        <p:nvSpPr>
          <p:cNvPr id="1330" name="CasellaDiTesto 5"/>
          <p:cNvSpPr/>
          <p:nvPr/>
        </p:nvSpPr>
        <p:spPr>
          <a:xfrm>
            <a:off x="1365120" y="1130400"/>
            <a:ext cx="765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Assegnazione Regionale Risorse per la Non Autosufficienza Anno 2022 - DGR 2028 21/11/2022</a:t>
            </a:r>
            <a:endParaRPr b="0" lang="en-US" sz="1200" spc="-1" strike="noStrike">
              <a:solidFill>
                <a:srgbClr val="000000"/>
              </a:solidFill>
              <a:latin typeface="Times New Roman"/>
            </a:endParaRPr>
          </a:p>
        </p:txBody>
      </p:sp>
      <p:sp>
        <p:nvSpPr>
          <p:cNvPr id="1331" name="CasellaDiTesto 3"/>
          <p:cNvSpPr/>
          <p:nvPr/>
        </p:nvSpPr>
        <p:spPr>
          <a:xfrm>
            <a:off x="1179360" y="5551560"/>
            <a:ext cx="78361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L’ammontare complessivo delle risorse 2022 assegnate alla non autosufficienza per il bacino territoriale dell’AUSL di Imola raggiunge il valore complessivo di € 17.135.430,66 se si considerano i residui FRNA e FNA 2021. </a:t>
            </a: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l netto dei residui il valore assegnato di €15.360.380 mostra un incremento del +2,4% rispetto al 2021, crescita ascrivibile al maggior finanziamento FNA e all’incremento di Altre Risorse. </a:t>
            </a:r>
            <a:endParaRPr b="0" lang="en-US" sz="1100" spc="-1" strike="noStrike">
              <a:solidFill>
                <a:srgbClr val="000000"/>
              </a:solidFill>
              <a:latin typeface="Times New Roman"/>
            </a:endParaRPr>
          </a:p>
        </p:txBody>
      </p:sp>
      <p:pic>
        <p:nvPicPr>
          <p:cNvPr id="1332" name="Immagine 2" descr=""/>
          <p:cNvPicPr/>
          <p:nvPr/>
        </p:nvPicPr>
        <p:blipFill>
          <a:blip r:embed="rId2"/>
          <a:stretch/>
        </p:blipFill>
        <p:spPr>
          <a:xfrm>
            <a:off x="1835280" y="1417680"/>
            <a:ext cx="6613560" cy="402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Segnaposto numero diapositiva 1"/>
          <p:cNvSpPr/>
          <p:nvPr/>
        </p:nvSpPr>
        <p:spPr>
          <a:xfrm>
            <a:off x="6999120" y="642456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743E-86C3-4DD0-A174-9AC1F961876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34"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35" name="Text Box 15"/>
          <p:cNvSpPr/>
          <p:nvPr/>
        </p:nvSpPr>
        <p:spPr>
          <a:xfrm>
            <a:off x="5005440" y="169920"/>
            <a:ext cx="375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Fondo Regionale per la Non Autosufficienza (FRNA) 2022</a:t>
            </a:r>
            <a:endParaRPr b="0" lang="en-US" sz="2000" spc="-1" strike="noStrike">
              <a:solidFill>
                <a:srgbClr val="000000"/>
              </a:solidFill>
              <a:latin typeface="Times New Roman"/>
            </a:endParaRPr>
          </a:p>
        </p:txBody>
      </p:sp>
      <p:sp>
        <p:nvSpPr>
          <p:cNvPr id="1336" name="CasellaDiTesto 5"/>
          <p:cNvSpPr/>
          <p:nvPr/>
        </p:nvSpPr>
        <p:spPr>
          <a:xfrm>
            <a:off x="2817000" y="1133640"/>
            <a:ext cx="4376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Utilizzo delle risorse per la non autosufficienza anno 2022</a:t>
            </a:r>
            <a:endParaRPr b="0" lang="en-US" sz="1200" spc="-1" strike="noStrike">
              <a:solidFill>
                <a:srgbClr val="000000"/>
              </a:solidFill>
              <a:latin typeface="Times New Roman"/>
            </a:endParaRPr>
          </a:p>
        </p:txBody>
      </p:sp>
      <p:pic>
        <p:nvPicPr>
          <p:cNvPr id="1337" name="Immagine 2" descr=""/>
          <p:cNvPicPr/>
          <p:nvPr/>
        </p:nvPicPr>
        <p:blipFill>
          <a:blip r:embed="rId2"/>
          <a:stretch/>
        </p:blipFill>
        <p:spPr>
          <a:xfrm>
            <a:off x="3081240" y="1557360"/>
            <a:ext cx="4014720" cy="785880"/>
          </a:xfrm>
          <a:prstGeom prst="rect">
            <a:avLst/>
          </a:prstGeom>
          <a:ln w="0">
            <a:noFill/>
          </a:ln>
        </p:spPr>
      </p:pic>
      <p:pic>
        <p:nvPicPr>
          <p:cNvPr id="1338" name="Immagine 3" descr=""/>
          <p:cNvPicPr/>
          <p:nvPr/>
        </p:nvPicPr>
        <p:blipFill>
          <a:blip r:embed="rId3"/>
          <a:stretch/>
        </p:blipFill>
        <p:spPr>
          <a:xfrm>
            <a:off x="3081240" y="2444760"/>
            <a:ext cx="4083120" cy="2454120"/>
          </a:xfrm>
          <a:prstGeom prst="rect">
            <a:avLst/>
          </a:prstGeom>
          <a:ln w="0">
            <a:noFill/>
          </a:ln>
        </p:spPr>
      </p:pic>
      <p:sp>
        <p:nvSpPr>
          <p:cNvPr id="1339" name="CasellaDiTesto 5"/>
          <p:cNvSpPr/>
          <p:nvPr/>
        </p:nvSpPr>
        <p:spPr>
          <a:xfrm>
            <a:off x="1187280" y="5156280"/>
            <a:ext cx="7848720" cy="1173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Nel 2022, la </a:t>
            </a:r>
            <a:r>
              <a:rPr b="1" lang="it-IT" sz="1100" spc="-1" strike="noStrike">
                <a:solidFill>
                  <a:srgbClr val="339966"/>
                </a:solidFill>
                <a:latin typeface="Arial"/>
              </a:rPr>
              <a:t>spesa per la non autosufficienza</a:t>
            </a:r>
            <a:r>
              <a:rPr b="0" lang="it-IT" sz="1100" spc="-1" strike="noStrike">
                <a:solidFill>
                  <a:srgbClr val="000000"/>
                </a:solidFill>
                <a:latin typeface="Arial"/>
              </a:rPr>
              <a:t>, rappresentata per aree di intervento, mostra un consuntivo 2022 (FRNA, FNA e Vari Fondi) pari a € 15.692.593,05, al netto delle sopravvenienze e insussistenze (€ 4.201,51). </a:t>
            </a:r>
            <a:endParaRPr b="0" lang="en-US" sz="11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l consuntivo 2022 rileva, a confronto con l’anno precedente, mediamente un incremento sulle diverse aree di circa il +7% nell’utilizzo dei finanziamenti. Gli incrementi hanno interessato, in particolare, interventi a favore della domiciliarità.</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F729-8EF7-45D5-B99D-F9B90D35784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41"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42" name="Text Box 15"/>
          <p:cNvSpPr/>
          <p:nvPr/>
        </p:nvSpPr>
        <p:spPr>
          <a:xfrm>
            <a:off x="5005440" y="169920"/>
            <a:ext cx="375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Fondo Regionale per la Non Autosufficienza (FRNA) 2022</a:t>
            </a:r>
            <a:endParaRPr b="0" lang="en-US" sz="2000" spc="-1" strike="noStrike">
              <a:solidFill>
                <a:srgbClr val="000000"/>
              </a:solidFill>
              <a:latin typeface="Times New Roman"/>
            </a:endParaRPr>
          </a:p>
        </p:txBody>
      </p:sp>
      <p:pic>
        <p:nvPicPr>
          <p:cNvPr id="1343" name="Immagine 1" descr=""/>
          <p:cNvPicPr/>
          <p:nvPr/>
        </p:nvPicPr>
        <p:blipFill>
          <a:blip r:embed="rId2"/>
          <a:stretch/>
        </p:blipFill>
        <p:spPr>
          <a:xfrm>
            <a:off x="2992320" y="1122480"/>
            <a:ext cx="4243680" cy="1849320"/>
          </a:xfrm>
          <a:prstGeom prst="rect">
            <a:avLst/>
          </a:prstGeom>
          <a:ln w="0">
            <a:noFill/>
          </a:ln>
        </p:spPr>
      </p:pic>
      <p:pic>
        <p:nvPicPr>
          <p:cNvPr id="1344" name="Immagine 2" descr=""/>
          <p:cNvPicPr/>
          <p:nvPr/>
        </p:nvPicPr>
        <p:blipFill>
          <a:blip r:embed="rId3"/>
          <a:stretch/>
        </p:blipFill>
        <p:spPr>
          <a:xfrm>
            <a:off x="3043080" y="3303720"/>
            <a:ext cx="4192920" cy="301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Segnaposto numero diapositiva 1"/>
          <p:cNvSpPr/>
          <p:nvPr/>
        </p:nvSpPr>
        <p:spPr>
          <a:xfrm>
            <a:off x="6831000" y="6224760"/>
            <a:ext cx="2133720" cy="475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615-B3F5-4955-A4F8-6A1AFD42A8B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46"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47" name="Text Box 15"/>
          <p:cNvSpPr/>
          <p:nvPr/>
        </p:nvSpPr>
        <p:spPr>
          <a:xfrm>
            <a:off x="5148360" y="428760"/>
            <a:ext cx="40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INVESTIMENTI 2022</a:t>
            </a:r>
            <a:endParaRPr b="0" lang="en-US" sz="2000" spc="-1" strike="noStrike">
              <a:solidFill>
                <a:srgbClr val="000000"/>
              </a:solidFill>
              <a:latin typeface="Times New Roman"/>
            </a:endParaRPr>
          </a:p>
        </p:txBody>
      </p:sp>
      <p:sp>
        <p:nvSpPr>
          <p:cNvPr id="1348" name="CasellaDiTesto 4"/>
          <p:cNvSpPr/>
          <p:nvPr/>
        </p:nvSpPr>
        <p:spPr>
          <a:xfrm>
            <a:off x="1257480" y="1114560"/>
            <a:ext cx="770544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Times New Roman"/>
              </a:rPr>
              <a:t>Interventi previsti nel Piano investimenti realizzati con fondi esclusivamente aziendali</a:t>
            </a:r>
            <a:endParaRPr b="0" lang="en-US" sz="1400" spc="-1" strike="noStrike">
              <a:solidFill>
                <a:srgbClr val="000000"/>
              </a:solidFill>
              <a:latin typeface="Times New Roman"/>
            </a:endParaRPr>
          </a:p>
        </p:txBody>
      </p:sp>
      <p:pic>
        <p:nvPicPr>
          <p:cNvPr id="1349" name="Immagine 1" descr=""/>
          <p:cNvPicPr/>
          <p:nvPr/>
        </p:nvPicPr>
        <p:blipFill>
          <a:blip r:embed="rId2"/>
          <a:stretch/>
        </p:blipFill>
        <p:spPr>
          <a:xfrm>
            <a:off x="2576520" y="1562040"/>
            <a:ext cx="4976640" cy="486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egnaposto numero diapositiva 1"/>
          <p:cNvSpPr/>
          <p:nvPr/>
        </p:nvSpPr>
        <p:spPr>
          <a:xfrm>
            <a:off x="6831000" y="6224760"/>
            <a:ext cx="2133720" cy="4759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F643-E8E7-4EF1-A936-1E43FBCB5D8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51"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52" name="Text Box 15"/>
          <p:cNvSpPr/>
          <p:nvPr/>
        </p:nvSpPr>
        <p:spPr>
          <a:xfrm>
            <a:off x="5148360" y="428760"/>
            <a:ext cx="40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INVESTIMENTI 2022</a:t>
            </a:r>
            <a:endParaRPr b="0" lang="en-US" sz="2000" spc="-1" strike="noStrike">
              <a:solidFill>
                <a:srgbClr val="000000"/>
              </a:solidFill>
              <a:latin typeface="Times New Roman"/>
            </a:endParaRPr>
          </a:p>
        </p:txBody>
      </p:sp>
      <p:sp>
        <p:nvSpPr>
          <p:cNvPr id="1353" name="CasellaDiTesto 4"/>
          <p:cNvSpPr/>
          <p:nvPr/>
        </p:nvSpPr>
        <p:spPr>
          <a:xfrm>
            <a:off x="1116000" y="1081080"/>
            <a:ext cx="7704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Times New Roman"/>
              </a:rPr>
              <a:t>Consuntivo</a:t>
            </a:r>
            <a:r>
              <a:rPr b="1" lang="it-IT" sz="1200" spc="-1" strike="noStrike">
                <a:solidFill>
                  <a:srgbClr val="009959"/>
                </a:solidFill>
                <a:latin typeface="Arial"/>
                <a:ea typeface="Times New Roman"/>
              </a:rPr>
              <a:t> 2022- </a:t>
            </a:r>
            <a:r>
              <a:rPr b="1" lang="it-IT" sz="1300" spc="-1" strike="noStrike">
                <a:solidFill>
                  <a:srgbClr val="009959"/>
                </a:solidFill>
                <a:latin typeface="Arial"/>
                <a:ea typeface="Times New Roman"/>
              </a:rPr>
              <a:t>Investimenti</a:t>
            </a:r>
            <a:r>
              <a:rPr b="1" lang="it-IT" sz="1200" spc="-1" strike="noStrike">
                <a:solidFill>
                  <a:srgbClr val="009959"/>
                </a:solidFill>
                <a:latin typeface="Arial"/>
                <a:ea typeface="Times New Roman"/>
              </a:rPr>
              <a:t> PNRR – PNC</a:t>
            </a:r>
            <a:endParaRPr b="0" lang="en-US" sz="1200" spc="-1" strike="noStrike">
              <a:solidFill>
                <a:srgbClr val="000000"/>
              </a:solidFill>
              <a:latin typeface="Times New Roman"/>
            </a:endParaRPr>
          </a:p>
        </p:txBody>
      </p:sp>
      <p:pic>
        <p:nvPicPr>
          <p:cNvPr id="1354" name="Immagine 3" descr=""/>
          <p:cNvPicPr/>
          <p:nvPr/>
        </p:nvPicPr>
        <p:blipFill>
          <a:blip r:embed="rId2"/>
          <a:stretch/>
        </p:blipFill>
        <p:spPr>
          <a:xfrm>
            <a:off x="1763640" y="1714680"/>
            <a:ext cx="6769080" cy="41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Segnaposto numero diapositiva 1"/>
          <p:cNvSpPr/>
          <p:nvPr/>
        </p:nvSpPr>
        <p:spPr>
          <a:xfrm>
            <a:off x="7010280" y="652464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19DF-E8DD-4CCB-853A-8110F1E1772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56"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57" name="Text Box 15"/>
          <p:cNvSpPr/>
          <p:nvPr/>
        </p:nvSpPr>
        <p:spPr>
          <a:xfrm>
            <a:off x="5148360" y="428760"/>
            <a:ext cx="40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INVESTIMENTI 2022</a:t>
            </a:r>
            <a:endParaRPr b="0" lang="en-US" sz="2000" spc="-1" strike="noStrike">
              <a:solidFill>
                <a:srgbClr val="000000"/>
              </a:solidFill>
              <a:latin typeface="Times New Roman"/>
            </a:endParaRPr>
          </a:p>
        </p:txBody>
      </p:sp>
      <p:sp>
        <p:nvSpPr>
          <p:cNvPr id="1358" name="CasellaDiTesto 4"/>
          <p:cNvSpPr/>
          <p:nvPr/>
        </p:nvSpPr>
        <p:spPr>
          <a:xfrm>
            <a:off x="1116000" y="1081080"/>
            <a:ext cx="77040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Times New Roman"/>
              </a:rPr>
              <a:t>Investimenti PNRR – PNC</a:t>
            </a:r>
            <a:endParaRPr b="0" lang="en-US" sz="1400" spc="-1" strike="noStrike">
              <a:solidFill>
                <a:srgbClr val="000000"/>
              </a:solidFill>
              <a:latin typeface="Times New Roman"/>
            </a:endParaRPr>
          </a:p>
        </p:txBody>
      </p:sp>
      <p:sp>
        <p:nvSpPr>
          <p:cNvPr id="1359" name="CasellaDiTesto 6"/>
          <p:cNvSpPr/>
          <p:nvPr/>
        </p:nvSpPr>
        <p:spPr>
          <a:xfrm>
            <a:off x="1116000" y="1398600"/>
            <a:ext cx="7920000" cy="541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Arial"/>
              </a:rPr>
              <a:t>Assistenza Ospedaliera</a:t>
            </a:r>
            <a:r>
              <a:rPr b="1" lang="it-IT" sz="1000" spc="-1" strike="noStrike">
                <a:solidFill>
                  <a:srgbClr val="000000"/>
                </a:solidFill>
                <a:latin typeface="Arial"/>
              </a:rPr>
              <a:t> </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Nel 2022 gli investimenti in Tecnologie Sanitarie comprendono l’ammodernamento del parco tecnologico e digitale ospedaliero (Grandi apparecchiature Sanitarie) per sostituzioni apparecchiature per diagnostica per immagine di n.ro 3 Ecotomografi Ginecologici e n.ro 9 Ecotomografi Internistici. In relazione all’ammodernamento del parco tecnologico e digitale ospedaliero (Digitalizzazione strutture ospedaliere: DEA di Livello I e II) nel 2022 sono stati acquisiti i servizi di supporto alla progettazione della Digitalizzazione.</a:t>
            </a:r>
            <a:endParaRPr b="0" lang="en-US" sz="11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Arial"/>
              </a:rPr>
              <a:t>Assistenza Territoriale</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Gli investimenti di tecnologie effettuati per l’assistenza territoriale hanno riguardato l’ammodernamento del parco tecnologico e digitale ospedaliero (Grandi apparecchiature Sanitarie) con fondi PNRR per sostituzioni apparecchiature per diagnostica per immagine con un Ecotomografo Ginecologico.</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Per quanto concerne gli </a:t>
            </a:r>
            <a:r>
              <a:rPr b="1" lang="it-IT" sz="1100" spc="-1" strike="noStrike">
                <a:solidFill>
                  <a:srgbClr val="339966"/>
                </a:solidFill>
                <a:latin typeface="Arial"/>
              </a:rPr>
              <a:t>interventi previsti dal PNRR</a:t>
            </a:r>
            <a:r>
              <a:rPr b="0" lang="it-IT" sz="1100" spc="-1" strike="noStrike">
                <a:solidFill>
                  <a:srgbClr val="000000"/>
                </a:solidFill>
                <a:latin typeface="Arial"/>
              </a:rPr>
              <a:t>, per il conseguimento delle milestone previste dallo stesso finanziamento, sono stati assegnati i CUP e affidati i servizi tecnici relativi alle progettazioni dei seguenti interventi: </a:t>
            </a:r>
            <a:endParaRPr b="0" lang="en-US" sz="1100" spc="-1" strike="noStrike">
              <a:solidFill>
                <a:srgbClr val="000000"/>
              </a:solidFill>
              <a:latin typeface="Times New Roman"/>
            </a:endParaRPr>
          </a:p>
          <a:p>
            <a:pPr algn="just">
              <a:lnSpc>
                <a:spcPct val="150000"/>
              </a:lnSpc>
              <a:spcBef>
                <a:spcPts val="300"/>
              </a:spcBef>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t>
            </a:r>
            <a:r>
              <a:rPr b="0" lang="it-IT" sz="1100" spc="-1" strike="noStrike">
                <a:solidFill>
                  <a:srgbClr val="000000"/>
                </a:solidFill>
                <a:latin typeface="Arial"/>
              </a:rPr>
              <a:t>Casa della Comunità di Imola – ristrutturazione II stralcio”.</a:t>
            </a:r>
            <a:endParaRPr b="0" lang="en-US" sz="1100" spc="-1" strike="noStrike">
              <a:solidFill>
                <a:srgbClr val="000000"/>
              </a:solidFill>
              <a:latin typeface="Times New Roman"/>
            </a:endParaRPr>
          </a:p>
          <a:p>
            <a:pPr algn="just">
              <a:lnSpc>
                <a:spcPct val="150000"/>
              </a:lnSpc>
              <a:spcBef>
                <a:spcPts val="300"/>
              </a:spcBef>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t>
            </a:r>
            <a:r>
              <a:rPr b="0" lang="it-IT" sz="1100" spc="-1" strike="noStrike">
                <a:solidFill>
                  <a:srgbClr val="000000"/>
                </a:solidFill>
                <a:latin typeface="Arial"/>
              </a:rPr>
              <a:t>Casa della Comunità di Medicina – manutenzione straordinaria”.</a:t>
            </a:r>
            <a:endParaRPr b="0" lang="en-US" sz="1100" spc="-1" strike="noStrike">
              <a:solidFill>
                <a:srgbClr val="000000"/>
              </a:solidFill>
              <a:latin typeface="Times New Roman"/>
            </a:endParaRPr>
          </a:p>
          <a:p>
            <a:pPr algn="just">
              <a:lnSpc>
                <a:spcPct val="150000"/>
              </a:lnSpc>
              <a:spcBef>
                <a:spcPts val="300"/>
              </a:spcBef>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t>
            </a:r>
            <a:r>
              <a:rPr b="0" lang="it-IT" sz="1100" spc="-1" strike="noStrike">
                <a:solidFill>
                  <a:srgbClr val="000000"/>
                </a:solidFill>
                <a:latin typeface="Arial"/>
              </a:rPr>
              <a:t>Casa della Comunità di Castel San Pietro Terme - manutenzione straordinaria”.</a:t>
            </a:r>
            <a:endParaRPr b="0" lang="en-US" sz="1100" spc="-1" strike="noStrike">
              <a:solidFill>
                <a:srgbClr val="000000"/>
              </a:solidFill>
              <a:latin typeface="Times New Roman"/>
            </a:endParaRPr>
          </a:p>
          <a:p>
            <a:pPr algn="just">
              <a:lnSpc>
                <a:spcPct val="150000"/>
              </a:lnSpc>
              <a:spcBef>
                <a:spcPts val="300"/>
              </a:spcBef>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t>
            </a:r>
            <a:r>
              <a:rPr b="0" lang="it-IT" sz="1100" spc="-1" strike="noStrike">
                <a:solidFill>
                  <a:srgbClr val="000000"/>
                </a:solidFill>
                <a:latin typeface="Arial"/>
              </a:rPr>
              <a:t>Ospedale di Comunità di Castel San Pietro Terme - manutenzione straordinaria. </a:t>
            </a:r>
            <a:endParaRPr b="0" lang="en-US" sz="1100" spc="-1" strike="noStrike">
              <a:solidFill>
                <a:srgbClr val="000000"/>
              </a:solidFill>
              <a:latin typeface="Times New Roman"/>
            </a:endParaRPr>
          </a:p>
          <a:p>
            <a:pPr algn="just">
              <a:lnSpc>
                <a:spcPct val="150000"/>
              </a:lnSpc>
              <a:spcBef>
                <a:spcPts val="300"/>
              </a:spcBef>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a:t>
            </a:r>
            <a:r>
              <a:rPr b="0" lang="it-IT" sz="1100" spc="-1" strike="noStrike">
                <a:solidFill>
                  <a:srgbClr val="000000"/>
                </a:solidFill>
                <a:latin typeface="Arial"/>
              </a:rPr>
              <a:t>Lavori di miglioramento sismico dell’ospedale di Imola, I stralcio”.</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n riferimento alla “Centrale Operativa Territoriale di Imola - Manutenzione straordinaria” è stata anche completata la progettazione e la verifica del Progetto di Fattibilità Tecnica ed Economica e del Progetto Esecutivo per l’indizione della gara come previsto dallo stesso target PNRR.</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29"/>
          <p:cNvSpPr/>
          <p:nvPr/>
        </p:nvSpPr>
        <p:spPr>
          <a:xfrm>
            <a:off x="1332000" y="2060640"/>
            <a:ext cx="7596000" cy="367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9959"/>
                </a:solidFill>
                <a:latin typeface="Trebuchet MS"/>
              </a:rPr>
              <a:t>IL BILANCIO DI ESERCIZIO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9959"/>
                </a:solidFill>
                <a:latin typeface="Trebuchet MS"/>
              </a:rPr>
              <a:t>202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9959"/>
                </a:solidFill>
                <a:uFillTx/>
                <a:latin typeface="Trebuchet MS"/>
              </a:rPr>
              <a:t>AUSL IMOLA</a:t>
            </a:r>
            <a:r>
              <a:rPr b="1" lang="it-IT" sz="3200" spc="-1" strike="noStrike">
                <a:solidFill>
                  <a:srgbClr val="009959"/>
                </a:solidFill>
                <a:latin typeface="Trebuchet MS"/>
              </a:rPr>
              <a:t>                     </a:t>
            </a:r>
            <a:br>
              <a:rPr sz="3200"/>
            </a:br>
            <a:br>
              <a:rPr sz="3200"/>
            </a:br>
            <a:endParaRPr b="0" lang="en-US" sz="3200" spc="-1" strike="noStrike">
              <a:solidFill>
                <a:srgbClr val="000000"/>
              </a:solidFill>
              <a:latin typeface="Times New Roman"/>
            </a:endParaRPr>
          </a:p>
        </p:txBody>
      </p:sp>
      <p:pic>
        <p:nvPicPr>
          <p:cNvPr id="1271" name="Picture 5" descr="C:\Documents and Settings\Coglianese\Desktop\LOGO\SCRIVI.gif"/>
          <p:cNvPicPr/>
          <p:nvPr/>
        </p:nvPicPr>
        <p:blipFill>
          <a:blip r:embed="rId1"/>
          <a:stretch/>
        </p:blipFill>
        <p:spPr>
          <a:xfrm>
            <a:off x="971640" y="-47520"/>
            <a:ext cx="3504960" cy="96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Titolo 1"/>
          <p:cNvSpPr/>
          <p:nvPr/>
        </p:nvSpPr>
        <p:spPr>
          <a:xfrm>
            <a:off x="1908000" y="2276640"/>
            <a:ext cx="6409080" cy="30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9966"/>
                </a:solidFill>
                <a:latin typeface="Trebuchet MS"/>
              </a:rPr>
              <a:t>PRINCIPALI AZIONI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9966"/>
                </a:solidFill>
                <a:latin typeface="Trebuchet MS"/>
              </a:rPr>
              <a:t>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9966"/>
                </a:solidFill>
                <a:latin typeface="Trebuchet MS"/>
              </a:rPr>
              <a:t>DATI DI ATTIVIT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9966"/>
                </a:solidFill>
                <a:latin typeface="Trebuchet MS"/>
              </a:rPr>
              <a:t>202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339966"/>
                </a:solidFill>
                <a:uFillTx/>
                <a:latin typeface="Trebuchet MS"/>
              </a:rPr>
              <a:t>AUSL IMOLA</a:t>
            </a:r>
            <a:endParaRPr b="0" lang="en-US" sz="3200" spc="-1" strike="noStrike">
              <a:solidFill>
                <a:srgbClr val="000000"/>
              </a:solidFill>
              <a:latin typeface="Times New Roman"/>
            </a:endParaRPr>
          </a:p>
        </p:txBody>
      </p:sp>
      <p:pic>
        <p:nvPicPr>
          <p:cNvPr id="1361" name="Picture 5" descr="C:\Documents and Settings\Coglianese\Desktop\LOGO\SCRIVI.gif"/>
          <p:cNvPicPr/>
          <p:nvPr/>
        </p:nvPicPr>
        <p:blipFill>
          <a:blip r:embed="rId1"/>
          <a:stretch/>
        </p:blipFill>
        <p:spPr>
          <a:xfrm>
            <a:off x="1042920" y="-100080"/>
            <a:ext cx="3505320" cy="96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364"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365"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366" name="Text Box 10"/>
          <p:cNvSpPr/>
          <p:nvPr/>
        </p:nvSpPr>
        <p:spPr>
          <a:xfrm>
            <a:off x="1352520" y="1143000"/>
            <a:ext cx="7675560" cy="17370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Programmi regionali screening</a:t>
            </a:r>
            <a:endParaRPr b="0" lang="en-US" sz="1200" spc="-1" strike="noStrike">
              <a:solidFill>
                <a:srgbClr val="000000"/>
              </a:solidFill>
              <a:latin typeface="Times New Roman"/>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A causa della pandemia nel corso del 2020 i tre Programmi di Screening hanno subito una battuta d’arresto, come accaduto nel resto del territorio regionale, cosa che ha comportato un ritardo nell'avanzamento, ovvero nell'invio delle lettere di invito. Non appena è stato possibile, secondo quanto stabilito dalle relative raccomandazioni regionali, l’AUSL di Imola ha ripreso a spedire gli inviti alla popolazione target sul territorio aziendale. Tutto il ritardo accumulato è stato smaltito nel corso del 2021.</a:t>
            </a:r>
            <a:endParaRPr b="0" lang="en-US" sz="1000" spc="-1" strike="noStrike">
              <a:solidFill>
                <a:srgbClr val="000000"/>
              </a:solidFill>
              <a:latin typeface="Times New Roman"/>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 dati espressi in tabella sono relativi alla consueta popolazione target da invitare nel corso del 2022; questi dati derivano da una rilevazione regionale non ancora consolidata e dimostrano come l'Azienda sia in linea con l'andamento regionale. </a:t>
            </a:r>
            <a:endParaRPr b="0" lang="en-US" sz="1000" spc="-1" strike="noStrike">
              <a:solidFill>
                <a:srgbClr val="000000"/>
              </a:solidFill>
              <a:latin typeface="Times New Roman"/>
            </a:endParaRPr>
          </a:p>
        </p:txBody>
      </p:sp>
      <p:sp>
        <p:nvSpPr>
          <p:cNvPr id="1367" name="Segnaposto numero diapositiva 1"/>
          <p:cNvSpPr/>
          <p:nvPr/>
        </p:nvSpPr>
        <p:spPr>
          <a:xfrm>
            <a:off x="7004160" y="624348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FB82-0CB1-425C-870E-66654DB7742A}"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368" name="Text Box 10"/>
          <p:cNvSpPr/>
          <p:nvPr/>
        </p:nvSpPr>
        <p:spPr>
          <a:xfrm>
            <a:off x="5651640" y="250920"/>
            <a:ext cx="309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Prevenzione collettiva e Sanità Pubblica</a:t>
            </a:r>
            <a:endParaRPr b="0" lang="en-US" sz="2000" spc="-1" strike="noStrike">
              <a:solidFill>
                <a:srgbClr val="000000"/>
              </a:solidFill>
              <a:latin typeface="Times New Roman"/>
            </a:endParaRPr>
          </a:p>
        </p:txBody>
      </p:sp>
      <p:pic>
        <p:nvPicPr>
          <p:cNvPr id="1369" name="Immagine 1" descr=""/>
          <p:cNvPicPr/>
          <p:nvPr/>
        </p:nvPicPr>
        <p:blipFill>
          <a:blip r:embed="rId3"/>
          <a:stretch/>
        </p:blipFill>
        <p:spPr>
          <a:xfrm>
            <a:off x="1569960" y="2997360"/>
            <a:ext cx="7178760" cy="364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372"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373"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374" name="Text Box 10"/>
          <p:cNvSpPr/>
          <p:nvPr/>
        </p:nvSpPr>
        <p:spPr>
          <a:xfrm>
            <a:off x="1258920" y="1162080"/>
            <a:ext cx="769608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9966"/>
                </a:solidFill>
                <a:latin typeface="Arial"/>
                <a:ea typeface="Arial"/>
              </a:rPr>
              <a:t>Piano Regionale della Prevenzione 2021-2025 </a:t>
            </a:r>
            <a:endParaRPr b="0" lang="en-US" sz="1400" spc="-1" strike="noStrike">
              <a:solidFill>
                <a:srgbClr val="000000"/>
              </a:solidFill>
              <a:latin typeface="Times New Roman"/>
            </a:endParaRPr>
          </a:p>
        </p:txBody>
      </p:sp>
      <p:sp>
        <p:nvSpPr>
          <p:cNvPr id="1375" name="Segnaposto numero diapositiva 1"/>
          <p:cNvSpPr/>
          <p:nvPr/>
        </p:nvSpPr>
        <p:spPr>
          <a:xfrm>
            <a:off x="7086600" y="6527880"/>
            <a:ext cx="1905120" cy="3301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3450-300A-45DE-A9C9-5993703442A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6" name="Text Box 10"/>
          <p:cNvSpPr/>
          <p:nvPr/>
        </p:nvSpPr>
        <p:spPr>
          <a:xfrm>
            <a:off x="5964120" y="257040"/>
            <a:ext cx="2874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Prevenzione collettiva e Sanità Pubblica</a:t>
            </a:r>
            <a:endParaRPr b="0" lang="en-US" sz="2000" spc="-1" strike="noStrike">
              <a:solidFill>
                <a:srgbClr val="000000"/>
              </a:solidFill>
              <a:latin typeface="Times New Roman"/>
            </a:endParaRPr>
          </a:p>
        </p:txBody>
      </p:sp>
      <p:sp>
        <p:nvSpPr>
          <p:cNvPr id="1377" name="Text Box 10"/>
          <p:cNvSpPr/>
          <p:nvPr/>
        </p:nvSpPr>
        <p:spPr>
          <a:xfrm>
            <a:off x="1258920" y="1484280"/>
            <a:ext cx="7745400" cy="47350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l PRP 2021-2025, approvato con DGR 2144 il 20/12/2021, è articolato in </a:t>
            </a:r>
            <a:r>
              <a:rPr b="0" lang="it-IT" sz="1000" spc="-1" strike="noStrike" u="sng">
                <a:solidFill>
                  <a:srgbClr val="000000"/>
                </a:solidFill>
                <a:uFillTx/>
                <a:latin typeface="Arial"/>
                <a:ea typeface="Arial"/>
              </a:rPr>
              <a:t>10 Programmi Predefinititi</a:t>
            </a:r>
            <a:r>
              <a:rPr b="0" lang="it-IT" sz="1000" spc="-1" strike="noStrike">
                <a:solidFill>
                  <a:srgbClr val="000000"/>
                </a:solidFill>
                <a:latin typeface="Arial"/>
                <a:ea typeface="Arial"/>
              </a:rPr>
              <a:t> descritti nel Piano Nazionale a cui si aggiungono </a:t>
            </a:r>
            <a:r>
              <a:rPr b="0" lang="it-IT" sz="1000" spc="-1" strike="noStrike" u="sng">
                <a:solidFill>
                  <a:srgbClr val="000000"/>
                </a:solidFill>
                <a:uFillTx/>
                <a:latin typeface="Arial"/>
                <a:ea typeface="Arial"/>
              </a:rPr>
              <a:t>10 Programmi liberi introdotti a livello regionale</a:t>
            </a:r>
            <a:r>
              <a:rPr b="0" lang="it-IT" sz="1000" spc="-1" strike="noStrike">
                <a:solidFill>
                  <a:srgbClr val="000000"/>
                </a:solidFill>
                <a:latin typeface="Arial"/>
                <a:ea typeface="Arial"/>
              </a:rPr>
              <a:t>. Il PRP è sostenuto da azioni trasversali quali equità, intersettorialità, comunicazione e formazione che ne accompagnano l’attuazione sia a livello regionale che territoriale. La definizione di ruoli e strumenti per il governo del sistema nel quinquennio del Piano, specificando compiti, interfacce, elementi per il monitoraggio e la valutazione, sono dettagli di una organizzazione definita nel </a:t>
            </a:r>
            <a:r>
              <a:rPr b="0" lang="it-IT" sz="1000" spc="-1" strike="noStrike" u="sng">
                <a:solidFill>
                  <a:srgbClr val="000000"/>
                </a:solidFill>
                <a:uFillTx/>
                <a:latin typeface="Arial"/>
                <a:ea typeface="Arial"/>
              </a:rPr>
              <a:t>Documento di governance del PRP 2021-2025</a:t>
            </a:r>
            <a:r>
              <a:rPr b="0" lang="it-IT" sz="1000" spc="-1" strike="noStrike">
                <a:solidFill>
                  <a:srgbClr val="000000"/>
                </a:solidFill>
                <a:latin typeface="Arial"/>
                <a:ea typeface="Arial"/>
              </a:rPr>
              <a:t> (DGR 58 del 24/01/2022). </a:t>
            </a:r>
            <a:endParaRPr b="0" lang="en-US" sz="1000" spc="-1" strike="noStrike">
              <a:solidFill>
                <a:srgbClr val="000000"/>
              </a:solidFill>
              <a:latin typeface="Times New Roman"/>
            </a:endParaRPr>
          </a:p>
          <a:p>
            <a:pPr lvl="1"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Nel 2022 l’Azienda ha collaborato all’implementazione del Piano a livello locale, con attenzione alla progettazione e realizzazione delle azioni trasversali in ciascun Programma del PRP, i cui referenti, col supporto dei gruppi di lavoro, hanno realizzato gli obiettivi previsti dal PRP, rendicontati ai referenti Regionali di programma. Le principali attività/progetti dei programmi la cui gestione è stata interna al DSP sono: </a:t>
            </a:r>
            <a:r>
              <a:rPr b="1" lang="it-IT" sz="1000" spc="-1" strike="noStrike">
                <a:solidFill>
                  <a:srgbClr val="000000"/>
                </a:solidFill>
                <a:latin typeface="Arial"/>
                <a:ea typeface="Arial"/>
              </a:rPr>
              <a:t>PP1 (scuole che promuovono salute); PP2 (comunità attive); PP3 (luoghi di lavoro che promuovono salute). </a:t>
            </a:r>
            <a:endParaRPr b="0" lang="en-US" sz="1000" spc="-1" strike="noStrike">
              <a:solidFill>
                <a:srgbClr val="000000"/>
              </a:solidFill>
              <a:latin typeface="Times New Roman"/>
            </a:endParaRPr>
          </a:p>
          <a:p>
            <a:pPr lvl="1"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Si è, inoltre, adempiuto ai compiti previsti a livello regionale e locale dal Piano di governance del PRP di seguito elencati.</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5 “Sicurezza negli ambienti di vita”.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6 “Piano mirato di prevenzione”.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7 “Prevenzione in edilizia ed agricoltura”.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8 “Prevenzione rischio cancerogeno professionale, delle patologie professionali dell'apparato muscolo scheletrico e del rischio SLC”.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9 “Ambiente, clima e salute”.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Predefinito 10 “Misure per il contrasto all’ Antimicrobico- resistenza”.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libero 14 “Sistema informativo regionale per la prevenzione nei luoghi di lavoro”.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libero 16 “Vaccinazioni”. </a:t>
            </a:r>
            <a:endParaRPr b="0" lang="en-US" sz="1000" spc="-1" strike="noStrike">
              <a:solidFill>
                <a:srgbClr val="000000"/>
              </a:solidFill>
              <a:latin typeface="Times New Roman"/>
            </a:endParaRPr>
          </a:p>
          <a:p>
            <a:pPr lvl="1" algn="just">
              <a:lnSpc>
                <a:spcPct val="150000"/>
              </a:lnSpc>
              <a:buClr>
                <a:srgbClr val="009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Programma libero 20 “Sani stili di vit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9"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380"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381"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382" name="Text Box 15"/>
          <p:cNvSpPr/>
          <p:nvPr/>
        </p:nvSpPr>
        <p:spPr>
          <a:xfrm>
            <a:off x="1332000" y="1103400"/>
            <a:ext cx="7632720" cy="5487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Arial"/>
              </a:rPr>
              <a:t>Ospedale di Comunità (OS.CO)</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Struttura residenziale di cure intermedie (SRCI) a gestione infermieristica, </a:t>
            </a:r>
            <a:r>
              <a:rPr b="1" lang="it-IT" sz="1000" spc="-1" strike="noStrike">
                <a:solidFill>
                  <a:srgbClr val="339966"/>
                </a:solidFill>
                <a:latin typeface="Arial"/>
                <a:ea typeface="Arial"/>
              </a:rPr>
              <a:t>dotato di 36 posti letto</a:t>
            </a:r>
            <a:r>
              <a:rPr b="0" lang="it-IT" sz="1000" spc="-1" strike="noStrike">
                <a:solidFill>
                  <a:srgbClr val="000000"/>
                </a:solidFill>
                <a:latin typeface="Arial"/>
                <a:ea typeface="Arial"/>
              </a:rPr>
              <a:t>, l’OSCO di Castel S. Pietro Terme è ubicato all'interno della Casa della Comunità ed offre una modalità assistenziale rivolta a specifici target di utenza, con finalità di attuare cure in ambiente protetto, consolidare condizioni di salute e garantire la prosecuzione del processo di recupero delle autonomie in un contesto non ospedaliero.</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gestione infermieristica è ispirata ad uno modello evolutivo della tradizionale lungodegenza post-acuzie, teso ad offrire assistenza a persone fragili ad alta componente di non-autosufficienza e con quadro clinico relativamente stabile, per ridurre il carico di pazienti nei reparti ospedalieri, offrendo un livello di cure appropriato verso una dimissione assistita.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Nel 2020 sono stati incrementati i Posti Letto (da 21 a 36) per far fronte ai casi post acuti COVID-19 con l’apertura di spazi al quarto piano della CdC di CSPT, e per accogliere in degenza pazienti NO COVID è stata rimodulata la dotazione PL anche nel 2021 e nel 2022. La Tabella, con i volumi e i dati di degenza relativi al 2022 vs 2021, mostra un decremento di casi trattati (-7,6%) ed un incremento lieve delle giornate di degenza. Cresce lievemente la degenza media (21,4 vs 19,6 giornate) e si conferma il medesimo tasso medio di occupazione.</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383" name="Segnaposto numero diapositiva 1"/>
          <p:cNvSpPr/>
          <p:nvPr/>
        </p:nvSpPr>
        <p:spPr>
          <a:xfrm>
            <a:off x="720900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7AF2-8044-4EEA-8C3D-4D771F29C275}"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384"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pic>
        <p:nvPicPr>
          <p:cNvPr id="1385" name="Picture 10" descr=""/>
          <p:cNvPicPr/>
          <p:nvPr/>
        </p:nvPicPr>
        <p:blipFill>
          <a:blip r:embed="rId3"/>
          <a:stretch/>
        </p:blipFill>
        <p:spPr>
          <a:xfrm>
            <a:off x="2606760" y="4552920"/>
            <a:ext cx="5133960" cy="177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7"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388"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389"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390" name="Text Box 15"/>
          <p:cNvSpPr/>
          <p:nvPr/>
        </p:nvSpPr>
        <p:spPr>
          <a:xfrm>
            <a:off x="1332000" y="1069920"/>
            <a:ext cx="7775640" cy="15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Assistenza infermieristica domiciliare</a:t>
            </a:r>
            <a:endParaRPr b="0" lang="en-US" sz="1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Tabella mostra i pazienti presi in carico, gli accessi e le prestazioni erogate (dati che comprendono anche le prestazioni occasionali). I pazienti in carico nel 2022 mostrano un incremento significativo (+24,4%; +1.370 pazienti) rispetto al 2021, che a sua volta registrava un aumento a confronto col 2020 (+17%; +818 pazienti). In relazione al volume di accessi e di prestazioni erogate (tabella) si evidenzia invece un decremento rispettivamente del -11% (accessi) e del -7% (prestazioni). </a:t>
            </a:r>
            <a:endParaRPr b="0" lang="en-US" sz="1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1" name="Segnaposto numero diapositiva 1"/>
          <p:cNvSpPr/>
          <p:nvPr/>
        </p:nvSpPr>
        <p:spPr>
          <a:xfrm>
            <a:off x="7130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7527-F253-4F12-A94E-3C47D7A330AA}"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392"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pic>
        <p:nvPicPr>
          <p:cNvPr id="1393" name="Picture 10" descr=""/>
          <p:cNvPicPr/>
          <p:nvPr/>
        </p:nvPicPr>
        <p:blipFill>
          <a:blip r:embed="rId3"/>
          <a:stretch/>
        </p:blipFill>
        <p:spPr>
          <a:xfrm>
            <a:off x="3059280" y="2424240"/>
            <a:ext cx="4187520" cy="1643040"/>
          </a:xfrm>
          <a:prstGeom prst="rect">
            <a:avLst/>
          </a:prstGeom>
          <a:ln w="0">
            <a:noFill/>
          </a:ln>
        </p:spPr>
      </p:pic>
      <p:sp>
        <p:nvSpPr>
          <p:cNvPr id="1394" name="CasellaDiTesto 3"/>
          <p:cNvSpPr/>
          <p:nvPr/>
        </p:nvSpPr>
        <p:spPr>
          <a:xfrm>
            <a:off x="1336680" y="4162320"/>
            <a:ext cx="769932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Distribuzione percentuale episodi di cura di assistenza domiciliare integrata reso al singolo paziente (TAD), per tipologia e per livello di assistenza, a confronto con la distribuzione del totale regionale (Fonte: Reportistica predefinita ADI Regionale).</a:t>
            </a:r>
            <a:endParaRPr b="0" lang="en-US" sz="1000" spc="-1" strike="noStrike">
              <a:solidFill>
                <a:srgbClr val="000000"/>
              </a:solidFill>
              <a:latin typeface="Times New Roman"/>
            </a:endParaRPr>
          </a:p>
        </p:txBody>
      </p:sp>
      <p:pic>
        <p:nvPicPr>
          <p:cNvPr id="1395" name="Picture 12" descr=""/>
          <p:cNvPicPr/>
          <p:nvPr/>
        </p:nvPicPr>
        <p:blipFill>
          <a:blip r:embed="rId4"/>
          <a:stretch/>
        </p:blipFill>
        <p:spPr>
          <a:xfrm>
            <a:off x="1979640" y="4842000"/>
            <a:ext cx="6521400" cy="772920"/>
          </a:xfrm>
          <a:prstGeom prst="rect">
            <a:avLst/>
          </a:prstGeom>
          <a:ln w="0">
            <a:noFill/>
          </a:ln>
        </p:spPr>
      </p:pic>
      <p:pic>
        <p:nvPicPr>
          <p:cNvPr id="1396" name="Picture 11" descr=""/>
          <p:cNvPicPr/>
          <p:nvPr/>
        </p:nvPicPr>
        <p:blipFill>
          <a:blip r:embed="rId5"/>
          <a:stretch/>
        </p:blipFill>
        <p:spPr>
          <a:xfrm>
            <a:off x="1909800" y="5721480"/>
            <a:ext cx="6619680" cy="1030320"/>
          </a:xfrm>
          <a:prstGeom prst="rect">
            <a:avLst/>
          </a:prstGeom>
          <a:ln w="0">
            <a:noFill/>
          </a:ln>
        </p:spPr>
      </p:pic>
      <p:sp>
        <p:nvSpPr>
          <p:cNvPr id="1397" name="Rectangle 14"/>
          <p:cNvSpPr/>
          <p:nvPr/>
        </p:nvSpPr>
        <p:spPr>
          <a:xfrm>
            <a:off x="1971720" y="563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Rectangle 15"/>
          <p:cNvSpPr/>
          <p:nvPr/>
        </p:nvSpPr>
        <p:spPr>
          <a:xfrm>
            <a:off x="1971720" y="666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01"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02"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03" name="Text Box 15"/>
          <p:cNvSpPr/>
          <p:nvPr/>
        </p:nvSpPr>
        <p:spPr>
          <a:xfrm>
            <a:off x="1336680" y="1103400"/>
            <a:ext cx="7699320" cy="2612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Dipartimento Salute Mentale</a:t>
            </a:r>
            <a:endParaRPr b="0" lang="en-US" sz="12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Sul versante territoriale - </a:t>
            </a:r>
            <a:r>
              <a:rPr b="1" lang="it-IT" sz="1000" spc="-1" strike="noStrike" u="sng">
                <a:solidFill>
                  <a:srgbClr val="339966"/>
                </a:solidFill>
                <a:uFillTx/>
                <a:latin typeface="Arial"/>
                <a:ea typeface="Arial"/>
              </a:rPr>
              <a:t>Psichiatria Adulti Territoriale</a:t>
            </a:r>
            <a:r>
              <a:rPr b="1" lang="it-IT" sz="1000" spc="-1" strike="noStrike">
                <a:solidFill>
                  <a:srgbClr val="339966"/>
                </a:solidFill>
                <a:latin typeface="Arial"/>
                <a:ea typeface="Arial"/>
              </a:rPr>
              <a:t> </a:t>
            </a:r>
            <a:r>
              <a:rPr b="0" lang="it-IT" sz="1000" spc="-1" strike="noStrike">
                <a:solidFill>
                  <a:srgbClr val="000000"/>
                </a:solidFill>
                <a:latin typeface="Arial"/>
                <a:ea typeface="Arial"/>
              </a:rPr>
              <a:t>- i dati evidenziano un significativo incremento di utenti presi in carico dal CSM pari a +22,8% (+616 casi), trend che conferma il recupero rispetto al decremento nel 2020 causa l’emergenza pandemica acuta. Nell’ambito della psichiatria Adulti Territoriale, i Budget di Salute registrano un aumento da 44 a 46. </a:t>
            </a:r>
            <a:endParaRPr b="0" lang="en-US" sz="10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Nell’ambito della </a:t>
            </a:r>
            <a:r>
              <a:rPr b="1" lang="it-IT" sz="1000" spc="-1" strike="noStrike" u="sng">
                <a:solidFill>
                  <a:srgbClr val="339966"/>
                </a:solidFill>
                <a:uFillTx/>
                <a:latin typeface="Arial"/>
                <a:ea typeface="Arial"/>
              </a:rPr>
              <a:t>Neuropsichiatria Infantile</a:t>
            </a:r>
            <a:r>
              <a:rPr b="1" lang="it-IT" sz="1000" spc="-1" strike="noStrike">
                <a:solidFill>
                  <a:srgbClr val="339966"/>
                </a:solidFill>
                <a:latin typeface="Arial"/>
                <a:ea typeface="Arial"/>
              </a:rPr>
              <a:t> </a:t>
            </a:r>
            <a:r>
              <a:rPr b="0" lang="it-IT" sz="1000" spc="-1" strike="noStrike">
                <a:solidFill>
                  <a:srgbClr val="000000"/>
                </a:solidFill>
                <a:latin typeface="Arial"/>
                <a:ea typeface="Arial"/>
              </a:rPr>
              <a:t>si registra un incremento di utenti in carico (+10% pari a +251 casi) e un aumento significativo delle prestazioni erogate (+23%, paria + 6.160 prestazioni) a conferma della tendenza incrementale degli ultimi anni (interventi Progetto PRIA su finanziamento regionale, per l’Autismo).</a:t>
            </a:r>
            <a:endParaRPr b="0" lang="en-US" sz="10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rea della </a:t>
            </a:r>
            <a:r>
              <a:rPr b="1" lang="it-IT" sz="1000" spc="-1" strike="noStrike" u="sng">
                <a:solidFill>
                  <a:srgbClr val="339966"/>
                </a:solidFill>
                <a:uFillTx/>
                <a:latin typeface="Arial"/>
                <a:ea typeface="Arial"/>
              </a:rPr>
              <a:t>Dipendenze Patologiche</a:t>
            </a:r>
            <a:r>
              <a:rPr b="1" lang="it-IT" sz="1000" spc="-1" strike="noStrike">
                <a:solidFill>
                  <a:srgbClr val="339966"/>
                </a:solidFill>
                <a:latin typeface="Arial"/>
                <a:ea typeface="Arial"/>
              </a:rPr>
              <a:t> </a:t>
            </a:r>
            <a:r>
              <a:rPr b="0" lang="it-IT" sz="1000" spc="-1" strike="noStrike">
                <a:solidFill>
                  <a:srgbClr val="000000"/>
                </a:solidFill>
                <a:latin typeface="Arial"/>
                <a:ea typeface="Arial"/>
              </a:rPr>
              <a:t>registra un leggero incremento di utenti (+3%) e un sostanziale mantenimento nell’erogazione delle prestazioni. In ambito di semiresidenzialità, presso il Centro diurno a gestione diretta (Arcobaleno), si registrano 2 utenti in più e un lieve aumento delle giornate di degenza. Gli utenti inseriti in percorsi di Budget di salute sono stati 6, due in più rispetto al 2021. </a:t>
            </a:r>
            <a:endParaRPr b="0" lang="en-US" sz="1000" spc="-1" strike="noStrike">
              <a:solidFill>
                <a:srgbClr val="000000"/>
              </a:solidFill>
              <a:latin typeface="Times New Roman"/>
            </a:endParaRPr>
          </a:p>
        </p:txBody>
      </p:sp>
      <p:sp>
        <p:nvSpPr>
          <p:cNvPr id="1404" name="Segnaposto numero diapositiva 1"/>
          <p:cNvSpPr/>
          <p:nvPr/>
        </p:nvSpPr>
        <p:spPr>
          <a:xfrm>
            <a:off x="7118280" y="639936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81FD-8F8B-4A4B-B1E7-2F2B80A35417}"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05"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pic>
        <p:nvPicPr>
          <p:cNvPr id="1406" name="Immagine 1" descr=""/>
          <p:cNvPicPr/>
          <p:nvPr/>
        </p:nvPicPr>
        <p:blipFill>
          <a:blip r:embed="rId3"/>
          <a:stretch/>
        </p:blipFill>
        <p:spPr>
          <a:xfrm>
            <a:off x="2494080" y="4186080"/>
            <a:ext cx="5533920" cy="247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09"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10"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11" name="Text Box 15"/>
          <p:cNvSpPr/>
          <p:nvPr/>
        </p:nvSpPr>
        <p:spPr>
          <a:xfrm>
            <a:off x="1341360" y="1093680"/>
            <a:ext cx="7772400" cy="1486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Gli utenti in carico nel 2022 al </a:t>
            </a:r>
            <a:r>
              <a:rPr b="1" lang="it-IT" sz="1100" spc="-1" strike="noStrike">
                <a:solidFill>
                  <a:srgbClr val="009959"/>
                </a:solidFill>
                <a:latin typeface="Arial"/>
                <a:ea typeface="Arial"/>
              </a:rPr>
              <a:t>Consultorio Familiare </a:t>
            </a:r>
            <a:r>
              <a:rPr b="0" lang="it-IT" sz="1000" spc="-1" strike="noStrike">
                <a:solidFill>
                  <a:srgbClr val="000000"/>
                </a:solidFill>
                <a:latin typeface="Arial"/>
                <a:ea typeface="Arial"/>
              </a:rPr>
              <a:t>sono aumentati rispetto al 2021 (+8%; +580 casi), confermando la tendenza degli ultimi anni, nonostante la pandemia da COVID-2. In coerenza si registra un incremento degli accessi (+2%; +525 accessi) e delle prestazioni erogate (individuali e di gruppo) pari a +4% (+1.099 prestazioni complessive). Nel 2022, è stata valutata prioritaria la necessità di riprendere in presenza i corsi di accompagnamento alla nascita, favorendo la riapertura degli spazi del Consultorio alle donne in gravidanza, alle puerpere oltre che ai padri. Gli incontri di gruppo nell’anno, inerenti il percorso nascita, sono stati 163; nel 2021 erano stati 126 e per la maggior parte condotti on-line.</a:t>
            </a:r>
            <a:endParaRPr b="0" lang="en-US" sz="1000" spc="-1" strike="noStrike">
              <a:solidFill>
                <a:srgbClr val="000000"/>
              </a:solidFill>
              <a:latin typeface="Times New Roman"/>
            </a:endParaRPr>
          </a:p>
        </p:txBody>
      </p:sp>
      <p:sp>
        <p:nvSpPr>
          <p:cNvPr id="1412" name="Segnaposto numero diapositiva 1"/>
          <p:cNvSpPr/>
          <p:nvPr/>
        </p:nvSpPr>
        <p:spPr>
          <a:xfrm>
            <a:off x="720900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203F-10BB-4F55-93D7-AFBCC446B15E}"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13"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sp>
        <p:nvSpPr>
          <p:cNvPr id="1414" name="CasellaDiTesto 13"/>
          <p:cNvSpPr/>
          <p:nvPr/>
        </p:nvSpPr>
        <p:spPr>
          <a:xfrm>
            <a:off x="1284120" y="5746680"/>
            <a:ext cx="7804440" cy="10450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ea typeface="Times New Roman"/>
              </a:rPr>
              <a:t>(</a:t>
            </a:r>
            <a:r>
              <a:rPr b="1" lang="it-IT" sz="1000" spc="-1" strike="noStrike">
                <a:solidFill>
                  <a:srgbClr val="000000"/>
                </a:solidFill>
                <a:latin typeface="Tahoma"/>
                <a:ea typeface="Times New Roman"/>
              </a:rPr>
              <a:t>IND317</a:t>
            </a:r>
            <a:r>
              <a:rPr b="0" lang="it-IT" sz="1000" spc="-1" strike="noStrike">
                <a:solidFill>
                  <a:srgbClr val="000000"/>
                </a:solidFill>
                <a:latin typeface="Tahoma"/>
                <a:ea typeface="Times New Roman"/>
              </a:rPr>
              <a:t>) % utenti degli spazi giovani sulla popolazione target (14-19 anni). (Valore di riferimento &gt;= 7%)</a:t>
            </a:r>
            <a:endParaRPr b="0" lang="en-US" sz="1000" spc="-1" strike="noStrike">
              <a:solidFill>
                <a:srgbClr val="000000"/>
              </a:solidFill>
              <a:latin typeface="Times New Roman"/>
            </a:endParaRPr>
          </a:p>
          <a:p>
            <a:pPr marL="171360" indent="-1713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ea typeface="Times New Roman"/>
              </a:rPr>
              <a:t>La capacità di attrazione verso gli adolescenti risulta per L’AUSL di Imola del 9,44%. Valore regionale pari a 8,39%.</a:t>
            </a:r>
            <a:endParaRPr b="0" lang="en-US" sz="1000" spc="-1" strike="noStrike">
              <a:solidFill>
                <a:srgbClr val="000000"/>
              </a:solidFill>
              <a:latin typeface="Times New Roman"/>
            </a:endParaRPr>
          </a:p>
          <a:p>
            <a:pPr marL="171360" indent="-171360"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ea typeface="Times New Roman"/>
              </a:rPr>
              <a:t>(</a:t>
            </a:r>
            <a:r>
              <a:rPr b="1" lang="it-IT" sz="1000" spc="-1" strike="noStrike">
                <a:solidFill>
                  <a:srgbClr val="000000"/>
                </a:solidFill>
                <a:latin typeface="Tahoma"/>
                <a:ea typeface="Times New Roman"/>
              </a:rPr>
              <a:t>IND318</a:t>
            </a:r>
            <a:r>
              <a:rPr b="0" lang="it-IT" sz="1000" spc="-1" strike="noStrike">
                <a:solidFill>
                  <a:srgbClr val="000000"/>
                </a:solidFill>
                <a:latin typeface="Tahoma"/>
                <a:ea typeface="Times New Roman"/>
              </a:rPr>
              <a:t>) % utenti dei consultori familiari sulla popolazione target (15-64 anni). </a:t>
            </a:r>
            <a:endParaRPr b="0" lang="en-US" sz="1000" spc="-1" strike="noStrike">
              <a:solidFill>
                <a:srgbClr val="000000"/>
              </a:solidFill>
              <a:latin typeface="Times New Roman"/>
            </a:endParaRPr>
          </a:p>
          <a:p>
            <a:pPr marL="171360" indent="-1713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ea typeface="Times New Roman"/>
              </a:rPr>
              <a:t>Risulta tra le migliori a livello regionale: 7,67%. Il valore regionale risulta pari a 6,65%.</a:t>
            </a:r>
            <a:endParaRPr b="0" lang="en-US" sz="1000" spc="-1" strike="noStrike">
              <a:solidFill>
                <a:srgbClr val="000000"/>
              </a:solidFill>
              <a:latin typeface="Times New Roman"/>
            </a:endParaRPr>
          </a:p>
        </p:txBody>
      </p:sp>
      <p:pic>
        <p:nvPicPr>
          <p:cNvPr id="1415" name="Immagine 1" descr=""/>
          <p:cNvPicPr/>
          <p:nvPr/>
        </p:nvPicPr>
        <p:blipFill>
          <a:blip r:embed="rId3"/>
          <a:stretch/>
        </p:blipFill>
        <p:spPr>
          <a:xfrm>
            <a:off x="2781360" y="2679840"/>
            <a:ext cx="4892760" cy="298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7"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18"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19"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20" name="Text Box 15"/>
          <p:cNvSpPr/>
          <p:nvPr/>
        </p:nvSpPr>
        <p:spPr>
          <a:xfrm>
            <a:off x="1295280" y="1176480"/>
            <a:ext cx="7799400" cy="1280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59"/>
                </a:solidFill>
                <a:latin typeface="Arial"/>
                <a:ea typeface="Arial"/>
              </a:rPr>
              <a:t>Specialistica ambulatoriale per esterni</a:t>
            </a:r>
            <a:endParaRPr b="0" lang="en-US" sz="1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La produzione complessiva aziendale 2022 (fonte DWH aziendale), vedi tabella, viene messa a confronto con il 2021 e il 2019 (anno pre Covid), evidenziando un incremento complessivo di volumi: rispetto all’anno precedente, di circa +7,4% (+153.000 prestazioni) e vs il 2019 un incremento del +23% (+416.374 prestazioni) con un recupero netto della contrazione di volumi rilevata nel 2020 a causa della pandemia. </a:t>
            </a:r>
            <a:endParaRPr b="0" lang="en-US" sz="1000" spc="-1" strike="noStrike">
              <a:solidFill>
                <a:srgbClr val="000000"/>
              </a:solidFill>
              <a:latin typeface="Times New Roman"/>
            </a:endParaRPr>
          </a:p>
        </p:txBody>
      </p:sp>
      <p:sp>
        <p:nvSpPr>
          <p:cNvPr id="1421" name="Segnaposto numero diapositiva 1"/>
          <p:cNvSpPr/>
          <p:nvPr/>
        </p:nvSpPr>
        <p:spPr>
          <a:xfrm>
            <a:off x="720900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AAAE-324F-4F78-8317-1AA867EC9836}"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22"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sp>
        <p:nvSpPr>
          <p:cNvPr id="1423" name="CasellaDiTesto 5"/>
          <p:cNvSpPr/>
          <p:nvPr/>
        </p:nvSpPr>
        <p:spPr>
          <a:xfrm>
            <a:off x="1295280" y="4640400"/>
            <a:ext cx="7669440" cy="1752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39966"/>
                </a:solidFill>
                <a:latin typeface="Arial"/>
                <a:ea typeface="Arial"/>
              </a:rPr>
              <a:t>Monitoraggio dei tempi di attesa delle prestazioni con classe di priorità B: </a:t>
            </a:r>
            <a:r>
              <a:rPr b="0" lang="it-IT" sz="1000" spc="-1" strike="noStrike">
                <a:solidFill>
                  <a:srgbClr val="000000"/>
                </a:solidFill>
                <a:latin typeface="Arial"/>
                <a:ea typeface="Arial"/>
              </a:rPr>
              <a:t>indicatore del NSG (D10Z) monitorato su InSiDER per misurare la capacità di erogare le prestazioni entro il tempo massimo previsto dalla classe di priorità B - Breve (&lt;= 10 giorni).</a:t>
            </a:r>
            <a:endParaRPr b="0" lang="en-US" sz="1000" spc="-1" strike="noStrike">
              <a:solidFill>
                <a:srgbClr val="000000"/>
              </a:solidFill>
              <a:latin typeface="Times New Roman"/>
            </a:endParaRPr>
          </a:p>
          <a:p>
            <a:pPr>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IND831) </a:t>
            </a:r>
            <a:r>
              <a:rPr b="0" lang="it-IT" sz="1000" spc="-1" strike="noStrike">
                <a:solidFill>
                  <a:srgbClr val="000000"/>
                </a:solidFill>
                <a:latin typeface="Arial"/>
                <a:ea typeface="Arial"/>
              </a:rPr>
              <a:t>% di prestazioni, garantite entro i tempi, della classe di priorità B in rapporto al totale di prestazioni di classe B – NSG: D10Z. Target: &gt;= 90%. </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Nel 2022 il dato riferito all’AUSL di Imola risulta pari a 89,11% in incremento rispetto al 2021 (87,51%). Il valore medio RER 2022 risulta pari a 76,03%, in decremento rispetto al 2021 (83,36%). </a:t>
            </a:r>
            <a:endParaRPr b="0" lang="en-US" sz="1000" spc="-1" strike="noStrike">
              <a:solidFill>
                <a:srgbClr val="000000"/>
              </a:solidFill>
              <a:latin typeface="Times New Roman"/>
            </a:endParaRPr>
          </a:p>
        </p:txBody>
      </p:sp>
      <p:pic>
        <p:nvPicPr>
          <p:cNvPr id="1424" name="Immagine 6" descr=""/>
          <p:cNvPicPr/>
          <p:nvPr/>
        </p:nvPicPr>
        <p:blipFill>
          <a:blip r:embed="rId3"/>
          <a:stretch/>
        </p:blipFill>
        <p:spPr>
          <a:xfrm>
            <a:off x="1425600" y="2527200"/>
            <a:ext cx="7539120" cy="2065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27"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28"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29" name="Text Box 15"/>
          <p:cNvSpPr/>
          <p:nvPr/>
        </p:nvSpPr>
        <p:spPr>
          <a:xfrm>
            <a:off x="1295280" y="1125360"/>
            <a:ext cx="781848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339966"/>
                </a:solidFill>
                <a:uFillTx/>
                <a:latin typeface="Arial"/>
                <a:ea typeface="Arial"/>
              </a:rPr>
              <a:t>Tempi di attesa per visite ed esami diagnostici</a:t>
            </a:r>
            <a:endParaRPr b="0" lang="en-US" sz="12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Rilevazione regionale monitora su InSiDER (Flusso MAPS2). La valutazione 2022 è stata fatta sui dati relativi al mese di dicembre 2022.</a:t>
            </a:r>
            <a:endParaRPr b="0" lang="en-US" sz="10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50000"/>
              </a:lnSpc>
              <a:spcBef>
                <a:spcPts val="300"/>
              </a:spcBef>
              <a:buClr>
                <a:srgbClr val="339966"/>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IND925) </a:t>
            </a:r>
            <a:r>
              <a:rPr b="0" lang="it-IT" sz="1000" spc="-1" strike="noStrike">
                <a:solidFill>
                  <a:srgbClr val="000000"/>
                </a:solidFill>
                <a:latin typeface="Arial"/>
                <a:ea typeface="Arial"/>
              </a:rPr>
              <a:t>Tempi di attesa ex ante primi accessi: n. visite prospettate in sede di prenotazione entro i 30 gg (dicembre 2022). Target: &gt;= 90%.</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AUSL Imola 2022: 93,99%. Media regionale 2022: 92,22%.</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50000"/>
              </a:lnSpc>
              <a:spcBef>
                <a:spcPts val="300"/>
              </a:spcBef>
              <a:buClr>
                <a:srgbClr val="339966"/>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IND926) </a:t>
            </a:r>
            <a:r>
              <a:rPr b="0" lang="it-IT" sz="1000" spc="-1" strike="noStrike">
                <a:solidFill>
                  <a:srgbClr val="000000"/>
                </a:solidFill>
                <a:latin typeface="Arial"/>
                <a:ea typeface="Arial"/>
              </a:rPr>
              <a:t>Tempi di attesa ex ante primi accessi: n. esami diagnostici prospettati in sede di prenotazione entro i 60 gg (dicembre 2022). Target: &gt;= 90%.</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ea typeface="Arial"/>
              </a:rPr>
              <a:t>AUSL Imola 2022: 96,25%. Media regionale 2022: 98,30%. </a:t>
            </a:r>
            <a:endParaRPr b="0" lang="en-US" sz="1000" spc="-1" strike="noStrike">
              <a:solidFill>
                <a:srgbClr val="000000"/>
              </a:solidFill>
              <a:latin typeface="Times New Roman"/>
            </a:endParaRPr>
          </a:p>
        </p:txBody>
      </p:sp>
      <p:sp>
        <p:nvSpPr>
          <p:cNvPr id="1430" name="Segnaposto numero diapositiva 1"/>
          <p:cNvSpPr/>
          <p:nvPr/>
        </p:nvSpPr>
        <p:spPr>
          <a:xfrm>
            <a:off x="720900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DD68-FB52-40D9-9B52-7A6700B9D892}"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31"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2"/>
          <p:cNvSpPr/>
          <p:nvPr/>
        </p:nvSpPr>
        <p:spPr>
          <a:xfrm>
            <a:off x="1295280" y="0"/>
            <a:ext cx="7848720" cy="11253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3"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34"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35"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36" name="Text Box 15"/>
          <p:cNvSpPr/>
          <p:nvPr/>
        </p:nvSpPr>
        <p:spPr>
          <a:xfrm>
            <a:off x="1295280" y="1125360"/>
            <a:ext cx="7818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9966"/>
                </a:solidFill>
                <a:latin typeface="Arial"/>
                <a:ea typeface="Arial"/>
              </a:rPr>
              <a:t>Monitoraggio tempi d'attesa Regione Emilia-Romagna (RER) Prestazioni specialistiche ambulatoriali (Fonte MAPS)</a:t>
            </a:r>
            <a:r>
              <a:rPr b="1" lang="it-IT" sz="1200" spc="-1" strike="noStrike">
                <a:solidFill>
                  <a:srgbClr val="339966"/>
                </a:solidFill>
                <a:latin typeface="Arial"/>
                <a:ea typeface="Arial"/>
              </a:rPr>
              <a:t>	</a:t>
            </a:r>
            <a:endParaRPr b="0" lang="en-US" sz="1200" spc="-1" strike="noStrike">
              <a:solidFill>
                <a:srgbClr val="000000"/>
              </a:solidFill>
              <a:latin typeface="Times New Roman"/>
            </a:endParaRPr>
          </a:p>
        </p:txBody>
      </p:sp>
      <p:sp>
        <p:nvSpPr>
          <p:cNvPr id="1437" name="Segnaposto numero diapositiva 1"/>
          <p:cNvSpPr/>
          <p:nvPr/>
        </p:nvSpPr>
        <p:spPr>
          <a:xfrm>
            <a:off x="7209000" y="640080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546D-B17A-4360-BCBB-04F277453B9F}" type="slidenum">
              <a:rPr b="0" lang="it-IT"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438"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Territoriale</a:t>
            </a:r>
            <a:endParaRPr b="0" lang="en-US" sz="2000" spc="-1" strike="noStrike">
              <a:solidFill>
                <a:srgbClr val="000000"/>
              </a:solidFill>
              <a:latin typeface="Times New Roman"/>
            </a:endParaRPr>
          </a:p>
        </p:txBody>
      </p:sp>
      <p:pic>
        <p:nvPicPr>
          <p:cNvPr id="1439" name="Immagine 2" descr=""/>
          <p:cNvPicPr/>
          <p:nvPr/>
        </p:nvPicPr>
        <p:blipFill>
          <a:blip r:embed="rId3"/>
          <a:stretch/>
        </p:blipFill>
        <p:spPr>
          <a:xfrm>
            <a:off x="1393920" y="2114640"/>
            <a:ext cx="3328920" cy="3835440"/>
          </a:xfrm>
          <a:prstGeom prst="rect">
            <a:avLst/>
          </a:prstGeom>
          <a:ln w="0">
            <a:noFill/>
          </a:ln>
        </p:spPr>
      </p:pic>
      <p:pic>
        <p:nvPicPr>
          <p:cNvPr id="1440" name="Immagine 1" descr=""/>
          <p:cNvPicPr/>
          <p:nvPr/>
        </p:nvPicPr>
        <p:blipFill>
          <a:blip r:embed="rId4"/>
          <a:stretch/>
        </p:blipFill>
        <p:spPr>
          <a:xfrm>
            <a:off x="5114880" y="1552680"/>
            <a:ext cx="3348000" cy="498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Segnaposto numero diapositiva 1"/>
          <p:cNvSpPr/>
          <p:nvPr/>
        </p:nvSpPr>
        <p:spPr>
          <a:xfrm>
            <a:off x="6913440" y="633240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DDC7-E800-48DD-9115-F49042958C5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73"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74" name="CasellaDiTesto 2"/>
          <p:cNvSpPr/>
          <p:nvPr/>
        </p:nvSpPr>
        <p:spPr>
          <a:xfrm>
            <a:off x="6241320" y="355680"/>
            <a:ext cx="237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Conto economico</a:t>
            </a:r>
            <a:endParaRPr b="0" lang="en-US" sz="2000" spc="-1" strike="noStrike">
              <a:solidFill>
                <a:srgbClr val="000000"/>
              </a:solidFill>
              <a:latin typeface="Times New Roman"/>
            </a:endParaRPr>
          </a:p>
        </p:txBody>
      </p:sp>
      <p:pic>
        <p:nvPicPr>
          <p:cNvPr id="1275" name="Immagine 2" descr=""/>
          <p:cNvPicPr/>
          <p:nvPr/>
        </p:nvPicPr>
        <p:blipFill>
          <a:blip r:embed="rId2"/>
          <a:stretch/>
        </p:blipFill>
        <p:spPr>
          <a:xfrm>
            <a:off x="1133640" y="1139760"/>
            <a:ext cx="7705440" cy="536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43"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44"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45" name="Text Box 15"/>
          <p:cNvSpPr/>
          <p:nvPr/>
        </p:nvSpPr>
        <p:spPr>
          <a:xfrm>
            <a:off x="1366920" y="4238640"/>
            <a:ext cx="7705800" cy="2247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9959"/>
                </a:solidFill>
                <a:latin typeface="Arial"/>
                <a:ea typeface="Arial"/>
              </a:rPr>
              <a:t>L’attività di degenza </a:t>
            </a:r>
            <a:r>
              <a:rPr b="0" lang="it-IT" sz="1000" spc="-1" strike="noStrike">
                <a:solidFill>
                  <a:srgbClr val="000000"/>
                </a:solidFill>
                <a:latin typeface="Arial"/>
                <a:ea typeface="Arial"/>
              </a:rPr>
              <a:t>in regime ordinario, rappresentata in tabella (dati SDO), riporta a confronto l’attività 2022 con l’anno precedente (2021) e con l’anno 2019 (pre-pandemia), al fine di rilevare il grado di recupero dell’attività rispetto al periodo precedente l’emergenza pandemica.  I casi SDO complessivi nel 2022 mettono in evidenza un incremento rispetto al 2021 del +7,28% (+793 casi) ed uno scostamento rispetto al 2019, pari a -10,7% (-1.400 casi). </a:t>
            </a:r>
            <a:endParaRPr b="0" lang="en-US" sz="10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n particolare, l’andamento dei DRG Chirurgici rileva nel 2022 un incremento significativo (+899 casi, pari a +28,88%) rispetto al 2021, quando l’Azienda si trovava ancora a dover far fronte alla gestione dell’emergenza da SARS COV-2 e alle necessarie riorganizzazioni per il contenimento della pandemia, incidendo sulla programmazione degli interventi chirurgici che, unitamente alla carenza di personale infermieristico e medico anestesista nelle sale operatorie, ha condizionato la programmazione degli interventi chirurgici nel processo di recupero dell’attività per tornare ai livelli di produzione del 2019. </a:t>
            </a:r>
            <a:endParaRPr b="0" lang="en-US" sz="1000" spc="-1" strike="noStrike">
              <a:solidFill>
                <a:srgbClr val="000000"/>
              </a:solidFill>
              <a:latin typeface="Times New Roman"/>
            </a:endParaRPr>
          </a:p>
        </p:txBody>
      </p:sp>
      <p:sp>
        <p:nvSpPr>
          <p:cNvPr id="1446" name="Segnaposto numero diapositiva 1"/>
          <p:cNvSpPr/>
          <p:nvPr/>
        </p:nvSpPr>
        <p:spPr>
          <a:xfrm>
            <a:off x="7045200" y="63673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3C0D-130A-4B91-A496-54E6C3B2BFA3}"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47"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pic>
        <p:nvPicPr>
          <p:cNvPr id="1448" name="Immagine 1" descr=""/>
          <p:cNvPicPr/>
          <p:nvPr/>
        </p:nvPicPr>
        <p:blipFill>
          <a:blip r:embed="rId3"/>
          <a:stretch/>
        </p:blipFill>
        <p:spPr>
          <a:xfrm>
            <a:off x="1528920" y="1309680"/>
            <a:ext cx="7323120" cy="279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451"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52"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53" name="Text Box 15"/>
          <p:cNvSpPr/>
          <p:nvPr/>
        </p:nvSpPr>
        <p:spPr>
          <a:xfrm>
            <a:off x="1295280" y="1339920"/>
            <a:ext cx="77583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i rappresentano i </a:t>
            </a:r>
            <a:r>
              <a:rPr b="1" lang="it-IT" sz="1100" spc="-1" strike="noStrike">
                <a:solidFill>
                  <a:srgbClr val="009959"/>
                </a:solidFill>
                <a:latin typeface="Arial"/>
                <a:ea typeface="Arial"/>
              </a:rPr>
              <a:t>Progetti </a:t>
            </a:r>
            <a:r>
              <a:rPr b="0" lang="it-IT" sz="1100" spc="-1" strike="noStrike">
                <a:solidFill>
                  <a:srgbClr val="000000"/>
                </a:solidFill>
                <a:latin typeface="Arial"/>
                <a:ea typeface="Arial"/>
              </a:rPr>
              <a:t>che, nel corso degli ultimi anni, l’Azienda ha perseguito mediante la progressiva attuazione di </a:t>
            </a:r>
            <a:r>
              <a:rPr b="1" lang="it-IT" sz="1100" spc="-1" strike="noStrike">
                <a:solidFill>
                  <a:srgbClr val="009959"/>
                </a:solidFill>
                <a:latin typeface="Arial"/>
                <a:ea typeface="Arial"/>
              </a:rPr>
              <a:t>Accordi di integrazione a gestione interaziendale:</a:t>
            </a:r>
            <a:endParaRPr b="0" lang="en-US" sz="1100" spc="-1" strike="noStrike">
              <a:solidFill>
                <a:srgbClr val="000000"/>
              </a:solidFill>
              <a:latin typeface="Times New Roman"/>
            </a:endParaRPr>
          </a:p>
        </p:txBody>
      </p:sp>
      <p:sp>
        <p:nvSpPr>
          <p:cNvPr id="1454" name="Segnaposto numero diapositiva 1"/>
          <p:cNvSpPr/>
          <p:nvPr/>
        </p:nvSpPr>
        <p:spPr>
          <a:xfrm>
            <a:off x="7045200" y="63673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157B-4EE6-4FA5-A774-9626C34C4FEC}"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55"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pic>
        <p:nvPicPr>
          <p:cNvPr id="1456" name="Immagine 1" descr=""/>
          <p:cNvPicPr/>
          <p:nvPr/>
        </p:nvPicPr>
        <p:blipFill>
          <a:blip r:embed="rId3"/>
          <a:stretch/>
        </p:blipFill>
        <p:spPr>
          <a:xfrm>
            <a:off x="1425600" y="1987560"/>
            <a:ext cx="762804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8"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59"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60" name="Segnaposto numero diapositiva 1"/>
          <p:cNvSpPr/>
          <p:nvPr/>
        </p:nvSpPr>
        <p:spPr>
          <a:xfrm>
            <a:off x="7238880" y="65977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9D04-9571-43C5-9D51-34FB23CA5CA9}"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61"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sp>
        <p:nvSpPr>
          <p:cNvPr id="1462"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63" name="Text Box 15"/>
          <p:cNvSpPr/>
          <p:nvPr/>
        </p:nvSpPr>
        <p:spPr>
          <a:xfrm>
            <a:off x="1405080" y="1305000"/>
            <a:ext cx="7611840" cy="1485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9959"/>
                </a:solidFill>
                <a:latin typeface="Arial"/>
                <a:ea typeface="Arial"/>
              </a:rPr>
              <a:t>Indicatori di Esito </a:t>
            </a:r>
            <a:endParaRPr b="0" lang="en-US" sz="13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i riportano gli andamenti degli indicatori di esito di cui al DM 70/2015 e DGR 2040/2015, disponibili su piattaforma regionale InSiDER, a confronto con gli esiti di livello regionale, al fine di dare evidenza dell’andamento generale, conseguente al contesto emergenziale COVID-19, che ha interessato tutte le Aziende sanitarie sul territorio regionale.</a:t>
            </a:r>
            <a:endParaRPr b="0" lang="en-US" sz="1200" spc="-1" strike="noStrike">
              <a:solidFill>
                <a:srgbClr val="000000"/>
              </a:solidFill>
              <a:latin typeface="Times New Roman"/>
            </a:endParaRPr>
          </a:p>
        </p:txBody>
      </p:sp>
      <p:graphicFrame>
        <p:nvGraphicFramePr>
          <p:cNvPr id="1464" name=""/>
          <p:cNvGraphicFramePr/>
          <p:nvPr/>
        </p:nvGraphicFramePr>
        <p:xfrm>
          <a:off x="1984320" y="3203640"/>
          <a:ext cx="6453360" cy="1992240"/>
        </p:xfrm>
        <a:graphic>
          <a:graphicData uri="http://schemas.openxmlformats.org/drawingml/2006/table">
            <a:tbl>
              <a:tblPr/>
              <a:tblGrid>
                <a:gridCol w="3384720"/>
                <a:gridCol w="571320"/>
                <a:gridCol w="625680"/>
                <a:gridCol w="626760"/>
                <a:gridCol w="614520"/>
                <a:gridCol w="630360"/>
              </a:tblGrid>
              <a:tr h="420480">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INDICATORI DI ESITO </a:t>
                      </a:r>
                      <a:endParaRPr b="0" lang="en-US" sz="9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DM 70/2015 e DGR 2040/2015 </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2f5496"/>
                          </a:solidFill>
                          <a:latin typeface="Tahoma"/>
                          <a:ea typeface="Times New Roman"/>
                        </a:rPr>
                        <a:t>TARGET RER</a:t>
                      </a:r>
                      <a:endParaRPr b="0" lang="en-US" sz="8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202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202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2022</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2f5496"/>
                          </a:solidFill>
                          <a:latin typeface="Tahoma"/>
                          <a:ea typeface="Times New Roman"/>
                        </a:rPr>
                        <a:t>2022 RER</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360" rIns="9360" tIns="936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a:t>
                      </a:r>
                      <a:r>
                        <a:rPr b="1" lang="it-IT" sz="900" spc="-1" strike="noStrike">
                          <a:solidFill>
                            <a:srgbClr val="000000"/>
                          </a:solidFill>
                          <a:latin typeface="Tahoma"/>
                          <a:ea typeface="Times New Roman"/>
                        </a:rPr>
                        <a:t>IND845</a:t>
                      </a:r>
                      <a:r>
                        <a:rPr b="0" lang="it-IT" sz="900" spc="-1" strike="noStrike">
                          <a:solidFill>
                            <a:srgbClr val="000000"/>
                          </a:solidFill>
                          <a:latin typeface="Tahoma"/>
                          <a:ea typeface="Times New Roman"/>
                        </a:rPr>
                        <a:t>)</a:t>
                      </a:r>
                      <a:r>
                        <a:rPr b="1" lang="it-IT" sz="900" spc="-1" strike="noStrike">
                          <a:solidFill>
                            <a:srgbClr val="000000"/>
                          </a:solidFill>
                          <a:latin typeface="Tahoma"/>
                          <a:ea typeface="Times New Roman"/>
                        </a:rPr>
                        <a:t> </a:t>
                      </a:r>
                      <a:r>
                        <a:rPr b="0" lang="it-IT" sz="900" spc="-1" strike="noStrike">
                          <a:solidFill>
                            <a:srgbClr val="000000"/>
                          </a:solidFill>
                          <a:latin typeface="Tahoma"/>
                          <a:ea typeface="Times New Roman"/>
                        </a:rPr>
                        <a:t>% di pazienti (età 65+) con diagnosi di </a:t>
                      </a:r>
                      <a:r>
                        <a:rPr b="1" lang="it-IT" sz="900" spc="-1" strike="noStrike" u="sng">
                          <a:solidFill>
                            <a:srgbClr val="000000"/>
                          </a:solidFill>
                          <a:uFillTx/>
                          <a:latin typeface="Tahoma"/>
                          <a:ea typeface="Times New Roman"/>
                        </a:rPr>
                        <a:t>frattura del collo del femore</a:t>
                      </a:r>
                      <a:r>
                        <a:rPr b="0" lang="it-IT" sz="900" spc="-1" strike="noStrike">
                          <a:solidFill>
                            <a:srgbClr val="000000"/>
                          </a:solidFill>
                          <a:latin typeface="Tahoma"/>
                          <a:ea typeface="Times New Roman"/>
                        </a:rPr>
                        <a:t> operati entro 2 giornate in regime ordinario - Indicatore NSG: H13C</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gt;= 80%</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89,1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89,8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90,23%</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73,15%</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360" rIns="9360" tIns="936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a:t>
                      </a:r>
                      <a:r>
                        <a:rPr b="1" lang="it-IT" sz="900" spc="-1" strike="noStrike">
                          <a:solidFill>
                            <a:srgbClr val="000000"/>
                          </a:solidFill>
                          <a:latin typeface="Tahoma"/>
                          <a:ea typeface="Times New Roman"/>
                        </a:rPr>
                        <a:t>IND844</a:t>
                      </a:r>
                      <a:r>
                        <a:rPr b="0" lang="it-IT" sz="900" spc="-1" strike="noStrike">
                          <a:solidFill>
                            <a:srgbClr val="000000"/>
                          </a:solidFill>
                          <a:latin typeface="Tahoma"/>
                          <a:ea typeface="Times New Roman"/>
                        </a:rPr>
                        <a:t>) Proporzione </a:t>
                      </a:r>
                      <a:r>
                        <a:rPr b="1" lang="it-IT" sz="900" spc="-1" strike="noStrike" u="sng">
                          <a:solidFill>
                            <a:srgbClr val="000000"/>
                          </a:solidFill>
                          <a:uFillTx/>
                          <a:latin typeface="Tahoma"/>
                          <a:ea typeface="Times New Roman"/>
                        </a:rPr>
                        <a:t>colecistectomie laparoscopiche</a:t>
                      </a:r>
                      <a:r>
                        <a:rPr b="0" lang="it-IT" sz="900" spc="-1" strike="noStrike">
                          <a:solidFill>
                            <a:srgbClr val="000000"/>
                          </a:solidFill>
                          <a:latin typeface="Tahoma"/>
                          <a:ea typeface="Times New Roman"/>
                        </a:rPr>
                        <a:t> con degenza inferiore a 3 giorni - Indicatore NSG: H05Z</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gt;= 75%</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72,09%</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74,2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89,21%</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84,94%</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01480">
                <a:tc>
                  <a:txBody>
                    <a:bodyPr lIns="9360" rIns="9360" tIns="936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a:t>
                      </a:r>
                      <a:r>
                        <a:rPr b="1" lang="it-IT" sz="900" spc="-1" strike="noStrike">
                          <a:solidFill>
                            <a:srgbClr val="000000"/>
                          </a:solidFill>
                          <a:latin typeface="Tahoma"/>
                          <a:ea typeface="Times New Roman"/>
                        </a:rPr>
                        <a:t>IND846</a:t>
                      </a:r>
                      <a:r>
                        <a:rPr b="0" lang="it-IT" sz="900" spc="-1" strike="noStrike">
                          <a:solidFill>
                            <a:srgbClr val="000000"/>
                          </a:solidFill>
                          <a:latin typeface="Tahoma"/>
                          <a:ea typeface="Times New Roman"/>
                        </a:rPr>
                        <a:t>)</a:t>
                      </a:r>
                      <a:r>
                        <a:rPr b="1" lang="it-IT" sz="900" spc="-1" strike="noStrike">
                          <a:solidFill>
                            <a:srgbClr val="000000"/>
                          </a:solidFill>
                          <a:latin typeface="Tahoma"/>
                          <a:ea typeface="Times New Roman"/>
                        </a:rPr>
                        <a:t> </a:t>
                      </a:r>
                      <a:r>
                        <a:rPr b="0" lang="it-IT" sz="900" spc="-1" strike="noStrike">
                          <a:solidFill>
                            <a:srgbClr val="000000"/>
                          </a:solidFill>
                          <a:latin typeface="Tahoma"/>
                          <a:ea typeface="Times New Roman"/>
                        </a:rPr>
                        <a:t>% di </a:t>
                      </a:r>
                      <a:r>
                        <a:rPr b="1" lang="it-IT" sz="900" spc="-1" strike="noStrike" u="sng">
                          <a:solidFill>
                            <a:srgbClr val="000000"/>
                          </a:solidFill>
                          <a:uFillTx/>
                          <a:latin typeface="Tahoma"/>
                          <a:ea typeface="Times New Roman"/>
                        </a:rPr>
                        <a:t>parti cesarei primari</a:t>
                      </a:r>
                      <a:r>
                        <a:rPr b="0" lang="it-IT" sz="900" spc="-1" strike="noStrike">
                          <a:solidFill>
                            <a:srgbClr val="000000"/>
                          </a:solidFill>
                          <a:latin typeface="Tahoma"/>
                          <a:ea typeface="Times New Roman"/>
                        </a:rPr>
                        <a:t> in strutture con meno di 1.000 parti all'anno - Indicatore NSG: H17C</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lt;= 20% </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16,49%</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ea typeface="Times New Roman"/>
                        </a:rPr>
                        <a:t>17,0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16,85%</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ahoma"/>
                          <a:ea typeface="Times New Roman"/>
                        </a:rPr>
                        <a:t>15,12%</a:t>
                      </a:r>
                      <a:endParaRPr b="0" lang="en-US" sz="9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6"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67"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68" name="Segnaposto numero diapositiva 1"/>
          <p:cNvSpPr/>
          <p:nvPr/>
        </p:nvSpPr>
        <p:spPr>
          <a:xfrm>
            <a:off x="7238880" y="65977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2049-EA18-4CC3-8589-5031DE873152}"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69"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sp>
        <p:nvSpPr>
          <p:cNvPr id="1470"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71" name="Text Box 15"/>
          <p:cNvSpPr/>
          <p:nvPr/>
        </p:nvSpPr>
        <p:spPr>
          <a:xfrm>
            <a:off x="1295280" y="1220760"/>
            <a:ext cx="7818480" cy="204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Arial"/>
              </a:rPr>
              <a:t>Attività chirurgica</a:t>
            </a:r>
            <a:endParaRPr b="0" lang="en-US" sz="1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ttività chirurgica, a partire dal 2020, come descritto nei diversi atti di rendicontazione degli anni precedenti, ha subito una importante contrazione in termini di volumi di interventi dovuta alla sospensione dell’attività procrastinabile nel periodo emergenziale acuto. </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produzione aziendale nel 2020 presentava infatti un decremento del -30%, pari a -2.595 interventi, rispetto al 2019 e nel 2021, per le stesse ragioni legate allo stato di emergenza, è stato rilevato un ulteriore decremento, seppur più contenuto e riguardante esclusivamente il regime di accesso ordinario.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La tabella mostra l’</a:t>
            </a:r>
            <a:r>
              <a:rPr b="0" lang="it-IT" sz="1000" spc="-1" strike="noStrike" u="sng">
                <a:solidFill>
                  <a:srgbClr val="000000"/>
                </a:solidFill>
                <a:uFillTx/>
                <a:latin typeface="Arial"/>
                <a:ea typeface="Arial"/>
              </a:rPr>
              <a:t>attività di sala operatoria per regime di accesso in riferimento agli interventi chirurgici</a:t>
            </a:r>
            <a:r>
              <a:rPr b="0" lang="it-IT" sz="1000" spc="-1" strike="noStrike">
                <a:solidFill>
                  <a:srgbClr val="000000"/>
                </a:solidFill>
                <a:latin typeface="Arial"/>
                <a:ea typeface="Arial"/>
              </a:rPr>
              <a:t>, evidenziando lo scostamento dei volumi 2022 rispetto all’anno precedente (2021) e all’anno 2019 (pre-pandemia). </a:t>
            </a:r>
            <a:endParaRPr b="0" lang="en-US" sz="1000" spc="-1" strike="noStrike">
              <a:solidFill>
                <a:srgbClr val="000000"/>
              </a:solidFill>
              <a:latin typeface="Times New Roman"/>
            </a:endParaRPr>
          </a:p>
        </p:txBody>
      </p:sp>
      <p:pic>
        <p:nvPicPr>
          <p:cNvPr id="1472" name="Immagine 2" descr=""/>
          <p:cNvPicPr/>
          <p:nvPr/>
        </p:nvPicPr>
        <p:blipFill>
          <a:blip r:embed="rId3"/>
          <a:stretch/>
        </p:blipFill>
        <p:spPr>
          <a:xfrm>
            <a:off x="1670040" y="3646440"/>
            <a:ext cx="7078680" cy="1725840"/>
          </a:xfrm>
          <a:prstGeom prst="rect">
            <a:avLst/>
          </a:prstGeom>
          <a:ln w="0">
            <a:noFill/>
          </a:ln>
        </p:spPr>
      </p:pic>
      <p:sp>
        <p:nvSpPr>
          <p:cNvPr id="1473" name="CasellaDiTesto 9"/>
          <p:cNvSpPr/>
          <p:nvPr/>
        </p:nvSpPr>
        <p:spPr>
          <a:xfrm>
            <a:off x="1266840" y="5575320"/>
            <a:ext cx="78469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Il totale complessivo di interventi 2022 risulta rispetto al 2021 in significativo incremento (+1.631 interventi; +27,4%). </a:t>
            </a:r>
            <a:endParaRPr b="0" lang="en-US" sz="10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A confronto con il 2019 si rileva uno scostamento pari a -11,8% (-1.015 interventi). In base al regime di accesso, nel 2022, un maggior incremento per quanto riguarda il regime ordinario con +841 interventi (+34,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5"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76"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77" name="Segnaposto numero diapositiva 1"/>
          <p:cNvSpPr/>
          <p:nvPr/>
        </p:nvSpPr>
        <p:spPr>
          <a:xfrm>
            <a:off x="7238880" y="65977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8ED3-C1A7-4AAE-BD39-ED6B24A4B005}"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78"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sp>
        <p:nvSpPr>
          <p:cNvPr id="1479"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80" name="CasellaDiTesto 9"/>
          <p:cNvSpPr/>
          <p:nvPr/>
        </p:nvSpPr>
        <p:spPr>
          <a:xfrm>
            <a:off x="1316160" y="1236600"/>
            <a:ext cx="7767360" cy="1737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9966"/>
                </a:solidFill>
                <a:latin typeface="Arial"/>
                <a:ea typeface="Arial"/>
              </a:rPr>
              <a:t>Tempi di attesa prestazioni di ricovero ospedaliero</a:t>
            </a:r>
            <a:endParaRPr b="0" lang="en-US" sz="1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Nel 2022 l’Azienda è riuscita ad aumentare la capacità di ricovero per interventi programmati, contribuendo al recupero della casistica rinviata negli anni 2021 e 2020 e producendo un netto miglioramento rispetto alla performance 2021, con riferimento alle prestazioni erogate entro i tempi per gli interventi oggetto di monitoraggio, raggiungendo, e in alcuni casi superando, l’obiettivo assegnato dalla Regione. In tabella vengono riportati gli indicatori, monitorati su InSiDER, riguardanti i tempi di attesa retrospettivi. Il monitoraggio degli obiettivi di seguito elencati è stato assicurato nel 2022 in coerenza anche con il protocollo di intesa di cui alla DGR 1145/2022 in merito al recupero delle liste di attesa.</a:t>
            </a:r>
            <a:endParaRPr b="0" lang="en-US" sz="1000" spc="-1" strike="noStrike">
              <a:solidFill>
                <a:srgbClr val="000000"/>
              </a:solidFill>
              <a:latin typeface="Times New Roman"/>
            </a:endParaRPr>
          </a:p>
        </p:txBody>
      </p:sp>
      <p:pic>
        <p:nvPicPr>
          <p:cNvPr id="1481" name="Immagine 13" descr=""/>
          <p:cNvPicPr/>
          <p:nvPr/>
        </p:nvPicPr>
        <p:blipFill>
          <a:blip r:embed="rId3"/>
          <a:stretch/>
        </p:blipFill>
        <p:spPr>
          <a:xfrm>
            <a:off x="1887480" y="3087720"/>
            <a:ext cx="6624720" cy="379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3"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84"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85" name="Segnaposto numero diapositiva 1"/>
          <p:cNvSpPr/>
          <p:nvPr/>
        </p:nvSpPr>
        <p:spPr>
          <a:xfrm>
            <a:off x="7238880" y="65977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3397-6E6C-4E30-8AF0-71AF9073AC88}"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86"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sp>
        <p:nvSpPr>
          <p:cNvPr id="1487"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88" name="Text Box 15"/>
          <p:cNvSpPr/>
          <p:nvPr/>
        </p:nvSpPr>
        <p:spPr>
          <a:xfrm>
            <a:off x="1325520" y="3530520"/>
            <a:ext cx="7788240" cy="1933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indicatore sull’attuazione del </a:t>
            </a:r>
            <a:r>
              <a:rPr b="1" lang="it-IT" sz="1200" spc="-1" strike="noStrike">
                <a:solidFill>
                  <a:srgbClr val="339966"/>
                </a:solidFill>
                <a:latin typeface="Arial"/>
                <a:ea typeface="Arial"/>
              </a:rPr>
              <a:t>Piano Operativo di Recupero degli interventi chirurgici rinviati per la pandemia Covid-19</a:t>
            </a:r>
            <a:r>
              <a:rPr b="1" lang="it-IT" sz="1100" spc="-1" strike="noStrike">
                <a:solidFill>
                  <a:srgbClr val="339966"/>
                </a:solidFill>
                <a:latin typeface="Arial"/>
                <a:ea typeface="Arial"/>
              </a:rPr>
              <a:t> </a:t>
            </a:r>
            <a:r>
              <a:rPr b="0" lang="it-IT" sz="1100" spc="-1" strike="noStrike">
                <a:solidFill>
                  <a:srgbClr val="000000"/>
                </a:solidFill>
                <a:latin typeface="Arial"/>
                <a:ea typeface="Arial"/>
              </a:rPr>
              <a:t>(documento RER Liste di Attesa febbraio 2023) mette a confronto la produzione chirurgica totale 2022 vs 2019, per rilevare la capacità produttiva, ponendo quale target/obiettivo regionale il 92%. L’AUSL di Imola evidenzia una capacità produttiva pari al 96% oltre abbondantemente il target richiesto. Indicatore, monitorato su InSiDER, che valuta la percentuale di recupero di interventi chirurgici rinviati a causa della pandemia Covid-19 (flusso SIGLA):</a:t>
            </a:r>
            <a:endParaRPr b="0" lang="en-US" sz="1100" spc="-1" strike="noStrike">
              <a:solidFill>
                <a:srgbClr val="000000"/>
              </a:solidFill>
              <a:latin typeface="Times New Roman"/>
            </a:endParaRPr>
          </a:p>
          <a:p>
            <a:pPr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1" lang="it-IT" sz="1100" spc="-1" strike="noStrike">
                <a:solidFill>
                  <a:srgbClr val="000000"/>
                </a:solidFill>
                <a:latin typeface="Arial"/>
                <a:ea typeface="Arial"/>
              </a:rPr>
              <a:t>IND917</a:t>
            </a:r>
            <a:r>
              <a:rPr b="0" lang="it-IT" sz="1100" spc="-1" strike="noStrike">
                <a:solidFill>
                  <a:srgbClr val="000000"/>
                </a:solidFill>
                <a:latin typeface="Arial"/>
                <a:ea typeface="Arial"/>
              </a:rPr>
              <a:t>) % Recupero degli interventi chirurgici rinviati per la pandemia Covid-19. Target: 80%.</a:t>
            </a: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u="sng">
                <a:solidFill>
                  <a:srgbClr val="000000"/>
                </a:solidFill>
                <a:uFillTx/>
                <a:latin typeface="Arial"/>
                <a:ea typeface="Arial"/>
              </a:rPr>
              <a:t>L’AUSL di Imola mostra un recupero pari al 96,35%.</a:t>
            </a:r>
            <a:r>
              <a:rPr b="0" lang="it-IT" sz="1100" spc="-1" strike="noStrike">
                <a:solidFill>
                  <a:srgbClr val="000000"/>
                </a:solidFill>
                <a:latin typeface="Arial"/>
                <a:ea typeface="Arial"/>
              </a:rPr>
              <a:t> Il valore medio regionale risulta pari a 79,95%.</a:t>
            </a:r>
            <a:endParaRPr b="0" lang="en-US" sz="1100" spc="-1" strike="noStrike">
              <a:solidFill>
                <a:srgbClr val="000000"/>
              </a:solidFill>
              <a:latin typeface="Times New Roman"/>
            </a:endParaRPr>
          </a:p>
        </p:txBody>
      </p:sp>
      <p:sp>
        <p:nvSpPr>
          <p:cNvPr id="1489" name="CasellaDiTesto 9"/>
          <p:cNvSpPr/>
          <p:nvPr/>
        </p:nvSpPr>
        <p:spPr>
          <a:xfrm>
            <a:off x="1297080" y="1319040"/>
            <a:ext cx="7788240" cy="2162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9966"/>
                </a:solidFill>
                <a:latin typeface="Arial"/>
                <a:ea typeface="Arial"/>
              </a:rPr>
              <a:t>Recupero casistica rinviata durante il 2020 e 2021 a causa della pandemia</a:t>
            </a:r>
            <a:endParaRPr b="0" lang="en-US" sz="1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Durante il 2022 oltre a prestare una particolare attenzione agli obiettivi di performance degli interventi chirurgici oggetto di monitoraggio, con particolare riguardo alla casistica oncologica, fondamentale per garantire un equo accesso ai servizi da parte dei cittadini, è stato profuso un impegno particolare al recupero della casistica rinviata durante il 2020 e 2021 a causa della pandemia. A questo proposito si riporta di seguito il monitoraggio dell’indicatore InSiDER che valuta la differenza percentuale dei volumi di produzione chirurgica 2022 rispetto a quelli dell'anno 2019 (fonte SDO).</a:t>
            </a:r>
            <a:endParaRPr b="0" lang="en-US" sz="1100" spc="-1" strike="noStrike">
              <a:solidFill>
                <a:srgbClr val="000000"/>
              </a:solidFill>
              <a:latin typeface="Times New Roman"/>
            </a:endParaRPr>
          </a:p>
          <a:p>
            <a:pPr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1" lang="it-IT" sz="1100" spc="-1" strike="noStrike">
                <a:solidFill>
                  <a:srgbClr val="000000"/>
                </a:solidFill>
                <a:latin typeface="Arial"/>
                <a:ea typeface="Arial"/>
              </a:rPr>
              <a:t>IND916</a:t>
            </a:r>
            <a:r>
              <a:rPr b="0" lang="it-IT" sz="1100" spc="-1" strike="noStrike">
                <a:solidFill>
                  <a:srgbClr val="000000"/>
                </a:solidFill>
                <a:latin typeface="Arial"/>
                <a:ea typeface="Arial"/>
              </a:rPr>
              <a:t>) Produzione chirurgica. Target: &gt;= 92% della capacità produttiva chirurgica 2019.</a:t>
            </a: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u="sng">
                <a:solidFill>
                  <a:srgbClr val="000000"/>
                </a:solidFill>
                <a:uFillTx/>
                <a:latin typeface="Arial"/>
                <a:ea typeface="Arial"/>
              </a:rPr>
              <a:t>L’AUSL di Imola mostra nel 2022 una percentuale pari all’89,81%.</a:t>
            </a:r>
            <a:r>
              <a:rPr b="0" lang="it-IT" sz="1100" spc="-1" strike="noStrike">
                <a:solidFill>
                  <a:srgbClr val="000000"/>
                </a:solidFill>
                <a:latin typeface="Arial"/>
                <a:ea typeface="Arial"/>
              </a:rPr>
              <a:t> La media regionale risulta pari al 95,25%.</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2"/>
          <p:cNvSpPr/>
          <p:nvPr/>
        </p:nvSpPr>
        <p:spPr>
          <a:xfrm>
            <a:off x="1295280" y="0"/>
            <a:ext cx="7848720" cy="121932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91" name="Picture 4" descr="C:\Documents and Settings\Coglianese\Desktop\LOGO\PUNTI.gif"/>
          <p:cNvPicPr/>
          <p:nvPr/>
        </p:nvPicPr>
        <p:blipFill>
          <a:blip r:embed="rId1"/>
          <a:stretch/>
        </p:blipFill>
        <p:spPr>
          <a:xfrm>
            <a:off x="304920" y="152280"/>
            <a:ext cx="860400" cy="844560"/>
          </a:xfrm>
          <a:prstGeom prst="rect">
            <a:avLst/>
          </a:prstGeom>
          <a:ln w="0">
            <a:noFill/>
          </a:ln>
        </p:spPr>
      </p:pic>
      <p:pic>
        <p:nvPicPr>
          <p:cNvPr id="1492" name="Picture 5" descr="C:\Documents and Settings\Coglianese\Desktop\LOGO\SCRIVI.gif"/>
          <p:cNvPicPr/>
          <p:nvPr/>
        </p:nvPicPr>
        <p:blipFill>
          <a:blip r:embed="rId2"/>
          <a:stretch/>
        </p:blipFill>
        <p:spPr>
          <a:xfrm>
            <a:off x="1523880" y="0"/>
            <a:ext cx="3505320" cy="965160"/>
          </a:xfrm>
          <a:prstGeom prst="rect">
            <a:avLst/>
          </a:prstGeom>
          <a:ln w="0">
            <a:noFill/>
          </a:ln>
        </p:spPr>
      </p:pic>
      <p:sp>
        <p:nvSpPr>
          <p:cNvPr id="1493" name="Segnaposto numero diapositiva 1"/>
          <p:cNvSpPr/>
          <p:nvPr/>
        </p:nvSpPr>
        <p:spPr>
          <a:xfrm>
            <a:off x="7175520" y="644220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0861-F09E-44E7-984D-9065ACCB72F2}" type="slidenum">
              <a:rPr b="0" lang="it-IT"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
        <p:nvSpPr>
          <p:cNvPr id="1494" name="Text Box 10"/>
          <p:cNvSpPr/>
          <p:nvPr/>
        </p:nvSpPr>
        <p:spPr>
          <a:xfrm>
            <a:off x="5800680" y="37476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Narrow"/>
              </a:rPr>
              <a:t>Assistenza Ospedaliera</a:t>
            </a:r>
            <a:endParaRPr b="0" lang="en-US" sz="2000" spc="-1" strike="noStrike">
              <a:solidFill>
                <a:srgbClr val="000000"/>
              </a:solidFill>
              <a:latin typeface="Times New Roman"/>
            </a:endParaRPr>
          </a:p>
        </p:txBody>
      </p:sp>
      <p:sp>
        <p:nvSpPr>
          <p:cNvPr id="1495" name="Line 3"/>
          <p:cNvSpPr/>
          <p:nvPr/>
        </p:nvSpPr>
        <p:spPr>
          <a:xfrm>
            <a:off x="1295280" y="0"/>
            <a:ext cx="0" cy="685800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96" name="Text Box 15"/>
          <p:cNvSpPr/>
          <p:nvPr/>
        </p:nvSpPr>
        <p:spPr>
          <a:xfrm>
            <a:off x="1295280" y="1197000"/>
            <a:ext cx="7785360" cy="201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59"/>
                </a:solidFill>
                <a:latin typeface="Arial"/>
                <a:ea typeface="Arial"/>
              </a:rPr>
              <a:t>Emergenza ospedaliera</a:t>
            </a:r>
            <a:endParaRPr b="0" lang="en-US" sz="14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Il</a:t>
            </a:r>
            <a:r>
              <a:rPr b="1" lang="it-IT" sz="1000" spc="-1" strike="noStrike">
                <a:solidFill>
                  <a:srgbClr val="1f497d"/>
                </a:solidFill>
                <a:latin typeface="Arial"/>
                <a:ea typeface="Times New Roman"/>
              </a:rPr>
              <a:t> </a:t>
            </a:r>
            <a:r>
              <a:rPr b="0" lang="it-IT" sz="1000" spc="-1" strike="noStrike">
                <a:solidFill>
                  <a:srgbClr val="000000"/>
                </a:solidFill>
                <a:latin typeface="Arial"/>
                <a:ea typeface="Times New Roman"/>
              </a:rPr>
              <a:t>Pronto Soccorso nel 2021 registrava un incremento di accessi rispetto al 2020, causa l’abbattimento importante verificatosi con la prima emergenza SARS-COV-2. Anche nel 2022 si conferma un aumento degli accessi rispetto all’anno precedente, pari a +19,6% (+7.861 accessi).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Il confronto con il 2019 (anno pre covid) rileva uno scostamento pari a -9,3% accessi (-4.945), mostrando un recupero parziale in termini % in particolare per i PS specialistici: Oculistica (-25%, pari a -809 accessi), Ginecologia (-24,6%, pari a -778 accessi), PS Ortopedico (-16,8%; -1.043 accessi) e il PS Pediatrico (-15%; -825 accessi). </a:t>
            </a:r>
            <a:endParaRPr b="0" lang="en-US" sz="10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Times New Roman"/>
              </a:rPr>
              <a:t>Il PS Genarle rileva un quasi totale allineamento ai volumi del 2019 con uno scostamento del -4,3%. </a:t>
            </a:r>
            <a:endParaRPr b="0" lang="en-US" sz="1000" spc="-1" strike="noStrike">
              <a:solidFill>
                <a:srgbClr val="000000"/>
              </a:solidFill>
              <a:latin typeface="Times New Roman"/>
            </a:endParaRPr>
          </a:p>
        </p:txBody>
      </p:sp>
      <p:sp>
        <p:nvSpPr>
          <p:cNvPr id="1497" name="CasellaDiTesto 10"/>
          <p:cNvSpPr/>
          <p:nvPr/>
        </p:nvSpPr>
        <p:spPr>
          <a:xfrm>
            <a:off x="1370160" y="5388120"/>
            <a:ext cx="7675560" cy="138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u piattaforma InSiDER si riporta l’indicatore regionale sulla percentuale di accessi in PS con permanenza &lt;6 +1 ore (valore di riferimento &gt;95%):</a:t>
            </a:r>
            <a:endParaRPr b="0" lang="en-US" sz="1100" spc="-1" strike="noStrike">
              <a:solidFill>
                <a:srgbClr val="000000"/>
              </a:solidFill>
              <a:latin typeface="Times New Roman"/>
            </a:endParaRPr>
          </a:p>
          <a:p>
            <a:pPr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t>
            </a:r>
            <a:r>
              <a:rPr b="1" lang="it-IT" sz="1100" spc="-1" strike="noStrike">
                <a:solidFill>
                  <a:srgbClr val="000000"/>
                </a:solidFill>
                <a:latin typeface="Arial"/>
                <a:ea typeface="Arial"/>
              </a:rPr>
              <a:t>IND776</a:t>
            </a:r>
            <a:r>
              <a:rPr b="0" lang="it-IT" sz="1100" spc="-1" strike="noStrike">
                <a:solidFill>
                  <a:srgbClr val="000000"/>
                </a:solidFill>
                <a:latin typeface="Arial"/>
                <a:ea typeface="Arial"/>
              </a:rPr>
              <a:t>) % accessi con permanenza &lt;6 +1 ore in PS con meno di 45.000 accessi.</a:t>
            </a:r>
            <a:endParaRPr b="0" lang="en-US" sz="11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USL di Imola, nel 2022, presenta una percentuale pari a 81,86%, in leggero calo rispetto al 2021 (82,83%). Il valore medio regionale 2022 risulta pari a 85,93%.</a:t>
            </a:r>
            <a:endParaRPr b="0" lang="en-US" sz="1100" spc="-1" strike="noStrike">
              <a:solidFill>
                <a:srgbClr val="000000"/>
              </a:solidFill>
              <a:latin typeface="Times New Roman"/>
            </a:endParaRPr>
          </a:p>
        </p:txBody>
      </p:sp>
      <p:pic>
        <p:nvPicPr>
          <p:cNvPr id="1498" name="Immagine 1" descr=""/>
          <p:cNvPicPr/>
          <p:nvPr/>
        </p:nvPicPr>
        <p:blipFill>
          <a:blip r:embed="rId3"/>
          <a:stretch/>
        </p:blipFill>
        <p:spPr>
          <a:xfrm>
            <a:off x="1523880" y="3432240"/>
            <a:ext cx="7369200" cy="18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numero diapositiva 1"/>
          <p:cNvSpPr/>
          <p:nvPr/>
        </p:nvSpPr>
        <p:spPr>
          <a:xfrm>
            <a:off x="6913440" y="633240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2D69-FAA6-4B2A-875C-173FE437702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77"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78" name="CasellaDiTesto 2"/>
          <p:cNvSpPr/>
          <p:nvPr/>
        </p:nvSpPr>
        <p:spPr>
          <a:xfrm>
            <a:off x="5079960" y="368280"/>
            <a:ext cx="36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Risultato di Esercizio 2022</a:t>
            </a:r>
            <a:endParaRPr b="0" lang="en-US" sz="2000" spc="-1" strike="noStrike">
              <a:solidFill>
                <a:srgbClr val="000000"/>
              </a:solidFill>
              <a:latin typeface="Times New Roman"/>
            </a:endParaRPr>
          </a:p>
        </p:txBody>
      </p:sp>
      <p:sp>
        <p:nvSpPr>
          <p:cNvPr id="1279" name="Rettangolo 3"/>
          <p:cNvSpPr/>
          <p:nvPr/>
        </p:nvSpPr>
        <p:spPr>
          <a:xfrm>
            <a:off x="1258920" y="1484280"/>
            <a:ext cx="7634160" cy="2632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Con DGR n. 602 del 20/04/023 “</a:t>
            </a:r>
            <a:r>
              <a:rPr b="0" i="1" lang="it-IT" sz="1200" spc="-1" strike="noStrike">
                <a:solidFill>
                  <a:srgbClr val="000000"/>
                </a:solidFill>
                <a:latin typeface="Arial"/>
                <a:ea typeface="Times New Roman"/>
              </a:rPr>
              <a:t>Approvazione di quote di avanzo vincolato di amministrazione da svincolare in applicazione del comma 822 dell’art. 1 della Legge 29 dicembre 2022, n. 197 così come modificato dall’art. 16-Ter del D.L. 29 dicembre 2022, n.198 convertito con modificazioni dalla Legge 24 febbraio 2023, n.14 per ‘attuazione degli interventi previsti alle lettere B) e C-bis) del medesimo comma</a:t>
            </a:r>
            <a:r>
              <a:rPr b="0" lang="it-IT" sz="1200" spc="-1" strike="noStrike">
                <a:solidFill>
                  <a:srgbClr val="000000"/>
                </a:solidFill>
                <a:latin typeface="Arial"/>
                <a:ea typeface="Times New Roman"/>
              </a:rPr>
              <a:t>”, la Regione ha approvato le quote di avanzo vincolato di amministrazione da svincolare e ad attribuire alle stesse la destinazione vincolata alla copertura totale del disavanzo della gestione 2022 delle Aziende del servizio sanitario regionale.</a:t>
            </a:r>
            <a:endParaRPr b="0" lang="en-US" sz="12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La perdita di esercizio pari a euro 3.661.301 troverà copertura nell’ambito delle risorse di cui alla DGR n. 602/2023 che saranno assegnate alle Aziende sanitarie in sede di approvazione dei bilanci di esercizio 2022 da parte della Giunta Regiona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egnaposto numero diapositiva 1"/>
          <p:cNvSpPr/>
          <p:nvPr/>
        </p:nvSpPr>
        <p:spPr>
          <a:xfrm>
            <a:off x="6913440" y="633240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9B15-62C9-496F-99CD-E1C0F0902A91}"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81"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82" name="CasellaDiTesto 2"/>
          <p:cNvSpPr/>
          <p:nvPr/>
        </p:nvSpPr>
        <p:spPr>
          <a:xfrm>
            <a:off x="5103720" y="206280"/>
            <a:ext cx="36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Contributi in conto esercizio 2022-2021</a:t>
            </a:r>
            <a:endParaRPr b="0" lang="en-US" sz="2000" spc="-1" strike="noStrike">
              <a:solidFill>
                <a:srgbClr val="000000"/>
              </a:solidFill>
              <a:latin typeface="Times New Roman"/>
            </a:endParaRPr>
          </a:p>
        </p:txBody>
      </p:sp>
      <p:sp>
        <p:nvSpPr>
          <p:cNvPr id="1283" name="Rettangolo 3"/>
          <p:cNvSpPr/>
          <p:nvPr/>
        </p:nvSpPr>
        <p:spPr>
          <a:xfrm>
            <a:off x="1231920" y="3460680"/>
            <a:ext cx="7732800" cy="192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Rispetto al preventivo 2022, i contributi in c/esercizio segnano un incremento di +13,3 milioni di euro, riconducibile alle Risorse trasferite all’Azienda successivamente alla data di approvazione del Preventivo 2022.</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Times New Roman"/>
              </a:rPr>
              <a:t>Le variazioni più significative sono riconducibili al Finanziamento indistinto – altro, +8,3 milioni di euro e ai Contributi vincolati da FSN, +6,1 milioni di euro, mentre i Contributi finalizzati segnano una riduzione di -2,1 milioni di euro. Per l’insieme delle altri voci che compongono l’aggregato dei Contributi in c/esercizio si registra un incremento di ca. 900 mila euro.</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1284" name="Immagine 1" descr=""/>
          <p:cNvPicPr/>
          <p:nvPr/>
        </p:nvPicPr>
        <p:blipFill>
          <a:blip r:embed="rId2"/>
          <a:stretch/>
        </p:blipFill>
        <p:spPr>
          <a:xfrm>
            <a:off x="1376280" y="1650960"/>
            <a:ext cx="7443720" cy="14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Segnaposto numero diapositiva 1"/>
          <p:cNvSpPr/>
          <p:nvPr/>
        </p:nvSpPr>
        <p:spPr>
          <a:xfrm>
            <a:off x="6942240" y="6524640"/>
            <a:ext cx="213336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E9A4-EFD6-4071-AC4F-4CCEC3D5EDE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86"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87" name="Text Box 15"/>
          <p:cNvSpPr/>
          <p:nvPr/>
        </p:nvSpPr>
        <p:spPr>
          <a:xfrm>
            <a:off x="5508720" y="216000"/>
            <a:ext cx="3311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Acquisto beni di consu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2022-2019</a:t>
            </a:r>
            <a:endParaRPr b="0" lang="en-US" sz="2000" spc="-1" strike="noStrike">
              <a:solidFill>
                <a:srgbClr val="000000"/>
              </a:solidFill>
              <a:latin typeface="Times New Roman"/>
            </a:endParaRPr>
          </a:p>
        </p:txBody>
      </p:sp>
      <p:sp>
        <p:nvSpPr>
          <p:cNvPr id="1288" name="Text Box 15"/>
          <p:cNvSpPr/>
          <p:nvPr/>
        </p:nvSpPr>
        <p:spPr>
          <a:xfrm>
            <a:off x="1187280" y="3882960"/>
            <a:ext cx="7848720" cy="3181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I valori riportati in tabella fanno riferimento ai costi sostenuti per l’acquisto dei </a:t>
            </a:r>
            <a:r>
              <a:rPr b="1" lang="it-IT" sz="1100" spc="-1" strike="noStrike" u="sng">
                <a:solidFill>
                  <a:srgbClr val="339966"/>
                </a:solidFill>
                <a:uFillTx/>
                <a:latin typeface="Arial"/>
                <a:ea typeface="Arial"/>
              </a:rPr>
              <a:t>beni sanitari e non sanitari </a:t>
            </a:r>
            <a:r>
              <a:rPr b="0" lang="it-IT" sz="1100" spc="-1" strike="noStrike">
                <a:solidFill>
                  <a:srgbClr val="000000"/>
                </a:solidFill>
                <a:latin typeface="Arial"/>
                <a:ea typeface="Arial"/>
              </a:rPr>
              <a:t>che, comprensivi della variazione delle rimanenze, registrano un incremento di € +2,218 milioni rispetto al consuntivo 2021 (+5,5%). </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I principali fattori di incremento sono:</a:t>
            </a:r>
            <a:endParaRPr b="0" lang="en-US" sz="1100" spc="-1" strike="noStrike">
              <a:solidFill>
                <a:srgbClr val="000000"/>
              </a:solidFill>
              <a:latin typeface="Times New Roman"/>
            </a:endParaRPr>
          </a:p>
          <a:p>
            <a:pPr algn="just">
              <a:lnSpc>
                <a:spcPct val="15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u="sng">
                <a:solidFill>
                  <a:srgbClr val="000000"/>
                </a:solidFill>
                <a:uFillTx/>
                <a:latin typeface="Arial"/>
                <a:ea typeface="Arial"/>
              </a:rPr>
              <a:t>L’aggregato dei Farmaci</a:t>
            </a:r>
            <a:r>
              <a:rPr b="0" lang="it-IT" sz="1100" spc="-1" strike="noStrike">
                <a:solidFill>
                  <a:srgbClr val="000000"/>
                </a:solidFill>
                <a:latin typeface="Arial"/>
                <a:ea typeface="Arial"/>
              </a:rPr>
              <a:t> registra un incremento di consumo rispetto al 2021 pari a € +2,043 milioni, determinato prevalentemente da maggiore erogazione diretta di farmaci rivolti alla cura di pazienti affetti da malattie rare € +652.000, dalla maggiore spesa per farmaci innovativi che, rispetto al 2021, determina una maggior valore pari a € +863.374 e per l’aumento di vaccini per € + 218.000. I farmaci innovativi oncologici e non oncologici rilevano un consuntivo 2022 pari complessivamente a € 2.274.926 interamente finanziato. </a:t>
            </a:r>
            <a:endParaRPr b="0" lang="en-US" sz="1100" spc="-1" strike="noStrike">
              <a:solidFill>
                <a:srgbClr val="000000"/>
              </a:solidFill>
              <a:latin typeface="Times New Roman"/>
            </a:endParaRPr>
          </a:p>
          <a:p>
            <a:pPr algn="just">
              <a:lnSpc>
                <a:spcPct val="150000"/>
              </a:lnSpc>
              <a:spcBef>
                <a:spcPts val="3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Nell’ambito dei beni sanitari, incide altresì, in particolare, la spesa per </a:t>
            </a:r>
            <a:r>
              <a:rPr b="0" lang="it-IT" sz="1100" spc="-1" strike="noStrike" u="sng">
                <a:solidFill>
                  <a:srgbClr val="000000"/>
                </a:solidFill>
                <a:uFillTx/>
                <a:latin typeface="Arial"/>
                <a:ea typeface="Arial"/>
              </a:rPr>
              <a:t>Dispositivi Medici,</a:t>
            </a:r>
            <a:r>
              <a:rPr b="0" lang="it-IT" sz="1100" spc="-1" strike="noStrike">
                <a:solidFill>
                  <a:srgbClr val="000000"/>
                </a:solidFill>
                <a:latin typeface="Arial"/>
                <a:ea typeface="Arial"/>
              </a:rPr>
              <a:t> pari a circa € 561 mila correlata, prevalentemente, all’incremento dell’attività chirurgica (+27,41%), parzialmente compensata da riduzione di Dispositivi di Protezione Individuale.</a:t>
            </a:r>
            <a:endParaRPr b="0" lang="en-US" sz="1100" spc="-1" strike="noStrike">
              <a:solidFill>
                <a:srgbClr val="000000"/>
              </a:solidFill>
              <a:latin typeface="Times New Roman"/>
            </a:endParaRPr>
          </a:p>
        </p:txBody>
      </p:sp>
      <p:pic>
        <p:nvPicPr>
          <p:cNvPr id="1289" name="Immagine 1" descr=""/>
          <p:cNvPicPr/>
          <p:nvPr/>
        </p:nvPicPr>
        <p:blipFill>
          <a:blip r:embed="rId2"/>
          <a:stretch/>
        </p:blipFill>
        <p:spPr>
          <a:xfrm>
            <a:off x="2411280" y="1212840"/>
            <a:ext cx="540720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Segnaposto numero diapositiva 1"/>
          <p:cNvSpPr/>
          <p:nvPr/>
        </p:nvSpPr>
        <p:spPr>
          <a:xfrm>
            <a:off x="691992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94DE-16B3-41C2-8EDF-77414CC2652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91"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92" name="Text Box 15"/>
          <p:cNvSpPr/>
          <p:nvPr/>
        </p:nvSpPr>
        <p:spPr>
          <a:xfrm>
            <a:off x="5580000" y="201600"/>
            <a:ext cx="3210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Acquisto servizi sanitari 2022-2019</a:t>
            </a:r>
            <a:endParaRPr b="0" lang="en-US" sz="2000" spc="-1" strike="noStrike">
              <a:solidFill>
                <a:srgbClr val="000000"/>
              </a:solidFill>
              <a:latin typeface="Times New Roman"/>
            </a:endParaRPr>
          </a:p>
        </p:txBody>
      </p:sp>
      <p:sp>
        <p:nvSpPr>
          <p:cNvPr id="1293" name="Text Box 15"/>
          <p:cNvSpPr/>
          <p:nvPr/>
        </p:nvSpPr>
        <p:spPr>
          <a:xfrm>
            <a:off x="1314360" y="4132440"/>
            <a:ext cx="7570800" cy="167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ggregato di </a:t>
            </a:r>
            <a:r>
              <a:rPr b="1" lang="it-IT" sz="1100" spc="-1" strike="noStrike" u="sng">
                <a:solidFill>
                  <a:srgbClr val="339966"/>
                </a:solidFill>
                <a:uFillTx/>
                <a:latin typeface="Arial"/>
                <a:ea typeface="Arial"/>
              </a:rPr>
              <a:t>spesa per servizi sanitari</a:t>
            </a:r>
            <a:r>
              <a:rPr b="0" lang="it-IT" sz="1100" spc="-1" strike="noStrike">
                <a:solidFill>
                  <a:srgbClr val="339966"/>
                </a:solidFill>
                <a:latin typeface="Arial"/>
                <a:ea typeface="Arial"/>
              </a:rPr>
              <a:t> </a:t>
            </a:r>
            <a:r>
              <a:rPr b="0" lang="it-IT" sz="1100" spc="-1" strike="noStrike">
                <a:solidFill>
                  <a:srgbClr val="000000"/>
                </a:solidFill>
                <a:latin typeface="Arial"/>
                <a:ea typeface="Arial"/>
              </a:rPr>
              <a:t>osserva nel 2022 un incremento di € +6,255 milioni rispetto al consuntivo 2021 (+4%). </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Nell’ambito di tale incremento è compresa la variazione dei costi della Montecatone Rehabilitation Institute spa (controbilanciata nell’ambito del Valore della produzione) che tra l’esercizio 2022 ed il 2021 presenta un aumento pari a € +3,645 milioni. </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Al netto di tale variabile l’incremento effettivo dell’Acquisto di Servizi sanitari è pari a +2,610 milioni di euro.</a:t>
            </a:r>
            <a:endParaRPr b="0" lang="en-US" sz="1100" spc="-1" strike="noStrike">
              <a:solidFill>
                <a:srgbClr val="000000"/>
              </a:solidFill>
              <a:latin typeface="Times New Roman"/>
            </a:endParaRPr>
          </a:p>
        </p:txBody>
      </p:sp>
      <p:pic>
        <p:nvPicPr>
          <p:cNvPr id="1294" name="Immagine 1" descr=""/>
          <p:cNvPicPr/>
          <p:nvPr/>
        </p:nvPicPr>
        <p:blipFill>
          <a:blip r:embed="rId2"/>
          <a:stretch/>
        </p:blipFill>
        <p:spPr>
          <a:xfrm>
            <a:off x="2195640" y="1216080"/>
            <a:ext cx="5873760" cy="271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Segnaposto numero diapositiva 1"/>
          <p:cNvSpPr/>
          <p:nvPr/>
        </p:nvSpPr>
        <p:spPr>
          <a:xfrm>
            <a:off x="699912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2ED5-9188-4F84-8476-8F1596E251FD}"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296"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297" name="Text Box 15"/>
          <p:cNvSpPr/>
          <p:nvPr/>
        </p:nvSpPr>
        <p:spPr>
          <a:xfrm>
            <a:off x="5219640" y="189000"/>
            <a:ext cx="3210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Acquisto servizi sanitari 2022-2019</a:t>
            </a:r>
            <a:endParaRPr b="0" lang="en-US" sz="2000" spc="-1" strike="noStrike">
              <a:solidFill>
                <a:srgbClr val="000000"/>
              </a:solidFill>
              <a:latin typeface="Times New Roman"/>
            </a:endParaRPr>
          </a:p>
        </p:txBody>
      </p:sp>
      <p:sp>
        <p:nvSpPr>
          <p:cNvPr id="1298" name="Text Box 15"/>
          <p:cNvSpPr/>
          <p:nvPr/>
        </p:nvSpPr>
        <p:spPr>
          <a:xfrm>
            <a:off x="1187280" y="1141560"/>
            <a:ext cx="778356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In tabella si evidenziano gli andamenti della </a:t>
            </a:r>
            <a:r>
              <a:rPr b="1" lang="it-IT" sz="1100" spc="-1" strike="noStrike">
                <a:solidFill>
                  <a:srgbClr val="339966"/>
                </a:solidFill>
                <a:latin typeface="Arial"/>
                <a:ea typeface="Arial"/>
              </a:rPr>
              <a:t>mobilità passiva</a:t>
            </a:r>
            <a:r>
              <a:rPr b="0" lang="it-IT" sz="1100" spc="-1" strike="noStrike">
                <a:solidFill>
                  <a:srgbClr val="000000"/>
                </a:solidFill>
                <a:latin typeface="Arial"/>
                <a:ea typeface="Arial"/>
              </a:rPr>
              <a:t>:</a:t>
            </a:r>
            <a:endParaRPr b="0" lang="en-US" sz="1100" spc="-1" strike="noStrike">
              <a:solidFill>
                <a:srgbClr val="000000"/>
              </a:solidFill>
              <a:latin typeface="Times New Roman"/>
            </a:endParaRPr>
          </a:p>
        </p:txBody>
      </p:sp>
      <p:sp>
        <p:nvSpPr>
          <p:cNvPr id="1299" name="CasellaDiTesto 15"/>
          <p:cNvSpPr/>
          <p:nvPr/>
        </p:nvSpPr>
        <p:spPr>
          <a:xfrm>
            <a:off x="1187280" y="4738680"/>
            <a:ext cx="778356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 </a:t>
            </a:r>
            <a:r>
              <a:rPr b="1" lang="it-IT" sz="1100" spc="-1" strike="noStrike">
                <a:solidFill>
                  <a:srgbClr val="009959"/>
                </a:solidFill>
                <a:latin typeface="Arial"/>
                <a:ea typeface="Arial"/>
              </a:rPr>
              <a:t>mobilità passiva </a:t>
            </a:r>
            <a:r>
              <a:rPr b="0" lang="it-IT" sz="1100" spc="-1" strike="noStrike">
                <a:solidFill>
                  <a:srgbClr val="000000"/>
                </a:solidFill>
                <a:latin typeface="Arial"/>
                <a:ea typeface="Arial"/>
              </a:rPr>
              <a:t>rileva un incremento rispetto al consuntivo 2021, pari a € +1,397 milioni (+3,5%). Tale variazione riguarda, in particolare, la somministrazione farmaci (€ +795 mila), verso l’IRCSS-Azienda Ospedaliero Universitaria di Bologna nell’ambito di prestazioni di day service oncologico, nonché prestazioni di specialistica complesse anch’esse con prevalente riferimento alle prestazioni rese dall’IRCSS – Azienda Ospedaliero Universitaria di Bologna. </a:t>
            </a:r>
            <a:endParaRPr b="0" lang="en-US" sz="1100" spc="-1" strike="noStrike">
              <a:solidFill>
                <a:srgbClr val="000000"/>
              </a:solidFill>
              <a:latin typeface="Times New Roman"/>
            </a:endParaRPr>
          </a:p>
          <a:p>
            <a:pPr algn="just">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i mantengono in linea con il consuntivo 2021 gli altri ambiti di mobilità passiva dove si registra una lieve riduzione della mobilità di degenza (-0,2%).</a:t>
            </a:r>
            <a:endParaRPr b="0" lang="en-US" sz="1100" spc="-1" strike="noStrike">
              <a:solidFill>
                <a:srgbClr val="000000"/>
              </a:solidFill>
              <a:latin typeface="Times New Roman"/>
            </a:endParaRPr>
          </a:p>
        </p:txBody>
      </p:sp>
      <p:pic>
        <p:nvPicPr>
          <p:cNvPr id="1300" name="Immagine 1" descr=""/>
          <p:cNvPicPr/>
          <p:nvPr/>
        </p:nvPicPr>
        <p:blipFill>
          <a:blip r:embed="rId2"/>
          <a:stretch/>
        </p:blipFill>
        <p:spPr>
          <a:xfrm>
            <a:off x="1984320" y="1622520"/>
            <a:ext cx="6170760" cy="284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Segnaposto numero diapositiva 1"/>
          <p:cNvSpPr/>
          <p:nvPr/>
        </p:nvSpPr>
        <p:spPr>
          <a:xfrm>
            <a:off x="7010280" y="63658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EF74-3B72-4CC7-9CBC-298C5CC5FE9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302" name="Picture 5" descr="C:\Documents and Settings\Coglianese\Desktop\LOGO\SCRIVI.gif"/>
          <p:cNvPicPr/>
          <p:nvPr/>
        </p:nvPicPr>
        <p:blipFill>
          <a:blip r:embed="rId1"/>
          <a:stretch/>
        </p:blipFill>
        <p:spPr>
          <a:xfrm>
            <a:off x="971640" y="-47520"/>
            <a:ext cx="3209760" cy="884160"/>
          </a:xfrm>
          <a:prstGeom prst="rect">
            <a:avLst/>
          </a:prstGeom>
          <a:ln w="0">
            <a:noFill/>
          </a:ln>
        </p:spPr>
      </p:pic>
      <p:sp>
        <p:nvSpPr>
          <p:cNvPr id="1303" name="Text Box 15"/>
          <p:cNvSpPr/>
          <p:nvPr/>
        </p:nvSpPr>
        <p:spPr>
          <a:xfrm>
            <a:off x="5796000" y="165240"/>
            <a:ext cx="2927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rebuchet MS"/>
              </a:rPr>
              <a:t>Farmaceutica Convenzionata </a:t>
            </a:r>
            <a:endParaRPr b="0" lang="en-US" sz="2000" spc="-1" strike="noStrike">
              <a:solidFill>
                <a:srgbClr val="000000"/>
              </a:solidFill>
              <a:latin typeface="Times New Roman"/>
            </a:endParaRPr>
          </a:p>
        </p:txBody>
      </p:sp>
      <p:sp>
        <p:nvSpPr>
          <p:cNvPr id="1304" name="Text Box 15"/>
          <p:cNvSpPr/>
          <p:nvPr/>
        </p:nvSpPr>
        <p:spPr>
          <a:xfrm>
            <a:off x="1332000" y="4292640"/>
            <a:ext cx="7561080" cy="1173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La spesa effettiva di </a:t>
            </a:r>
            <a:r>
              <a:rPr b="1" lang="it-IT" sz="1100" spc="-1" strike="noStrike">
                <a:solidFill>
                  <a:srgbClr val="339966"/>
                </a:solidFill>
                <a:latin typeface="Arial"/>
                <a:ea typeface="Arial"/>
              </a:rPr>
              <a:t>Farmaceutica Convenzionata </a:t>
            </a:r>
            <a:r>
              <a:rPr b="0" lang="it-IT" sz="1100" spc="-1" strike="noStrike">
                <a:solidFill>
                  <a:srgbClr val="000000"/>
                </a:solidFill>
                <a:latin typeface="Arial"/>
                <a:ea typeface="Arial"/>
              </a:rPr>
              <a:t>presenta una variazione, rispetto al 2021, pari a +3,7% (€ +568 mila).</a:t>
            </a:r>
            <a:endParaRPr b="0" lang="en-US" sz="1100" spc="-1" strike="noStrike">
              <a:solidFill>
                <a:srgbClr val="000000"/>
              </a:solidFill>
              <a:latin typeface="Times New Roman"/>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ea typeface="Arial"/>
              </a:rPr>
              <a:t>Si registra, inoltre, un ulteriore incremento di € +257 mila riguardante la remunerazione aggiuntiva verso le farmacie del territorio in applicazione del Decreto 11.8.2021.</a:t>
            </a:r>
            <a:endParaRPr b="0" lang="en-US" sz="1100" spc="-1" strike="noStrike">
              <a:solidFill>
                <a:srgbClr val="000000"/>
              </a:solidFill>
              <a:latin typeface="Times New Roman"/>
            </a:endParaRPr>
          </a:p>
        </p:txBody>
      </p:sp>
      <p:pic>
        <p:nvPicPr>
          <p:cNvPr id="1305" name="Immagine 4" descr=""/>
          <p:cNvPicPr/>
          <p:nvPr/>
        </p:nvPicPr>
        <p:blipFill>
          <a:blip r:embed="rId2"/>
          <a:stretch/>
        </p:blipFill>
        <p:spPr>
          <a:xfrm>
            <a:off x="2268360" y="1332000"/>
            <a:ext cx="5867640" cy="26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08:57:11Z</dcterms:created>
  <dc:creator>Coglianese</dc:creator>
  <dc:description/>
  <dc:language>en-US</dc:language>
  <cp:lastModifiedBy>Paterno' Anna Rita</cp:lastModifiedBy>
  <cp:lastPrinted>2023-05-08T08:51:34Z</cp:lastPrinted>
  <dcterms:modified xsi:type="dcterms:W3CDTF">2023-05-08T09:17:57Z</dcterms:modified>
  <cp:revision>872</cp:revision>
  <dc:subject/>
  <dc:title>Presentazione di PowerPoint</dc:title>
</cp:coreProperties>
</file>