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39BCAE-D4A5-403D-83A9-18A921CD96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555D44-9AE6-4976-8C32-A316B341E2B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12EFFD-0416-4945-B44D-21AC9DC2E7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634129-FB68-42CE-8C2F-3B7C3D911D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DF8605-F144-42B6-82B5-75F5682A040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06DE79-E365-46C0-91C0-4749F9FDFB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8AF977-29DD-4C21-9860-6F8A600568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5CC0C0-BD8B-440F-98A3-69CCDBD21D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A8E76C-DB4C-4198-866A-7FC922F2427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F61C86-1E5F-42FD-9229-545722A6A4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DEC1E3-86C7-49A3-B23E-20BFA7ABA1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C62099-FD12-4C78-84B4-C5529313A35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E90EEC-CFF6-4FC6-8448-EBC9FEA7E0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4C0852-010F-4E8B-ADC2-355CE94D42A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09B646-3B1F-479D-8C95-5EB3D54DE9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CF17CE-6128-4C8C-BA08-FD30D20FC2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FBE4FA-D493-46E4-9F1A-1A0634C5069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8E33C6-B274-4E63-BEED-6226E99334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206E7E-C63B-426D-B546-7D80949AA70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34A39A-BD38-41A6-9564-3976458951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806C46-DA51-4867-AE0A-AE2A14DD4DD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B4A8EC-A748-48DA-9482-D7320DF103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112D25-C56F-4C90-86D6-4501CFB5BC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037F0B-1999-4A45-B0B1-459A2608978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C72D5E-8C51-4C92-90EA-ACFD024ED10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8766CB-EE48-4002-9A67-701F6AC8F3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A34F4D-FC4F-47C4-893B-22A57ECEA3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A7BB16-A89B-4571-9C42-ED3C6350DC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E9918D-14A8-44C0-9A3C-7B9EBFB95A3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CEB7EB-219A-43F4-B297-817DB76820E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0D3385-2D93-4ADC-AC00-125B8DFB038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76532E-F9F8-472C-9145-54062A5434B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7B5534-6888-4CF5-9682-BE073D7096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A150D9-5412-4E32-9E4F-A393BD03BF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973-5708-4C76-97FA-96B5854C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834-F8C9-42E0-8A67-4C454547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C10-555E-46E0-9659-04393B16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811-ED91-4EB1-B798-5C55AAF2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015-8789-46C2-AA78-5841E9EC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124-E6F6-4309-B99C-A2011FE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A27-B011-4730-8C8A-9F903207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A5C-2047-43B3-B472-01238177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BF4-49D8-4F8D-A8FE-719DF146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EF4-C79F-4B2A-84E1-4AE16142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049-C4AC-4ABD-997A-3C40D3AE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9BE-E5AC-410A-9DD3-7DA46A7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A815-1471-4268-8EB8-E03B74CFEB5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BOLLETTINO SETTIMANALE COVID-19 D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851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omitato di Distretto, Nuovo Circondario Imolese, 19/07/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5419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2" descr=""/>
          <p:cNvPicPr/>
          <p:nvPr/>
        </p:nvPicPr>
        <p:blipFill>
          <a:blip r:embed="rId4"/>
          <a:stretch/>
        </p:blipFill>
        <p:spPr>
          <a:xfrm>
            <a:off x="5986440" y="4361040"/>
            <a:ext cx="2978280" cy="129996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4" descr=""/>
          <p:cNvPicPr/>
          <p:nvPr/>
        </p:nvPicPr>
        <p:blipFill>
          <a:blip r:embed="rId5"/>
          <a:stretch/>
        </p:blipFill>
        <p:spPr>
          <a:xfrm>
            <a:off x="755640" y="4410000"/>
            <a:ext cx="14400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, prevalenza casi attivi e incidenza nuovi casi x 100.000 abitanti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0520" y="14508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COVID PER COMUN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1" descr=""/>
          <p:cNvPicPr/>
          <p:nvPr/>
        </p:nvPicPr>
        <p:blipFill>
          <a:blip r:embed="rId4"/>
          <a:stretch/>
        </p:blipFill>
        <p:spPr>
          <a:xfrm>
            <a:off x="826920" y="2276640"/>
            <a:ext cx="7618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magine 1" descr=""/>
          <p:cNvPicPr/>
          <p:nvPr/>
        </p:nvPicPr>
        <p:blipFill>
          <a:blip r:embed="rId1"/>
          <a:stretch/>
        </p:blipFill>
        <p:spPr>
          <a:xfrm>
            <a:off x="44280" y="1758960"/>
            <a:ext cx="9055440" cy="472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di incidenza settimanale per 100.000 abitanti residenti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4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0520" y="1260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PER COMUNE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1" name="Connettore 1 2"/>
          <p:cNvSpPr/>
          <p:nvPr/>
        </p:nvSpPr>
        <p:spPr>
          <a:xfrm>
            <a:off x="539640" y="458136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2" name="Connettore 1 2"/>
          <p:cNvSpPr/>
          <p:nvPr/>
        </p:nvSpPr>
        <p:spPr>
          <a:xfrm>
            <a:off x="539640" y="486900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3" name="Connettore 1 2"/>
          <p:cNvSpPr/>
          <p:nvPr/>
        </p:nvSpPr>
        <p:spPr>
          <a:xfrm>
            <a:off x="539640" y="508464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mmagine 1" descr=""/>
          <p:cNvPicPr/>
          <p:nvPr/>
        </p:nvPicPr>
        <p:blipFill>
          <a:blip r:embed="rId1"/>
          <a:stretch/>
        </p:blipFill>
        <p:spPr>
          <a:xfrm>
            <a:off x="1752480" y="2052720"/>
            <a:ext cx="5915160" cy="4400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1"/>
          <p:cNvSpPr/>
          <p:nvPr/>
        </p:nvSpPr>
        <p:spPr>
          <a:xfrm>
            <a:off x="115920" y="65041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percentuali di casi attiv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7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1787400" y="1557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0520" y="1260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PER SETTING DI ISOLAMENTO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1592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3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84" name="CasellaDiTesto 14"/>
          <p:cNvSpPr/>
          <p:nvPr/>
        </p:nvSpPr>
        <p:spPr>
          <a:xfrm>
            <a:off x="5397480" y="17524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39 (2,1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5" name="CasellaDiTesto 16"/>
          <p:cNvSpPr/>
          <p:nvPr/>
        </p:nvSpPr>
        <p:spPr>
          <a:xfrm>
            <a:off x="3564000" y="607392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.601 (86,6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6" name="CasellaDiTesto 16"/>
          <p:cNvSpPr/>
          <p:nvPr/>
        </p:nvSpPr>
        <p:spPr>
          <a:xfrm>
            <a:off x="4718160" y="371628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TOTALE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1.849 CA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7" name="CasellaDiTesto 14"/>
          <p:cNvSpPr/>
          <p:nvPr/>
        </p:nvSpPr>
        <p:spPr>
          <a:xfrm>
            <a:off x="6458040" y="19890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98 (10,7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8" name="CasellaDiTesto 14"/>
          <p:cNvSpPr/>
          <p:nvPr/>
        </p:nvSpPr>
        <p:spPr>
          <a:xfrm>
            <a:off x="7200000" y="24415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1 (0,6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Immagine 1" descr=""/>
          <p:cNvPicPr/>
          <p:nvPr/>
        </p:nvPicPr>
        <p:blipFill>
          <a:blip r:embed="rId1"/>
          <a:stretch/>
        </p:blipFill>
        <p:spPr>
          <a:xfrm>
            <a:off x="0" y="3997440"/>
            <a:ext cx="9123480" cy="2844720"/>
          </a:xfrm>
          <a:prstGeom prst="rect">
            <a:avLst/>
          </a:prstGeom>
          <a:ln w="0">
            <a:noFill/>
          </a:ln>
        </p:spPr>
      </p:pic>
      <p:pic>
        <p:nvPicPr>
          <p:cNvPr id="190" name="Immagine 1" descr=""/>
          <p:cNvPicPr/>
          <p:nvPr/>
        </p:nvPicPr>
        <p:blipFill>
          <a:blip r:embed="rId2"/>
          <a:stretch/>
        </p:blipFill>
        <p:spPr>
          <a:xfrm>
            <a:off x="0" y="1160640"/>
            <a:ext cx="9140760" cy="2844720"/>
          </a:xfrm>
          <a:prstGeom prst="rect">
            <a:avLst/>
          </a:prstGeom>
          <a:ln w="0">
            <a:noFill/>
          </a:ln>
        </p:spPr>
      </p:pic>
      <p:sp>
        <p:nvSpPr>
          <p:cNvPr id="19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2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OSTI LETTO OCCUPAT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7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8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9" name="CasellaDiTesto 14"/>
          <p:cNvSpPr/>
          <p:nvPr/>
        </p:nvSpPr>
        <p:spPr>
          <a:xfrm>
            <a:off x="4140360" y="210672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0" name="CasellaDiTesto 15"/>
          <p:cNvSpPr/>
          <p:nvPr/>
        </p:nvSpPr>
        <p:spPr>
          <a:xfrm>
            <a:off x="334800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1" name="CasellaDiTesto 13"/>
          <p:cNvSpPr/>
          <p:nvPr/>
        </p:nvSpPr>
        <p:spPr>
          <a:xfrm>
            <a:off x="774072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0520" y="13809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EROGATORE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1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2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3" name="Immagine 1" descr=""/>
          <p:cNvPicPr/>
          <p:nvPr/>
        </p:nvPicPr>
        <p:blipFill>
          <a:blip r:embed="rId4"/>
          <a:stretch/>
        </p:blipFill>
        <p:spPr>
          <a:xfrm>
            <a:off x="1123920" y="2349360"/>
            <a:ext cx="69771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1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CLASSI DI E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5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3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4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2987640" y="623736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77,0 (-6,0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6" name="Immagine 1" descr=""/>
          <p:cNvPicPr/>
          <p:nvPr/>
        </p:nvPicPr>
        <p:blipFill>
          <a:blip r:embed="rId4"/>
          <a:stretch/>
        </p:blipFill>
        <p:spPr>
          <a:xfrm>
            <a:off x="20520" y="1836720"/>
            <a:ext cx="9102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Sospetti ed accertati, valori assoluti su base settimanale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COVID DA PRONTO SOCCORSO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6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7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8" name="Immagine 1" descr=""/>
          <p:cNvPicPr/>
          <p:nvPr/>
        </p:nvPicPr>
        <p:blipFill>
          <a:blip r:embed="rId4"/>
          <a:stretch/>
        </p:blipFill>
        <p:spPr>
          <a:xfrm>
            <a:off x="20520" y="1989000"/>
            <a:ext cx="91029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0520" y="1525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CONTAGI NELLA RESIDENZIALI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8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9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925560" y="2398680"/>
            <a:ext cx="753408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Gruppo App. Sangiorg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7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asa Basaglia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2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Il Sollievo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2 ospit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5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5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TOTALE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11 ospiti  (+11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(Ospiti ricoverati: 1; +1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7 (-2) operator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in isolamento, in 4 strutture (-3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Immagine 1" descr=""/>
          <p:cNvPicPr/>
          <p:nvPr/>
        </p:nvPicPr>
        <p:blipFill>
          <a:blip r:embed="rId1"/>
          <a:stretch/>
        </p:blipFill>
        <p:spPr>
          <a:xfrm>
            <a:off x="34920" y="3998880"/>
            <a:ext cx="9074160" cy="2832120"/>
          </a:xfrm>
          <a:prstGeom prst="rect">
            <a:avLst/>
          </a:prstGeom>
          <a:ln w="0">
            <a:noFill/>
          </a:ln>
        </p:spPr>
      </p:pic>
      <p:pic>
        <p:nvPicPr>
          <p:cNvPr id="252" name="Immagine 1" descr=""/>
          <p:cNvPicPr/>
          <p:nvPr/>
        </p:nvPicPr>
        <p:blipFill>
          <a:blip r:embed="rId2"/>
          <a:stretch/>
        </p:blipFill>
        <p:spPr>
          <a:xfrm>
            <a:off x="20520" y="1173240"/>
            <a:ext cx="9088560" cy="2832120"/>
          </a:xfrm>
          <a:prstGeom prst="rect">
            <a:avLst/>
          </a:prstGeom>
          <a:ln w="0">
            <a:noFill/>
          </a:ln>
        </p:spPr>
      </p:pic>
      <p:sp>
        <p:nvSpPr>
          <p:cNvPr id="25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4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20520" y="126828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ATTIVITA’ MENSILE USCA (CONTATTI E VISITE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0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1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2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3" name="CasellaDiTesto 16"/>
          <p:cNvSpPr/>
          <p:nvPr/>
        </p:nvSpPr>
        <p:spPr>
          <a:xfrm>
            <a:off x="1403280" y="210672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4" name="CasellaDiTesto 17"/>
          <p:cNvSpPr/>
          <p:nvPr/>
        </p:nvSpPr>
        <p:spPr>
          <a:xfrm>
            <a:off x="3019320" y="4465800"/>
            <a:ext cx="1200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5" name="CasellaDiTesto 15"/>
          <p:cNvSpPr/>
          <p:nvPr/>
        </p:nvSpPr>
        <p:spPr>
          <a:xfrm>
            <a:off x="7356600" y="4465800"/>
            <a:ext cx="1199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Immagine 2" descr=""/>
          <p:cNvPicPr/>
          <p:nvPr/>
        </p:nvPicPr>
        <p:blipFill>
          <a:blip r:embed="rId1"/>
          <a:stretch/>
        </p:blipFill>
        <p:spPr>
          <a:xfrm>
            <a:off x="44280" y="3933720"/>
            <a:ext cx="9055440" cy="2924280"/>
          </a:xfrm>
          <a:prstGeom prst="rect">
            <a:avLst/>
          </a:prstGeom>
          <a:ln w="0">
            <a:noFill/>
          </a:ln>
        </p:spPr>
      </p:pic>
      <p:pic>
        <p:nvPicPr>
          <p:cNvPr id="267" name="Immagine 1" descr=""/>
          <p:cNvPicPr/>
          <p:nvPr/>
        </p:nvPicPr>
        <p:blipFill>
          <a:blip r:embed="rId2"/>
          <a:stretch/>
        </p:blipFill>
        <p:spPr>
          <a:xfrm>
            <a:off x="44280" y="1149480"/>
            <a:ext cx="9055440" cy="2784240"/>
          </a:xfrm>
          <a:prstGeom prst="rect">
            <a:avLst/>
          </a:prstGeom>
          <a:ln w="0">
            <a:noFill/>
          </a:ln>
        </p:spPr>
      </p:pic>
      <p:sp>
        <p:nvSpPr>
          <p:cNvPr id="26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9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0520" y="1125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DECESSI COVID PER SETTIMANA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4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5" name="CasellaDiTesto 13"/>
          <p:cNvSpPr/>
          <p:nvPr/>
        </p:nvSpPr>
        <p:spPr>
          <a:xfrm>
            <a:off x="4044960" y="21970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6" name="CasellaDiTesto 14"/>
          <p:cNvSpPr/>
          <p:nvPr/>
        </p:nvSpPr>
        <p:spPr>
          <a:xfrm>
            <a:off x="3019320" y="455760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7" name="CasellaDiTesto 15"/>
          <p:cNvSpPr/>
          <p:nvPr/>
        </p:nvSpPr>
        <p:spPr>
          <a:xfrm>
            <a:off x="7524720" y="455760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20" y="13320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MESSAGGI CHIAV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42840" y="1916280"/>
            <a:ext cx="8928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Flessione dei contag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incidenza settima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1.172,1 nuovi casi x 100.000; -7%);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media casi/di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224; -17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Trasmissibilità sotto la soglia epidemic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D(t): 0,94 (-0,34); % test positivi: 30,2%; (-4,9%); contagi sempre diffusi in tutte le età (età mediana: 51,5 anni); reinfezioni al 13%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rico sanitario increment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icoveri ordinari (per/con CoviD: 36; +13); ricoveri in terapia intensiva (3; +1); età mediana ricoverati: 77,0 anni; casi attivi (1.849; -60), test diagnostici (5.186; +380), attività settimanale USCA (31 contatti; +3; 18 visite +2); ricoveri CoviD da PS (19; +8); OsCo (0; -); Covid Hotel (0; -); contagi nelle residenze (11; +11); contagi nei sanitari (38; -11); decessi CoviD (0; -1)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mpagna vaccin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668 (+307) vaccinazioni eseguite.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1"/>
          <p:cNvSpPr/>
          <p:nvPr/>
        </p:nvSpPr>
        <p:spPr>
          <a:xfrm>
            <a:off x="108000" y="65055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Tassi grezzi di mortalità x 1.000 ab.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DECESSI COVID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1"/>
          <p:cNvSpPr/>
          <p:nvPr/>
        </p:nvSpPr>
        <p:spPr>
          <a:xfrm>
            <a:off x="395280" y="2060640"/>
            <a:ext cx="748980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Totale: 436 (+1) (219M; 217F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Età media: 82,6 aa. (range 12-102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Imola: 22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S.Pietro: 64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edicina: 5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Dozza: 1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Borgo Tossignano: 1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ordano: 1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Guelfo: 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Fontanelic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alfiumanes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del Rio: 5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Non residenti: 22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8" name="Immagine 1" descr=""/>
          <p:cNvPicPr/>
          <p:nvPr/>
        </p:nvPicPr>
        <p:blipFill>
          <a:blip r:embed="rId4"/>
          <a:stretch/>
        </p:blipFill>
        <p:spPr>
          <a:xfrm>
            <a:off x="2700360" y="3152880"/>
            <a:ext cx="63356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1"/>
          <p:cNvSpPr/>
          <p:nvPr/>
        </p:nvSpPr>
        <p:spPr>
          <a:xfrm>
            <a:off x="57240" y="64659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ECESSI COVID PER CLASSI DI E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5 (-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9" name="Immagine 1" descr=""/>
          <p:cNvPicPr/>
          <p:nvPr/>
        </p:nvPicPr>
        <p:blipFill>
          <a:blip r:embed="rId4"/>
          <a:stretch/>
        </p:blipFill>
        <p:spPr>
          <a:xfrm>
            <a:off x="57240" y="1868400"/>
            <a:ext cx="9037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20520" y="1719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DOSI SOMMINISTRATE E PRENOTAZION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250920" y="5499000"/>
            <a:ext cx="87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D:  Prime Dosi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B:  Ciclo di Base (II dosi, dosi uniche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C:  Ciclo Completo (dosi aggiuntive, dosi booster)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9" name="Immagine 1" descr=""/>
          <p:cNvPicPr/>
          <p:nvPr/>
        </p:nvPicPr>
        <p:blipFill>
          <a:blip r:embed="rId4"/>
          <a:stretch/>
        </p:blipFill>
        <p:spPr>
          <a:xfrm>
            <a:off x="0" y="2817720"/>
            <a:ext cx="9144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Immagine 1" descr=""/>
          <p:cNvPicPr/>
          <p:nvPr/>
        </p:nvPicPr>
        <p:blipFill>
          <a:blip r:embed="rId1"/>
          <a:stretch/>
        </p:blipFill>
        <p:spPr>
          <a:xfrm>
            <a:off x="299880" y="2048040"/>
            <a:ext cx="8544240" cy="3828960"/>
          </a:xfrm>
          <a:prstGeom prst="rect">
            <a:avLst/>
          </a:prstGeom>
          <a:ln w="0">
            <a:noFill/>
          </a:ln>
        </p:spPr>
      </p:pic>
      <p:sp>
        <p:nvSpPr>
          <p:cNvPr id="31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7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RIM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3706920" y="573264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8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Immagine 1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8000" cy="386712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3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CICLO DI BASE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3708360" y="570852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6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mmagine 1" descr=""/>
          <p:cNvPicPr/>
          <p:nvPr/>
        </p:nvPicPr>
        <p:blipFill>
          <a:blip r:embed="rId1"/>
          <a:stretch/>
        </p:blipFill>
        <p:spPr>
          <a:xfrm>
            <a:off x="266760" y="1776240"/>
            <a:ext cx="8610480" cy="4029120"/>
          </a:xfrm>
          <a:prstGeom prst="rect">
            <a:avLst/>
          </a:prstGeom>
          <a:ln w="0">
            <a:noFill/>
          </a:ln>
        </p:spPr>
      </p:pic>
      <p:sp>
        <p:nvSpPr>
          <p:cNvPr id="33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4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5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TERZ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3708360" y="563724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75,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Immagine 1" descr=""/>
          <p:cNvPicPr/>
          <p:nvPr/>
        </p:nvPicPr>
        <p:blipFill>
          <a:blip r:embed="rId1"/>
          <a:stretch/>
        </p:blipFill>
        <p:spPr>
          <a:xfrm>
            <a:off x="171360" y="1768320"/>
            <a:ext cx="8801280" cy="4181760"/>
          </a:xfrm>
          <a:prstGeom prst="rect">
            <a:avLst/>
          </a:prstGeom>
          <a:ln w="0">
            <a:noFill/>
          </a:ln>
        </p:spPr>
      </p:pic>
      <p:sp>
        <p:nvSpPr>
          <p:cNvPr id="34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57240" y="134136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QUART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250920" y="6073920"/>
            <a:ext cx="87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Adesione %: numero prenot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3130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19,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354560" y="580536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23,9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OPERATORI SOSPESI E ASSENZE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179280" y="580536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* Le riammissioni conseguono a sopraggiunta infezione/malattia o vaccinazione. 19 operatori riammessi per guarigione risultano guariti da più di tre mesi, senza aver provveduto a vaccinarsi: in queste condizioni saranno nuovamente sospesi ad opera dei rispettivi Ordini Professionali.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5" name="Immagine 1" descr=""/>
          <p:cNvPicPr/>
          <p:nvPr/>
        </p:nvPicPr>
        <p:blipFill>
          <a:blip r:embed="rId4"/>
          <a:stretch/>
        </p:blipFill>
        <p:spPr>
          <a:xfrm>
            <a:off x="1714680" y="1844640"/>
            <a:ext cx="54496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9"/>
          <p:cNvSpPr/>
          <p:nvPr/>
        </p:nvSpPr>
        <p:spPr>
          <a:xfrm>
            <a:off x="20520" y="12384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ASSENZE COVID NEL PERSONALE AUSL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5" name="Immagine 1" descr=""/>
          <p:cNvPicPr/>
          <p:nvPr/>
        </p:nvPicPr>
        <p:blipFill>
          <a:blip r:embed="rId4"/>
          <a:stretch/>
        </p:blipFill>
        <p:spPr>
          <a:xfrm>
            <a:off x="0" y="1989000"/>
            <a:ext cx="914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9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4" name="Rettangolo 1"/>
          <p:cNvSpPr/>
          <p:nvPr/>
        </p:nvSpPr>
        <p:spPr>
          <a:xfrm>
            <a:off x="250920" y="2114640"/>
            <a:ext cx="864216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Nell’ultima settimana sono stat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seguite 668 vaccinazion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+307): 58 I dosi, 57 II dosi, 215 III dosi e 338 IV dosi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Copertura popolazione target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8,5% per le prim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,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6,5% per le second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75,4% per le 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19,1%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e adesione a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23,9%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del totale della popolazione vaccinabile (7.274 somministrazioni, 1.833 prenotazioni; target 38.159 assistiti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pertura quart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per classi di età; 60-64: 3,9%; 65-69: 6,8%; 70-74: 8,1%; 75-79: 8,9%; 80-84: 46,2%; &gt;85: 50,1%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desione quart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per classi di età; 60-64: 7,7%; 65-69: 11,9%; 70-74: 14,8%; 75-79: 16,6%; 80-84: 49,3%; &gt;85: 52,2%,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1" descr=""/>
          <p:cNvPicPr/>
          <p:nvPr/>
        </p:nvPicPr>
        <p:blipFill>
          <a:blip r:embed="rId1"/>
          <a:stretch/>
        </p:blipFill>
        <p:spPr>
          <a:xfrm>
            <a:off x="0" y="1774800"/>
            <a:ext cx="9144000" cy="4668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giornalieri per dat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0520" y="12682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NUOVI CAS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11"/>
          <p:cNvSpPr/>
          <p:nvPr/>
        </p:nvSpPr>
        <p:spPr>
          <a:xfrm>
            <a:off x="619200" y="441324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DELTA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0" name="CasellaDiTesto 12"/>
          <p:cNvSpPr/>
          <p:nvPr/>
        </p:nvSpPr>
        <p:spPr>
          <a:xfrm>
            <a:off x="5724360" y="177336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1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1" name="CasellaDiTesto 14"/>
          <p:cNvSpPr/>
          <p:nvPr/>
        </p:nvSpPr>
        <p:spPr>
          <a:xfrm>
            <a:off x="6948360" y="429264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2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2" name="CasellaDiTesto 15"/>
          <p:cNvSpPr/>
          <p:nvPr/>
        </p:nvSpPr>
        <p:spPr>
          <a:xfrm>
            <a:off x="8028000" y="393372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5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0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9"/>
          <p:cNvSpPr/>
          <p:nvPr/>
        </p:nvSpPr>
        <p:spPr>
          <a:xfrm>
            <a:off x="20520" y="1309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3" name="Rettangolo 1"/>
          <p:cNvSpPr/>
          <p:nvPr/>
        </p:nvSpPr>
        <p:spPr>
          <a:xfrm>
            <a:off x="34920" y="1938240"/>
            <a:ext cx="89931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ver 50 non vaccinat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(circa 2.700 residenti): accesso diretto all’Hub vaccinale del Padiglione 12; vaccino 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Novavax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: 152 somministrazioni (+7);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negli over 60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e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 negli ultra-fragili over 12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: aperte le prenotazioni e garantita l’offerta vaccinale ambulatoriale con attività presso l’Hub vaccinale del Padiglione 12 all’Ospedale Vecchio;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zioni di chiamata attiva per utenti ancora non prenotati per le terze e le quarte dosi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 (sms prenotativo, azione di recall da parte del MMG, lettera aperta di sensibilizzazione).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In corso di </a:t>
            </a:r>
            <a:r>
              <a:rPr b="1" lang="it-IT" sz="21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perfezionamento l’accordo con i MMG per decentrare l’offerta vaccinale anche nelle restanti Case della Comunità</a:t>
            </a:r>
            <a:r>
              <a:rPr b="1" lang="it-IT" sz="2100" spc="-1" strike="noStrike">
                <a:solidFill>
                  <a:srgbClr val="000000"/>
                </a:solidFill>
                <a:latin typeface="Cambria"/>
                <a:ea typeface="Calibri"/>
              </a:rPr>
              <a:t>; entro la settimana saranno raccolte le adesione dei MMG disponibili a collaborare, secondo i dettami della nuova intesa RER / MMG.</a:t>
            </a:r>
            <a:endParaRPr b="0" lang="en-US" sz="21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1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9"/>
          <p:cNvSpPr/>
          <p:nvPr/>
        </p:nvSpPr>
        <p:spPr>
          <a:xfrm>
            <a:off x="14400" y="123840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2" name="Rettangolo 1"/>
          <p:cNvSpPr/>
          <p:nvPr/>
        </p:nvSpPr>
        <p:spPr>
          <a:xfrm>
            <a:off x="108000" y="1700280"/>
            <a:ext cx="864072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a curva epidemica di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micron 5 segna una inversione di tendenza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con un calo dei contagi del 7% nel corso dell’ultima settimana, dopo 5 settimane di importante crescita, solo leggermente rallentata nelle ultime due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Come previsto dai modelli,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raggiunto e valicato il picco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ora la terza ondata di Omicron ha iniziato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la discesa che si realizzerà compiutamente nell’arco di 5/6 settimane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; non è escluso, che per l’elevato livello di circolazione virale e per il comportamento tipicamente caotico della diffusione, l’andamento in riduzione possa risultare ondulante e altalenante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ntinua ancora a crescere la pressione ospedaliera;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il picco della occupazione dei posti letto è atteso entro 7 giorni; i ricoveri, che restano comunque ampiamente al di sotto della soglia di allarme, riguardano soprattutto anziani (età mediana = 77 anni), che non hanno effettuato il secondo richiamo, e nel 60% dei casi ammessi per cause non CoviD.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2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9"/>
          <p:cNvSpPr/>
          <p:nvPr/>
        </p:nvSpPr>
        <p:spPr>
          <a:xfrm>
            <a:off x="14400" y="119700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1" name="Rettangolo 1"/>
          <p:cNvSpPr/>
          <p:nvPr/>
        </p:nvSpPr>
        <p:spPr>
          <a:xfrm>
            <a:off x="108000" y="1700280"/>
            <a:ext cx="8640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In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stante crescita le reinfezioni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, che superano il 13% del totale dei casi prevalenti; in molti casi Omicron concede il bis: chi ha già avuto la versione 1 e 2, si può frequentemente reinfettare con la 5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Considerando gli effetti sul sistema sanitario nel suo complesso,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l’ondata in corso appare gestibile e sopportabile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senza ulteriori misure restrittive, anche se l’impatto, in termini di costi e stress lavoro-correlato, è tutt’altro che trascurabile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La sfida pandemica non può considerarsi conclusa, per la sempre possibile comparsa di nuove varianti, ma la tendenza naturale darwiniana, unitamente ai progressi nella prevenzione e controllo dell’infezione (vaccinazioni e farmaci antivirali), è nell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selezione e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 nel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successo evolutivo di fenotipi di malattia meno aggressivi e molto più contagiosi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Tale processo non si è ancora del tutto compiuto, ma la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tendenza è piuttosto evidente e costante nel tempo e nello spazio</a:t>
            </a:r>
            <a:r>
              <a:rPr b="1" lang="it-IT" sz="19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3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9"/>
          <p:cNvSpPr/>
          <p:nvPr/>
        </p:nvSpPr>
        <p:spPr>
          <a:xfrm>
            <a:off x="14400" y="12682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3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0" name="Rettangolo 1"/>
          <p:cNvSpPr/>
          <p:nvPr/>
        </p:nvSpPr>
        <p:spPr>
          <a:xfrm>
            <a:off x="108000" y="1712880"/>
            <a:ext cx="8928000" cy="52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Se questa è la tendenza evolutiva, in modo coerente all’andamento epidemiologico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vanno aggiornate le misure di contrasto all’epidemia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Con la contagiosità delle varianti circolanti ed il livello di circolazione virale appar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desueta ed inutile ogni forma di contact tracing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Si sta avvicinando il moment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rimodulare le norme che regolano l’isolamento dei positivi</a:t>
            </a: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, a cominciare da quelli asintomatici; in Spagna e nel Regno Unito l’isolamento per i positivi non è più previsto, e in alcuni casi gli operatori dei servizi essenziali, se asintomatici, sono ammessi al lavoro indossando le FFP2;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  <a:ea typeface="Calibri"/>
              </a:rPr>
              <a:t>Per giungere in modo graduale al superamento dell’isolamento fiduciario, si potrebbe pensare di ridurre la durata dello stesso; in USA, Germania, Svezia e Austria sono previsti solo 5 giorni (in luogo dei nostri 7/10), e si sta inoltre superando l’obbligo del tampone per la riammissione.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magine 1" descr=""/>
          <p:cNvPicPr/>
          <p:nvPr/>
        </p:nvPicPr>
        <p:blipFill>
          <a:blip r:embed="rId1"/>
          <a:stretch/>
        </p:blipFill>
        <p:spPr>
          <a:xfrm>
            <a:off x="44280" y="1792440"/>
            <a:ext cx="9079200" cy="4651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cidenza cumulativa x 100.000 abitanti per settiman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20520" y="13366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NUOVI CAS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2" name="Connettore 1 2"/>
          <p:cNvSpPr/>
          <p:nvPr/>
        </p:nvSpPr>
        <p:spPr>
          <a:xfrm>
            <a:off x="468360" y="5229360"/>
            <a:ext cx="8496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magine 1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179280" y="6237360"/>
            <a:ext cx="878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Giorno centrale della media mobile (calcolata su 7 giorni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tervallo di Confidenza al 95% calcolato con metodo binomiale esatto con distribuzione F di Fisher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20520" y="135900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DICE DI REPLICAZIONE DIAGNOSTICO RD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2" name="Connettore 1 2"/>
          <p:cNvSpPr/>
          <p:nvPr/>
        </p:nvSpPr>
        <p:spPr>
          <a:xfrm>
            <a:off x="304920" y="5300640"/>
            <a:ext cx="87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magine 1" descr=""/>
          <p:cNvPicPr/>
          <p:nvPr/>
        </p:nvPicPr>
        <p:blipFill>
          <a:blip r:embed="rId1"/>
          <a:stretch/>
        </p:blipFill>
        <p:spPr>
          <a:xfrm>
            <a:off x="23760" y="1773360"/>
            <a:ext cx="9096480" cy="4717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Media settimanale di test eseguiti (antigenici + molecolari) e percentuale di positività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0520" y="12682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TEST POSITIVI/TEST ESEGUIT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2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15"/>
          <p:cNvSpPr/>
          <p:nvPr/>
        </p:nvSpPr>
        <p:spPr>
          <a:xfrm>
            <a:off x="6448680" y="177336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26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4" name="CasellaDiTesto 15"/>
          <p:cNvSpPr/>
          <p:nvPr/>
        </p:nvSpPr>
        <p:spPr>
          <a:xfrm>
            <a:off x="8460720" y="426420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2,5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5" name="CasellaDiTesto 15"/>
          <p:cNvSpPr/>
          <p:nvPr/>
        </p:nvSpPr>
        <p:spPr>
          <a:xfrm>
            <a:off x="8606160" y="399888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5,1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6" name="CasellaDiTesto 15"/>
          <p:cNvSpPr/>
          <p:nvPr/>
        </p:nvSpPr>
        <p:spPr>
          <a:xfrm>
            <a:off x="8749080" y="4149720"/>
            <a:ext cx="49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Calibri"/>
              </a:rPr>
              <a:t>30,2%</a:t>
            </a:r>
            <a:endParaRPr b="0" lang="en-US" sz="10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magine 1" descr=""/>
          <p:cNvPicPr/>
          <p:nvPr/>
        </p:nvPicPr>
        <p:blipFill>
          <a:blip r:embed="rId1"/>
          <a:stretch/>
        </p:blipFill>
        <p:spPr>
          <a:xfrm>
            <a:off x="20520" y="1839960"/>
            <a:ext cx="9079200" cy="4518000"/>
          </a:xfrm>
          <a:prstGeom prst="rect">
            <a:avLst/>
          </a:prstGeom>
          <a:ln w="0">
            <a:noFill/>
          </a:ln>
        </p:spPr>
      </p:pic>
      <p:sp>
        <p:nvSpPr>
          <p:cNvPr id="11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835280" y="1530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520" y="12682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INCIDENZA SETTIMANALE PER AUSL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7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settimanali di incidenza cumulativa x 100.000 abitant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7" name="Connettore 1 2"/>
          <p:cNvSpPr/>
          <p:nvPr/>
        </p:nvSpPr>
        <p:spPr>
          <a:xfrm>
            <a:off x="539640" y="4724280"/>
            <a:ext cx="8425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8" name="Connettore 1 2"/>
          <p:cNvSpPr/>
          <p:nvPr/>
        </p:nvSpPr>
        <p:spPr>
          <a:xfrm>
            <a:off x="539640" y="494172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9" name="Connettore 1 2"/>
          <p:cNvSpPr/>
          <p:nvPr/>
        </p:nvSpPr>
        <p:spPr>
          <a:xfrm>
            <a:off x="523800" y="515772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179280" y="65768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Frequenza di casi attivi per sesso ed età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ATTIVI PER ETA’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8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51,5 (+4,0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0" name="Immagine 1" descr=""/>
          <p:cNvPicPr/>
          <p:nvPr/>
        </p:nvPicPr>
        <p:blipFill>
          <a:blip r:embed="rId4"/>
          <a:stretch/>
        </p:blipFill>
        <p:spPr>
          <a:xfrm>
            <a:off x="44280" y="1984320"/>
            <a:ext cx="90792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evalenza Casi Attivi x 1.000 ab. x classi di età avanzata, al 18/07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EVOLUZIONE CASI IN ETA’ AVANZATA 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33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50" name="Immagine 1" descr=""/>
          <p:cNvPicPr/>
          <p:nvPr/>
        </p:nvPicPr>
        <p:blipFill>
          <a:blip r:embed="rId4"/>
          <a:stretch/>
        </p:blipFill>
        <p:spPr>
          <a:xfrm>
            <a:off x="0" y="1989000"/>
            <a:ext cx="91440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2-06-06T08:46:36Z</cp:lastPrinted>
  <dcterms:modified xsi:type="dcterms:W3CDTF">2022-07-18T21:29:51Z</dcterms:modified>
  <cp:revision>3004</cp:revision>
  <dc:subject/>
  <dc:title>Presentazione di PowerPoint</dc:title>
</cp:coreProperties>
</file>