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87F471-551B-44C9-A435-150EC2FFC6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22967-0312-46E7-8433-6D59721AF5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B4099A-C90E-4E01-8B1E-FDB5A6A19AB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B64159-4ADB-4070-AC27-5725E8D6DE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A0DB9B-40F7-45E9-AB3E-F8DBB4E0F2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256067-2D21-4009-AEEC-B7767234C0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844B94-4571-462D-8459-AD31E3E4F6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E65523-D67E-4954-97FD-7456CE29DE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8BA62D-BCCD-4289-A9A1-1A10A03BC9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F28B4B-8BCC-4534-9C01-2C8DE0F5F0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5367FC-EF92-4031-A4BE-3A1097ED88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3D73BF-964E-4112-9498-9F09FF8E84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7D43D1-43AC-452F-8BCC-30BABC7703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65DE8C-7CB4-4317-8F01-037A787753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28696D-2F30-4A35-B666-DFE30EEFBC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CB58E5-5AE4-4DB0-AF98-B0E432E2F0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36DFE1-3AAC-48FD-8B48-2221187301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E5AB07-3F95-4451-BF50-BBBBB73A7C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60FB79-C57F-4254-8170-4E86DBE863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FEEBD2-F986-4E26-80B5-F2F57A7E4E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9EFA45-81F3-4C10-AF7D-23B7104763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999915-DB8B-4756-98FC-5895C549CE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874B3B-7552-41B5-B1EE-9C6253529FD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E1E085-0D71-45AF-B5DB-C7F248D286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BDD18-F1F9-47D4-8499-FD350136E2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F46510-63A6-4C8B-A495-08AC0B444E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ADE06-2E6D-4168-A971-E8C49C80B7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12F7BE-2211-4724-8D0B-505E4B85AD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71890E-439B-47B2-A554-18A6898AF0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671BD4-CAB1-4D42-B676-97F84107DA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9D4FAC-2B80-407E-94AC-0C986848D7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CA1CC5-9FCA-4E5A-B539-5254D0A272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370246-9E9A-4BB9-91C9-96556C2CE7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B3A8A2-E54F-4717-A9A4-7FAFC50A59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107-F2B4-4BFB-9423-E0D63E3B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6E1-979D-4B6E-A5C8-362AEC54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507-6262-4B72-A046-DACDFB62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848-1227-459D-A69F-43731659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E40-CC8E-4400-94FB-3B67151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428-96DE-432B-B98D-61394776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D1D-E873-4983-A00C-D3A93082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6D2-5C5D-4D75-BF93-F061C72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28B-4FE2-47DB-A4C3-C57F81A2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10C-FA64-4994-B176-5057047F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321-72C4-48BB-A86F-6E30B264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D7A-AA8B-4603-9CB3-06878A5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7F57-5BA0-4835-86A4-3C333F4532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12/07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79232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3" descr=""/>
          <p:cNvPicPr/>
          <p:nvPr/>
        </p:nvPicPr>
        <p:blipFill>
          <a:blip r:embed="rId1"/>
          <a:stretch/>
        </p:blipFill>
        <p:spPr>
          <a:xfrm>
            <a:off x="44280" y="1673280"/>
            <a:ext cx="9055440" cy="4813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1" name="Connettore 1 2"/>
          <p:cNvSpPr/>
          <p:nvPr/>
        </p:nvSpPr>
        <p:spPr>
          <a:xfrm>
            <a:off x="539640" y="465300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2" name="Connettore 1 2"/>
          <p:cNvSpPr/>
          <p:nvPr/>
        </p:nvSpPr>
        <p:spPr>
          <a:xfrm>
            <a:off x="539640" y="4869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3" name="Connettore 1 2"/>
          <p:cNvSpPr/>
          <p:nvPr/>
        </p:nvSpPr>
        <p:spPr>
          <a:xfrm>
            <a:off x="539640" y="508464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1681200" y="1981080"/>
            <a:ext cx="591516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115920" y="65041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7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3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4" name="CasellaDiTesto 14"/>
          <p:cNvSpPr/>
          <p:nvPr/>
        </p:nvSpPr>
        <p:spPr>
          <a:xfrm>
            <a:off x="5398200" y="175248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5 (1,3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5" name="CasellaDiTesto 16"/>
          <p:cNvSpPr/>
          <p:nvPr/>
        </p:nvSpPr>
        <p:spPr>
          <a:xfrm>
            <a:off x="3564000" y="6073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.678 (87,9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6" name="CasellaDiTesto 16"/>
          <p:cNvSpPr/>
          <p:nvPr/>
        </p:nvSpPr>
        <p:spPr>
          <a:xfrm>
            <a:off x="4723920" y="3716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909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7" name="CasellaDiTesto 14"/>
          <p:cNvSpPr/>
          <p:nvPr/>
        </p:nvSpPr>
        <p:spPr>
          <a:xfrm>
            <a:off x="6449400" y="1989000"/>
            <a:ext cx="113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06 (10,8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Immagine 1" descr=""/>
          <p:cNvPicPr/>
          <p:nvPr/>
        </p:nvPicPr>
        <p:blipFill>
          <a:blip r:embed="rId1"/>
          <a:stretch/>
        </p:blipFill>
        <p:spPr>
          <a:xfrm>
            <a:off x="20520" y="4005360"/>
            <a:ext cx="9120240" cy="2879640"/>
          </a:xfrm>
          <a:prstGeom prst="rect">
            <a:avLst/>
          </a:prstGeom>
          <a:ln w="0">
            <a:noFill/>
          </a:ln>
        </p:spPr>
      </p:pic>
      <p:pic>
        <p:nvPicPr>
          <p:cNvPr id="189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19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1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6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8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0" name="CasellaDiTesto 13"/>
          <p:cNvSpPr/>
          <p:nvPr/>
        </p:nvSpPr>
        <p:spPr>
          <a:xfrm>
            <a:off x="774072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2" name="Immagine 1" descr=""/>
          <p:cNvPicPr/>
          <p:nvPr/>
        </p:nvPicPr>
        <p:blipFill>
          <a:blip r:embed="rId4"/>
          <a:stretch/>
        </p:blipFill>
        <p:spPr>
          <a:xfrm>
            <a:off x="1128600" y="2349360"/>
            <a:ext cx="682812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2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3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987640" y="623736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3,0 (+11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5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5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6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7" name="Immagine 1" descr=""/>
          <p:cNvPicPr/>
          <p:nvPr/>
        </p:nvPicPr>
        <p:blipFill>
          <a:blip r:embed="rId4"/>
          <a:stretch/>
        </p:blipFill>
        <p:spPr>
          <a:xfrm>
            <a:off x="0" y="1916280"/>
            <a:ext cx="9144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20520" y="1525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8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925560" y="2629080"/>
            <a:ext cx="7534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Nessun Ospite CoviD positivo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5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5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0 ospiti  (-2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Ospiti ricoverati: 0; -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9 (+6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7 strutture (+5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22320" y="4005360"/>
            <a:ext cx="9086760" cy="2835000"/>
          </a:xfrm>
          <a:prstGeom prst="rect">
            <a:avLst/>
          </a:prstGeom>
          <a:ln w="0">
            <a:noFill/>
          </a:ln>
        </p:spPr>
      </p:pic>
      <p:pic>
        <p:nvPicPr>
          <p:cNvPr id="251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3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9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3" name="CasellaDiTesto 17"/>
          <p:cNvSpPr/>
          <p:nvPr/>
        </p:nvSpPr>
        <p:spPr>
          <a:xfrm>
            <a:off x="3019320" y="446580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4" name="CasellaDiTesto 15"/>
          <p:cNvSpPr/>
          <p:nvPr/>
        </p:nvSpPr>
        <p:spPr>
          <a:xfrm>
            <a:off x="7356600" y="4465800"/>
            <a:ext cx="1199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mmagine 1" descr=""/>
          <p:cNvPicPr/>
          <p:nvPr/>
        </p:nvPicPr>
        <p:blipFill>
          <a:blip r:embed="rId1"/>
          <a:stretch/>
        </p:blipFill>
        <p:spPr>
          <a:xfrm>
            <a:off x="44280" y="3957480"/>
            <a:ext cx="9055440" cy="2900520"/>
          </a:xfrm>
          <a:prstGeom prst="rect">
            <a:avLst/>
          </a:prstGeom>
          <a:ln w="0">
            <a:noFill/>
          </a:ln>
        </p:spPr>
      </p:pic>
      <p:pic>
        <p:nvPicPr>
          <p:cNvPr id="266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6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8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3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4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5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6" name="CasellaDiTesto 15"/>
          <p:cNvSpPr/>
          <p:nvPr/>
        </p:nvSpPr>
        <p:spPr>
          <a:xfrm>
            <a:off x="752472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2000160"/>
            <a:ext cx="8928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Nuova progressione dei contag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incidenza settima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,261,1 nuovi casi x 100.000; +29,7%)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241; +54,3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sempre oltre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1,28 (+0,06); % test positivi: 35,1%; (+2,6%); contagi diffusi in tutte le età (età mediana: 47,5 anni); prevalenza di Omicron 5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increment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23; +8); terapia intensiva (2; -); età mediana ricoverati: 83,0 anni; casi attivi (1.909; +416), test diagnostici (4.806; +806), attività settimanale USCA (+13 contatti; +8 visite); ricoveri CoviD da PS (11; -5); OsCo (0; -1); Covid Hotel (0; -2); contagi nelle residenze (0; -2); contagi nei sanitari (47; +19); decessi CoviD (0; -1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361 (-103) vaccinazioni eseguite.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35 (+1) (218M; 217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6 aa. (range 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4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5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7" name="Immagine 1" descr=""/>
          <p:cNvPicPr/>
          <p:nvPr/>
        </p:nvPicPr>
        <p:blipFill>
          <a:blip r:embed="rId4"/>
          <a:stretch/>
        </p:blipFill>
        <p:spPr>
          <a:xfrm>
            <a:off x="2700360" y="3191040"/>
            <a:ext cx="6264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8" name="Immagine 2" descr=""/>
          <p:cNvPicPr/>
          <p:nvPr/>
        </p:nvPicPr>
        <p:blipFill>
          <a:blip r:embed="rId4"/>
          <a:stretch/>
        </p:blipFill>
        <p:spPr>
          <a:xfrm>
            <a:off x="57240" y="1868400"/>
            <a:ext cx="9037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8" name="Immagine 1" descr=""/>
          <p:cNvPicPr/>
          <p:nvPr/>
        </p:nvPicPr>
        <p:blipFill>
          <a:blip r:embed="rId4"/>
          <a:stretch/>
        </p:blipFill>
        <p:spPr>
          <a:xfrm>
            <a:off x="0" y="2684520"/>
            <a:ext cx="9144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1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1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6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0" name="Immagine 1" descr=""/>
          <p:cNvPicPr/>
          <p:nvPr/>
        </p:nvPicPr>
        <p:blipFill>
          <a:blip r:embed="rId4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magine 1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3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3708360" y="563724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5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magine 1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130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51,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354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52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9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4" name="Immagine 1" descr=""/>
          <p:cNvPicPr/>
          <p:nvPr/>
        </p:nvPicPr>
        <p:blipFill>
          <a:blip r:embed="rId4"/>
          <a:stretch/>
        </p:blipFill>
        <p:spPr>
          <a:xfrm>
            <a:off x="1679400" y="1844640"/>
            <a:ext cx="5629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20520" y="12384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ASSENZE COVID NEL PERSONALE AUSL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4" name="Immagine 3" descr=""/>
          <p:cNvPicPr/>
          <p:nvPr/>
        </p:nvPicPr>
        <p:blipFill>
          <a:blip r:embed="rId4"/>
          <a:stretch/>
        </p:blipFill>
        <p:spPr>
          <a:xfrm>
            <a:off x="44280" y="1852560"/>
            <a:ext cx="9099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3" name="Rettangolo 1"/>
          <p:cNvSpPr/>
          <p:nvPr/>
        </p:nvSpPr>
        <p:spPr>
          <a:xfrm>
            <a:off x="250920" y="1968480"/>
            <a:ext cx="864216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361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-103): 57 I dosi, 60 II dosi, 125 III dosi e 121 IV dos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popolazione target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8,5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6,5% per le second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,1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completati 90.047 cicli, con ulteriori 48 utenti prenotati; ad oggi ne mancano all’appello circa 2.000 (III dosi a più di 120 gg dalle seconde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adesion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52,1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del totale della popolazione vaccinabile (7.161 somministrazioni, 130 prenotazioni; target circa 14.000 assistiti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tà 5/11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2.692 prime dosi eseguite (copertura 32,3%); 2.107 cicli completi (copertura 25,3%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4741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619200" y="44132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5724360" y="177336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6948360" y="42926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2" name="CasellaDiTesto 15"/>
          <p:cNvSpPr/>
          <p:nvPr/>
        </p:nvSpPr>
        <p:spPr>
          <a:xfrm>
            <a:off x="8028000" y="393372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2" name="Rettangolo 1"/>
          <p:cNvSpPr/>
          <p:nvPr/>
        </p:nvSpPr>
        <p:spPr>
          <a:xfrm>
            <a:off x="34920" y="1938240"/>
            <a:ext cx="89931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in tutti gli hub vaccinali; vaccino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145 somministrazioni (-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over 80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e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 negli ultra-fragili 60-79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prosegue l’offerta vaccinale ambulatoriale con attività presso gli ambulatori vaccinali della sanità pubblica (Ospedale Vecchio, primo piano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mpletamento delle azioni di chiamata attiva per utenti ancora non prenotati per le terze e le quarte dos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sms prenotativo, azione di recall da parte del MMG, lettera aperta di sensibilizza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Dopo la raccomandazione di estendere la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a chi ha più di 60 ann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da parte di EMA e ECDC, lunedì pomeriggio è arrivato in Italia il via libera dell’AIFA; entro la settimana si darà corso alla vaccinazione di questo nuovo target di popolazione (trascorsi almeno 120 giorni dall’ultimo richiamo o dall’ultima infe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1" name="Rettangolo 1"/>
          <p:cNvSpPr/>
          <p:nvPr/>
        </p:nvSpPr>
        <p:spPr>
          <a:xfrm>
            <a:off x="108000" y="1849320"/>
            <a:ext cx="864072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ondat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micron 5 continua a crescere di intensità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nche se l’incremento dei casi di malattia nelle ultime due settimane (+30% e +25%) risulta meno marcato rispetto a quelle precedenti (+40% e +69%), e questo è un segnale di avvicinamento al picco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ondata Omicron 5 ha un evident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gradiente da est ad ovest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 la Romagna ed Imola sono ormai prossime al punto di massimo, mentre i territori emiliani continuano ad avere un ritmo di crescita più sostenuto; sono in costante aumento le reinfezioni (oltre il 12% del totale)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’occupazione dei posti letto ordinari continua a crescer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nche se con una intensità molto inferiore a quella dei casi incidenti (5%); oggi i ricoveri sono dieci volte quelli di un anno fa, restando comunque ampiamente al di sotto della soglia di allarme; sono ricoverati anziani (età mediana = 83 anni), con infezione CoviD sovrapposta a gravi malattie croniche; nel 50% dei casi il ricovero avviene per motivi diversi dal CoviD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9"/>
          <p:cNvSpPr/>
          <p:nvPr/>
        </p:nvSpPr>
        <p:spPr>
          <a:xfrm>
            <a:off x="14400" y="11970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0" name="Rettangolo 1"/>
          <p:cNvSpPr/>
          <p:nvPr/>
        </p:nvSpPr>
        <p:spPr>
          <a:xfrm>
            <a:off x="108000" y="1628640"/>
            <a:ext cx="86407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e attuali varianti circolanti, che hanno un indice di trasmissione di 15, non si possono arrestare in alcun modo; il tracciamento è diventato un inutile esercizio di stile (il virus corre troppo velocemente)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E’ important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ncentrare l’attenzione e la protezione sugli anziani e sui vulnerabil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ampliando la platea a cui viene offerta la quarta dose e utilizzando precauzioni barriera e antivirali quando indicato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’attuale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accin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non è affatto superato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impedisce le manifestazioni più gravi della malatti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ed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lleggerisce significativamente il carico ospedaliero dei ricover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Sarebbe sbagliato aprire indiscriminatamente il rubinetto dei contagi, lasciando andare indisturbato il virus; è ancora troppo presto, siamo in un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fase di transizione fra epidemia ed endemi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e si rischierebbe di pagare un prezzo non sostenibile in termini di decessi e di ricoveri ospedalieri; ormai è chiaro che questo virus non ci abbandonerà, ma al tempo stesso è evidente che i suoi effetti col tempo si stanno attenuando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14400" y="138096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3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9" name="Rettangolo 1"/>
          <p:cNvSpPr/>
          <p:nvPr/>
        </p:nvSpPr>
        <p:spPr>
          <a:xfrm>
            <a:off x="108000" y="1919160"/>
            <a:ext cx="892800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Nel contesto dato dobbiamo ricercare 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mpromesso fra il rischio di lasciare in giro individui contagiosi e quello di doverci privare del lavoro di troppe persone per un eccesso di precauzione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cominciare si dovrebb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idurre la durata dell’isolamento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 al periodo di effettiva contagiosità (5 giorni in luogo di 7 appaiono adeguati per le varianti in circolazione)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uscendone senza bisogno del test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i dovrebbe inoltre iniziare a ragionare sulla possibilità che i lavoratori dei servizi essenziali (fra i quali quelli della Sanità), se asintomatici, possano comunque prestare servizio indossando sempre le FFP2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quanto riguarda la quarantena degli asintomatici, è ancora troppo presto per abbandonarla, ma se prosegue l’attenuazione del virus da una parte e la protezione dei fragili dall’altra (con la vaccinazione, con i farmaci antivirali e con le misure barriera) non ci siamo molto lontani. 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magine 1" descr=""/>
          <p:cNvPicPr/>
          <p:nvPr/>
        </p:nvPicPr>
        <p:blipFill>
          <a:blip r:embed="rId1"/>
          <a:stretch/>
        </p:blipFill>
        <p:spPr>
          <a:xfrm>
            <a:off x="20520" y="1792440"/>
            <a:ext cx="9102960" cy="4651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1" descr=""/>
          <p:cNvPicPr/>
          <p:nvPr/>
        </p:nvPicPr>
        <p:blipFill>
          <a:blip r:embed="rId1"/>
          <a:stretch/>
        </p:blipFill>
        <p:spPr>
          <a:xfrm>
            <a:off x="0" y="1806480"/>
            <a:ext cx="9144000" cy="4430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Connettore 1 2"/>
          <p:cNvSpPr/>
          <p:nvPr/>
        </p:nvSpPr>
        <p:spPr>
          <a:xfrm>
            <a:off x="304920" y="530064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9096480" cy="4771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5"/>
          <p:cNvSpPr/>
          <p:nvPr/>
        </p:nvSpPr>
        <p:spPr>
          <a:xfrm>
            <a:off x="6593040" y="17733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4" name="CasellaDiTesto 15"/>
          <p:cNvSpPr/>
          <p:nvPr/>
        </p:nvSpPr>
        <p:spPr>
          <a:xfrm>
            <a:off x="8393400" y="44784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0,9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8465400" y="429264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2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8676000" y="411948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5,1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magine 1" descr=""/>
          <p:cNvPicPr/>
          <p:nvPr/>
        </p:nvPicPr>
        <p:blipFill>
          <a:blip r:embed="rId1"/>
          <a:stretch/>
        </p:blipFill>
        <p:spPr>
          <a:xfrm>
            <a:off x="20520" y="1768320"/>
            <a:ext cx="9102960" cy="467532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7" name="Connettore 1 2"/>
          <p:cNvSpPr/>
          <p:nvPr/>
        </p:nvSpPr>
        <p:spPr>
          <a:xfrm>
            <a:off x="539640" y="4724280"/>
            <a:ext cx="8425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8" name="Connettore 1 2"/>
          <p:cNvSpPr/>
          <p:nvPr/>
        </p:nvSpPr>
        <p:spPr>
          <a:xfrm>
            <a:off x="539640" y="494172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onnettore 1 2"/>
          <p:cNvSpPr/>
          <p:nvPr/>
        </p:nvSpPr>
        <p:spPr>
          <a:xfrm>
            <a:off x="523800" y="515772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47,5 (-1,5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Immagine 1" descr=""/>
          <p:cNvPicPr/>
          <p:nvPr/>
        </p:nvPicPr>
        <p:blipFill>
          <a:blip r:embed="rId4"/>
          <a:stretch/>
        </p:blipFill>
        <p:spPr>
          <a:xfrm>
            <a:off x="44280" y="2001960"/>
            <a:ext cx="9099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avanzata,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AVANZAT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1" descr=""/>
          <p:cNvPicPr/>
          <p:nvPr/>
        </p:nvPicPr>
        <p:blipFill>
          <a:blip r:embed="rId4"/>
          <a:stretch/>
        </p:blipFill>
        <p:spPr>
          <a:xfrm>
            <a:off x="0" y="1897200"/>
            <a:ext cx="91440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6-06T08:46:36Z</cp:lastPrinted>
  <dcterms:modified xsi:type="dcterms:W3CDTF">2022-07-12T08:41:56Z</dcterms:modified>
  <cp:revision>2970</cp:revision>
  <dc:subject/>
  <dc:title>Presentazione di PowerPoint</dc:title>
</cp:coreProperties>
</file>