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774CC44-6F32-4CBE-892D-3B8B03E1C06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Showcard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4A52FBB-6754-4D70-AA57-22F993D4CF7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AC5B0E-2CD5-4399-8F4E-1CD8D56BADC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4C5C57A-FEA5-446F-A4EA-89CB1BB2662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755888-EE18-4362-A240-115FE240040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AAF885A-16C0-452D-92E8-D1C11D0D95C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405CA3-FC83-4C2E-A362-5F5ADBF74A1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F8B90B4-686E-41E2-B379-E42E25D04EA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F87C7B-DF56-4E71-8237-FF27D8CD0D5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6B460FB-9BBD-461B-A653-B02CF20BF58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58D6-E122-4A15-A658-97EB9A55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751E-D9A2-43F3-A05F-2947E837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C65B-04C2-4535-80A4-74A43C70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87E7-B0B4-4504-805B-88DF88BC8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D721-6EB5-47CC-B9BF-6F038674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476E-1BA4-414C-BB91-88A5F99B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B44C-356C-409B-B535-50917E86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FF74-9CF1-4C97-9D2C-C3394C51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EC60-4559-4D91-89E2-0EBA2064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5C0F-53EB-44CA-A9F9-DC081F2B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3A73-8230-4B4B-A1CD-9B4A7FF3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1691-B159-4501-87AA-ADF34223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08AC-9738-41B0-8D91-C2BE434D69B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Showcard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49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179280" y="2133720"/>
            <a:ext cx="8785440" cy="22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800" spc="-1" strike="noStrike">
                <a:solidFill>
                  <a:srgbClr val="000000"/>
                </a:solidFill>
                <a:latin typeface="Cambria"/>
              </a:rPr>
              <a:t>VACCINAZIONE COVID-19 NELL’ AZIENDA USL DI IMOLA</a:t>
            </a:r>
            <a:endParaRPr b="0" lang="en-US" sz="5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179280" y="585144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mbria"/>
              </a:rPr>
              <a:t>CTSS Metropolitana di Bologna, 29/04/2021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55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1"/>
          <p:cNvSpPr/>
          <p:nvPr/>
        </p:nvSpPr>
        <p:spPr>
          <a:xfrm>
            <a:off x="179280" y="541980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ANDREA ROSSI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/9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58" name="Immagine 3" descr=""/>
          <p:cNvPicPr/>
          <p:nvPr/>
        </p:nvPicPr>
        <p:blipFill>
          <a:blip r:embed="rId4"/>
          <a:stretch/>
        </p:blipFill>
        <p:spPr>
          <a:xfrm>
            <a:off x="5842080" y="4370400"/>
            <a:ext cx="3122640" cy="1219320"/>
          </a:xfrm>
          <a:prstGeom prst="rect">
            <a:avLst/>
          </a:prstGeom>
          <a:ln w="0">
            <a:noFill/>
          </a:ln>
        </p:spPr>
      </p:pic>
      <p:pic>
        <p:nvPicPr>
          <p:cNvPr id="59" name="Immagine 4" descr=""/>
          <p:cNvPicPr/>
          <p:nvPr/>
        </p:nvPicPr>
        <p:blipFill>
          <a:blip r:embed="rId5"/>
          <a:stretch/>
        </p:blipFill>
        <p:spPr>
          <a:xfrm>
            <a:off x="324000" y="4367160"/>
            <a:ext cx="234144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61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0520" y="141300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PUNTI VACCINALI TERRITORIALI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-1810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/9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67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1"/>
          <p:cNvSpPr/>
          <p:nvPr/>
        </p:nvSpPr>
        <p:spPr>
          <a:xfrm>
            <a:off x="304920" y="2617920"/>
            <a:ext cx="84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Cambria"/>
              </a:rPr>
              <a:t>Auditorium Osservanza Imola 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304920" y="5445000"/>
            <a:ext cx="84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3)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Cambria"/>
              </a:rPr>
              <a:t>Centro Congressi Artemide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         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Cambria"/>
              </a:rPr>
              <a:t>Castel S.Pietro Terme  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304920" y="4130640"/>
            <a:ext cx="84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2)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Cambria"/>
              </a:rPr>
              <a:t>CS La Tozzona Imola 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71" name="Immagine 2" descr=""/>
          <p:cNvPicPr/>
          <p:nvPr/>
        </p:nvPicPr>
        <p:blipFill>
          <a:blip r:embed="rId4"/>
          <a:stretch/>
        </p:blipFill>
        <p:spPr>
          <a:xfrm>
            <a:off x="6485040" y="3753000"/>
            <a:ext cx="2260440" cy="1331640"/>
          </a:xfrm>
          <a:prstGeom prst="rect">
            <a:avLst/>
          </a:prstGeom>
          <a:ln w="0">
            <a:noFill/>
          </a:ln>
        </p:spPr>
      </p:pic>
      <p:pic>
        <p:nvPicPr>
          <p:cNvPr id="72" name="Immagine 3" descr=""/>
          <p:cNvPicPr/>
          <p:nvPr/>
        </p:nvPicPr>
        <p:blipFill>
          <a:blip r:embed="rId5"/>
          <a:stretch/>
        </p:blipFill>
        <p:spPr>
          <a:xfrm>
            <a:off x="6485040" y="5297400"/>
            <a:ext cx="226368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Immagine 4" descr=""/>
          <p:cNvPicPr/>
          <p:nvPr/>
        </p:nvPicPr>
        <p:blipFill>
          <a:blip r:embed="rId6"/>
          <a:stretch/>
        </p:blipFill>
        <p:spPr>
          <a:xfrm>
            <a:off x="6485040" y="2205000"/>
            <a:ext cx="22604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75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20520" y="154944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PUNTI VACCINALI SPOKE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3/9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81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1"/>
          <p:cNvSpPr/>
          <p:nvPr/>
        </p:nvSpPr>
        <p:spPr>
          <a:xfrm>
            <a:off x="304920" y="2617920"/>
            <a:ext cx="84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Cambria"/>
              </a:rPr>
              <a:t>Casa della Salute di Castel S.Pietro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304920" y="3645000"/>
            <a:ext cx="84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2)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Cambria"/>
              </a:rPr>
              <a:t>Casa della Salute di Medicina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324000" y="4705200"/>
            <a:ext cx="84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3)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Cambria"/>
              </a:rPr>
              <a:t>Casa della Salute Val Santerno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85" name="Immagine 1" descr=""/>
          <p:cNvPicPr/>
          <p:nvPr/>
        </p:nvPicPr>
        <p:blipFill>
          <a:blip r:embed="rId4"/>
          <a:stretch/>
        </p:blipFill>
        <p:spPr>
          <a:xfrm>
            <a:off x="7020000" y="2278080"/>
            <a:ext cx="1631880" cy="1222200"/>
          </a:xfrm>
          <a:prstGeom prst="rect">
            <a:avLst/>
          </a:prstGeom>
          <a:ln w="0">
            <a:noFill/>
          </a:ln>
        </p:spPr>
      </p:pic>
      <p:pic>
        <p:nvPicPr>
          <p:cNvPr id="86" name="Immagine 2" descr=""/>
          <p:cNvPicPr/>
          <p:nvPr/>
        </p:nvPicPr>
        <p:blipFill>
          <a:blip r:embed="rId5"/>
          <a:stretch/>
        </p:blipFill>
        <p:spPr>
          <a:xfrm>
            <a:off x="7020000" y="3730680"/>
            <a:ext cx="1616040" cy="1211040"/>
          </a:xfrm>
          <a:prstGeom prst="rect">
            <a:avLst/>
          </a:prstGeom>
          <a:ln w="0">
            <a:noFill/>
          </a:ln>
        </p:spPr>
      </p:pic>
      <p:pic>
        <p:nvPicPr>
          <p:cNvPr id="87" name="Immagine 3" descr=""/>
          <p:cNvPicPr/>
          <p:nvPr/>
        </p:nvPicPr>
        <p:blipFill>
          <a:blip r:embed="rId6"/>
          <a:stretch/>
        </p:blipFill>
        <p:spPr>
          <a:xfrm>
            <a:off x="7010280" y="5238720"/>
            <a:ext cx="16257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89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0520" y="154944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ACCORDO MMG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4/9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95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1"/>
          <p:cNvSpPr/>
          <p:nvPr/>
        </p:nvSpPr>
        <p:spPr>
          <a:xfrm>
            <a:off x="304920" y="2617920"/>
            <a:ext cx="84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Vaccinazione in tutti gli ambulatori MMG/CDS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304920" y="3645000"/>
            <a:ext cx="84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2) Vaccinazione domiciliare under 80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324000" y="4705200"/>
            <a:ext cx="84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3) Vaccinazione nei PVT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00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20520" y="134136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DOSI X CLASSI DI PRORITA’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5/9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06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pic>
        <p:nvPicPr>
          <p:cNvPr id="107" name="Immagine 10" descr=""/>
          <p:cNvPicPr/>
          <p:nvPr/>
        </p:nvPicPr>
        <p:blipFill>
          <a:blip r:embed="rId4"/>
          <a:stretch/>
        </p:blipFill>
        <p:spPr>
          <a:xfrm>
            <a:off x="973080" y="1852560"/>
            <a:ext cx="719784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09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6/9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14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9"/>
          <p:cNvSpPr/>
          <p:nvPr/>
        </p:nvSpPr>
        <p:spPr>
          <a:xfrm>
            <a:off x="20520" y="169236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PRIME DOSI X COMUNE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16" name="Immagine 1" descr=""/>
          <p:cNvPicPr/>
          <p:nvPr/>
        </p:nvPicPr>
        <p:blipFill>
          <a:blip r:embed="rId4"/>
          <a:stretch/>
        </p:blipFill>
        <p:spPr>
          <a:xfrm>
            <a:off x="34920" y="2583000"/>
            <a:ext cx="9096480" cy="27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18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7/9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23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9"/>
          <p:cNvSpPr/>
          <p:nvPr/>
        </p:nvSpPr>
        <p:spPr>
          <a:xfrm>
            <a:off x="20520" y="134136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DOSI X CLASSI DI ETA’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25" name="Immagine 2" descr=""/>
          <p:cNvPicPr/>
          <p:nvPr/>
        </p:nvPicPr>
        <p:blipFill>
          <a:blip r:embed="rId4"/>
          <a:stretch/>
        </p:blipFill>
        <p:spPr>
          <a:xfrm>
            <a:off x="839880" y="1927080"/>
            <a:ext cx="746424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27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8/9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32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9"/>
          <p:cNvSpPr/>
          <p:nvPr/>
        </p:nvSpPr>
        <p:spPr>
          <a:xfrm>
            <a:off x="20520" y="1197000"/>
            <a:ext cx="9123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3333cc"/>
                </a:solidFill>
                <a:latin typeface="Cambria"/>
              </a:rPr>
              <a:t>VACCINAZIONE COVID-19</a:t>
            </a:r>
            <a:endParaRPr b="0" lang="en-US" sz="4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4" name="Rettangolo 1"/>
          <p:cNvSpPr/>
          <p:nvPr/>
        </p:nvSpPr>
        <p:spPr>
          <a:xfrm>
            <a:off x="250920" y="1844640"/>
            <a:ext cx="8642160" cy="42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Cambria"/>
                <a:ea typeface="Calibri"/>
              </a:rPr>
              <a:t>Prime dosi over 80 copertura ~90%; 75-79 copertura ~80%; over 80 domiciliati completati con prime dosi;</a:t>
            </a:r>
            <a:endParaRPr b="0" lang="en-US" sz="23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Cambria"/>
                <a:ea typeface="Calibri"/>
              </a:rPr>
              <a:t>Gravemente Vulnerabili e Disabili copertura ~85% come prima dose; completamento prime dosi entro 10 maggio;</a:t>
            </a:r>
            <a:endParaRPr b="0" lang="en-US" sz="23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Cambria"/>
                <a:ea typeface="Calibri"/>
              </a:rPr>
              <a:t>70-74: prime dosi al 55% con appuntamenti entro 15 maggio;</a:t>
            </a:r>
            <a:endParaRPr b="0" lang="en-US" sz="23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Cambria"/>
                <a:ea typeface="Calibri"/>
              </a:rPr>
              <a:t>Caregiver dei minori gravemente vulnerabili non vaccinabili: avvio immunizzazione con chiamata attiva e predisposizione elenchi da parte dei servizi (Pediatria Ospedaliera, Neuropsichiatria Infantile);</a:t>
            </a:r>
            <a:endParaRPr b="0" lang="en-US" sz="23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Cambria"/>
                <a:ea typeface="Calibri"/>
              </a:rPr>
              <a:t>Caregiver dei soggetti gravemente vulnerabili e disabili posticipati a fine maggio (scarsa disponibilità vaccino);</a:t>
            </a:r>
            <a:endParaRPr b="0" lang="en-US" sz="23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36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9/9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41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9"/>
          <p:cNvSpPr/>
          <p:nvPr/>
        </p:nvSpPr>
        <p:spPr>
          <a:xfrm>
            <a:off x="20520" y="1306440"/>
            <a:ext cx="9123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3333cc"/>
                </a:solidFill>
                <a:latin typeface="Cambria"/>
              </a:rPr>
              <a:t>VACCINAZIONE COVID-19</a:t>
            </a:r>
            <a:endParaRPr b="0" lang="en-US" sz="4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43" name="Rettangolo 1"/>
          <p:cNvSpPr/>
          <p:nvPr/>
        </p:nvSpPr>
        <p:spPr>
          <a:xfrm>
            <a:off x="250920" y="2151000"/>
            <a:ext cx="8642160" cy="42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Cambria"/>
                <a:ea typeface="Calibri"/>
              </a:rPr>
              <a:t>Consegne Pfitzer, AZ, Moderna e J&amp;J per le prime settimane di maggio; incrementi ancora inferiori alle aspettative;</a:t>
            </a:r>
            <a:endParaRPr b="0" lang="en-US" sz="23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Cambria"/>
                <a:ea typeface="Calibri"/>
              </a:rPr>
              <a:t>Impegno (only-one il 29/04) per traguardare 1.200 dosi/die;</a:t>
            </a:r>
            <a:endParaRPr b="0" lang="en-US" sz="23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Cambria"/>
                <a:ea typeface="Calibri"/>
              </a:rPr>
              <a:t>Prenotazione 65-69 da luned’ (dal 15 maggio al 4 giugno); </a:t>
            </a:r>
            <a:endParaRPr b="0" lang="en-US" sz="23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Cambria"/>
                <a:ea typeface="Calibri"/>
              </a:rPr>
              <a:t>Accordo con MMG: vaccinazioni negli ambulatori, negli Hub vaccinali territoriali e a domicilio (personale scolastico e caregivers over60);</a:t>
            </a:r>
            <a:endParaRPr b="0" lang="en-US" sz="23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Cambria"/>
                <a:ea typeface="Calibri"/>
              </a:rPr>
              <a:t>Prime dosi vaccino J&amp;J (400) destinate ad utilizzo domiciliare (AUSL + MMG);</a:t>
            </a:r>
            <a:endParaRPr b="0" lang="en-US" sz="23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Cambria"/>
                <a:ea typeface="Calibri"/>
              </a:rPr>
              <a:t>Interesse delle grandi aziende di Imola e di Castel S.Pietro per vaccinare i dipendenti nel rispetto delle priorità del PNV</a:t>
            </a:r>
            <a:endParaRPr b="0" lang="en-US" sz="23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3T08:57:11Z</dcterms:created>
  <dc:creator>Coglianese</dc:creator>
  <dc:description/>
  <dc:language>en-US</dc:language>
  <cp:lastModifiedBy>Rossi Andrea</cp:lastModifiedBy>
  <cp:lastPrinted>2021-03-02T08:41:55Z</cp:lastPrinted>
  <dcterms:modified xsi:type="dcterms:W3CDTF">2021-04-29T13:00:30Z</dcterms:modified>
  <cp:revision>1069</cp:revision>
  <dc:subject/>
  <dc:title>Presentazione di PowerPoint</dc:title>
</cp:coreProperties>
</file>