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15.wmf" ContentType="image/x-wmf"/>
  <Override PartName="/ppt/media/image7.png" ContentType="image/png"/>
  <Override PartName="/ppt/media/image6.wmf" ContentType="image/x-wmf"/>
  <Override PartName="/ppt/media/image31.wmf" ContentType="image/x-wmf"/>
  <Override PartName="/ppt/media/image29.wmf" ContentType="image/x-wmf"/>
  <Override PartName="/ppt/media/image11.wmf" ContentType="image/x-wmf"/>
  <Override PartName="/ppt/media/image12.png" ContentType="image/png"/>
  <Override PartName="/ppt/media/image32.wmf" ContentType="image/x-wmf"/>
  <Override PartName="/ppt/media/image8.png" ContentType="image/png"/>
  <Override PartName="/ppt/media/image9.wmf" ContentType="image/x-wmf"/>
  <Override PartName="/ppt/media/image34.wmf" ContentType="image/x-wmf"/>
  <Override PartName="/ppt/media/image13.wmf" ContentType="image/x-wmf"/>
  <Override PartName="/ppt/media/image30.wmf" ContentType="image/x-wmf"/>
  <Override PartName="/ppt/media/image1.jpeg" ContentType="image/jpeg"/>
  <Override PartName="/ppt/media/image10.png" ContentType="image/png"/>
  <Override PartName="/ppt/media/image33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4.png" ContentType="image/png"/>
  <Override PartName="/ppt/media/image2.png" ContentType="image/png"/>
  <Override PartName="/ppt/media/image14.wmf" ContentType="image/x-wmf"/>
  <Override PartName="/ppt/media/image16.png" ContentType="image/png"/>
  <Override PartName="/ppt/media/image17.wmf" ContentType="image/x-wmf"/>
  <Override PartName="/ppt/media/image18.png" ContentType="image/png"/>
  <Override PartName="/ppt/media/image20.png" ContentType="image/png"/>
  <Override PartName="/ppt/media/image19.wmf" ContentType="image/x-wmf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notesMasterIdLst>
    <p:notesMasterId r:id="rId32"/>
  </p:notes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notesMaster" Target="notesMasters/notesMaster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dt" idx="9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 type="sldImg"/>
          </p:nvPr>
        </p:nvSpPr>
        <p:spPr>
          <a:xfrm>
            <a:off x="928440" y="738360"/>
            <a:ext cx="4940280" cy="37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564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 type="ftr" idx="92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6"/>
          <p:cNvSpPr>
            <a:spLocks noGrp="1"/>
          </p:cNvSpPr>
          <p:nvPr>
            <p:ph type="sldNum" idx="93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D2DB7EE-B790-4EA6-BC79-A70D1249420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56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Segnaposto numero diapositiva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4349185-888E-4021-AAE9-F9E5FC9355A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56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Segnaposto numero diapositiva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AA009B-ACD0-48CC-AB40-886E67F7340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56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Segnaposto numero diapositiva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13BF4B-B0CD-4AF1-A88E-59559BDA835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56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Segnaposto numero diapositiva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DC17A9A-E8CF-4462-946C-6556E938675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56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Segnaposto numero diapositiva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B847EAE-8D60-4D30-A443-99A95C881BA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56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Segnaposto numero diapositiva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96EF7C6-B726-46E2-BE7A-CAA8CEE34F7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56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Segnaposto numero diapositiva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68F33E5-DB4E-407D-8449-222673CFD06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56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Segnaposto numero diapositiva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65D5BD4-972E-4A8C-8FD3-A0522668361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56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Segnaposto numero diapositiva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A788A78-D3AE-4FCD-AA01-944944BE6E8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56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Segnaposto numero diapositiva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38A894-CFD8-49E3-95B2-78C80355167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56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Segnaposto numero diapositiva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BEB10F2-1EB2-44AE-9C4E-6CE8D87324B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56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Segnaposto numero diapositiva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A2C6658-EF0A-495F-B03C-158AD6DF7E5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56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Segnaposto numero diapositiva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849C051-6D91-4545-B6FB-989E08E8914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56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Segnaposto numero diapositiva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3F24218-C50F-4F96-8814-149AB94D190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56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Segnaposto numero diapositiva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5DD6619-B146-4884-9D2A-2D0577C1F71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56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Segnaposto numero diapositiva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594D35-5DC2-4413-9DA9-B14CB8A16A6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56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Segnaposto numero diapositiva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103D70-28A6-4600-A49D-A5CCC323B1E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56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Segnaposto numero diapositiva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5E7522C-1516-4BB5-A264-2080F14ADEC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017D-50BC-4A77-A178-78A7E4DFC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13AC-A1C4-4529-A8B9-2AB7045D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105B7-5F6E-4FEC-A8CA-5FF50048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98A48-E4D0-4FA4-9ABA-E7FDF62D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4A46F-2313-450D-95D9-76516373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D8916-86EF-49A2-8CC3-FF93C468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DA04F-69A0-4AE2-A7AE-802F18ED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BC7FD-6925-4A71-B89B-73EB1339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7478C-F638-4C5B-8191-35897519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D2184-4FE4-4E4D-AFBD-49299F1D4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E379D-80FF-4247-93DD-3EA8AF1DE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62CD2-87BB-4956-ADDA-617EB4F20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8318-7A56-4456-92AE-2EFCFFA5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76965-299A-473E-98DE-3630B1A2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C2BD76-FE43-4951-A873-D3F500E3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6311B-083C-450B-8039-B3B61278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E4B55D-10F6-4BF4-94C8-C1D2AE8F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F7878-12CB-4C47-B163-CBC75168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6D0AD-4E65-401E-9E39-8BF736E1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671549-B005-45AB-99CC-958B23FA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756C3-4AD0-4B33-86F5-BBBC701B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8AF0A2-1CA1-4318-BA28-2EB3C56F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C1AC70-CEB1-4E5A-AF1B-A11C403B8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1C2D-38B7-429C-B578-432422BB2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305BB-6B30-418A-BE3B-0872D2E24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21171-1E07-40A8-A6E7-1AE381C9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064E5-5A0C-4B8F-8587-D35EBD80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98199-35CE-46B8-8351-3B9C9D0A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7DA1C-34CF-422D-BF2B-8ABEBA92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2A426-3C7E-477E-8831-3CE9115D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5A0F4-D4B8-4ACF-9684-8B7E4B0C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D3A40-5B08-4124-A7BC-D0CE9FE7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1CE1D-7046-4A63-B119-2F23CAC2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0EA94-E506-4AF7-A39E-982A9CB4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CEE5-10AB-4603-8550-EEF9B420B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8B225-AE52-4ADE-AC91-5492904A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39F6D-E528-4DB3-8F3B-2CCF6493C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906DD-1612-442E-9FDE-418A276D2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16D7FB-E1B5-403A-920D-0FAB298D5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1EC2D6-7439-4FA0-A60B-06147F9A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9817B2-E2F5-43D0-912D-5A7DC94D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A42D2E-4E5C-4481-A00A-9A2B4DEC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BCBB65-9C2F-4BCF-B235-4D2887A4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64D22F-13D7-48DD-985C-30FE1104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84ED3F-4318-4B8F-8F77-2E93ACAF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CD4E-72AF-407B-B5E2-BA34D95E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E04F82-9007-4797-AF35-B149ABF5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75CF2-0304-46B5-911A-AD576030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483F26-BF9E-4E51-889F-6DF2EA1D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E0C8B2-A649-4850-8DF0-0A2768188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B512A0-F452-4D1A-B244-5CAE4D440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4ED859-847D-450B-B457-5AB05B3C1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CAE518-D2FD-4063-92B9-D5896290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7D2867-D0BA-4E3F-91D4-4CF84178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C52F86-E6C8-46DC-923F-4660A479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422096-FC20-4B49-9DF0-4875D968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186A-8D7C-4200-AD59-38AB85BF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AC77F0-B3DC-40EC-8C24-9E1E6EB6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2EC442-8B1A-40B5-9BEE-CFCE8DAE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E57A7E-DC24-4295-8190-A3023D23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2F99D1-44AC-4B07-A37F-53C482F0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8A9B57-E746-433F-BA21-CBB8B873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5DDEB9-FC04-445B-9BE4-5C20F35B5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B1B95F-65EE-4135-879C-F508DBCE1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CE5C2B-2937-4810-B784-81383E284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2A36EB-C463-4309-BE74-5E944C90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DE000E-E636-4B5C-A717-9F7889F5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E26C-E277-48B6-BA32-57A55B62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9FB17B-D8D6-4F10-A023-3EE58B01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E1D0CC-3007-41C6-81BB-23721D18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9FAEE9-3A14-48E0-ADC0-2018F2C0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098DA5-1440-46D6-8493-AEE79C2F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C781FA-205B-4249-AF0A-9AD3C7E7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A5A686-A6FE-4C01-9844-1BFE602E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B632DB-7938-4D4B-9536-0799143A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DFF02C-2238-4B90-9D6E-FF44F16CC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57C549-E10B-4A2A-A3E4-BA27B5AEF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56AB45-D89C-4716-B1DB-8C471F866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C073-247E-4BB1-9C4C-BC2C93F7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E0B920-D18D-43A4-955E-C33F6D60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77B31D-FB3B-4852-989B-820420D0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972F58-918E-4566-84FF-0A6F1A2F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1D1FD0-423F-401A-BD66-6D3E0B2F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92A7BF-7A96-4683-9F2A-540E92A4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417CF0-AC34-47D6-B196-09339CE3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369AC5-7DDF-4CB6-A8D3-B1C6EE24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E2BAB0-C87B-46A4-AC4B-9AA49A36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BA6218-1AD3-49A7-A154-0A959588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468538-1E32-474F-B674-C0DC11BD3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F25E-E41F-485E-9E47-866049BD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21A68E-A0A4-4D8D-9457-020B37E94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7298E2-75CB-4085-B9AE-F6D00A07E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90C86A-2AD6-44DB-89DF-235B8E17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A946F7-E869-4FE3-8134-E3CA41FB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34AEB9-EFD4-4041-9CD5-15FED4FD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CBCECB-6979-4963-A62C-3F7FBFEB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A6C9FA-171B-49BF-93D1-28D82325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8DEB9D-5E3E-4F73-BC33-79C38B9E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07A5A9-3898-42AC-9C37-CBFFC9DC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3C1AD3-F468-4308-8948-9D5C5E9B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C39E-E78B-4E9F-A966-57D9CE5A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C3BEE9-C796-49A3-A4C6-88077394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0FD494-98EB-4093-8A16-3C1098B19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F722FC-93A7-4B00-9DFB-98B2C49C0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B2D6E4-24FD-40E2-97F3-5AB582C52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E9CEBA-E2C0-4533-BD6E-575C9349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20BB4F-25DE-4F65-A72B-4AEB0838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77C81D-1B3C-4540-821B-E899C015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4D6EAA-F0F9-4BE3-8C2D-E34CBCBE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500B48-6B6A-4599-8F76-28339D41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E3AB1E-159E-456B-B377-739082B1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19A3-1FAC-4408-9268-7E9BD537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9E06-4E18-4F33-A134-C5231355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221CEE-843D-4325-8931-5D035741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C8C409-721E-41ED-9F20-102FBE4D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2BE469-D4E8-41B9-821B-F994B784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23D833-B1B7-4A34-A35A-4EAA8B86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525136-A020-4DB5-B55F-FCAC58F1B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A907D6-3FA0-41B4-9BB1-B4D2C2EAD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CD3C6A-E9F9-455C-B344-84978D1A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48A804-6E7B-40F2-9E74-FD75EA51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651E79-AC6C-4FC9-8F7E-B04181F7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235AD7-299F-40F2-84D1-39658A04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A68C-4B90-44B3-AF3A-12B11300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DF3E10-53F2-4078-BF03-6A5183BD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630096-CC4C-41DD-AD83-2916B3AF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F0AB09-8744-403C-8F28-B85B9A9E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44D569-442B-4616-9EBD-B0B491B6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EE671B-87A6-4E0F-AF8E-906025DE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36C811-1D71-465F-AAD0-36018F657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2920D4-2050-4D4C-B7BF-BFF04422B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DED782-E05B-459B-BB87-A05A7507C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DC6382-F39F-4333-949E-0CB0EFDD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D70969-5782-4661-AD55-867D0040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82B4-166C-4642-B08D-3882D62D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49558C-4799-4EE5-AD5B-778C01A1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FEE7E6-06A2-4D1F-A521-3E9C7849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511202-49F6-4C8B-AE6A-CA4C4FD8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D457FE-CDA3-404B-BC3E-12DDD359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58C9DA-9D02-4676-8A46-DAD1FE6B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38A36F-0596-48BB-99AB-6FAF9CCD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059BCC-E146-4821-AC16-1EEDAF1E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2B8C37-B1B2-4905-AFA2-908BD4279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BA25A6-54D0-4D5F-9836-D5F7E55EE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6D4405-2CAE-404C-AB43-34521ED4A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B37E-DF2F-4F45-867F-68E4C6411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762203-DFB4-465E-AB6C-E03139A1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17CC7D-0604-4964-B745-F34DA730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82674A-8BDE-4678-9EA7-8D52BD5D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5BB2D8-459E-4890-915A-64574F66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7259EB-5803-4056-8121-6659EDF6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5D407E-3C63-430D-9ACB-0347BC0E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335BD2-ABE4-47E2-B930-2B04C788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3171CF-5455-48E9-9C65-C5EE5163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954107-C2B8-4EE2-B91E-4286F41A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8438AE-5E42-4F52-9E71-B234CB209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A6AF-F9D7-4011-A627-7ED5E8CE2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CB697C-C235-428C-8060-E4F3FF09B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7D5D5C-32C2-44DD-9FCE-994371035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3E9F0C-C10F-4EC0-A575-402A1C64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03845C-70C6-4952-8BFC-AA8591F0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32FD9C-A0E5-4BE6-9F8C-E9CECA77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C84169-5815-48C4-87C6-CD9E1621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FBC829-174A-4AF6-A30A-74A2EB72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6D8A6A-8097-4C95-9328-AF46F405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DCFAB0-D4C7-41E2-A9C0-89FEBB41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0DB86B-A311-4490-8BD8-35903B13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47811-B3AF-4B0A-BE42-9ABFD54E5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9F6137-8DC4-42E1-956D-9F4CDA99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A39A3B-05EF-44AB-AAC4-9F143DF2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C9179C-D79E-4361-AF21-3188FD195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792D53-2FFB-433F-B645-FC362B991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C4EA8D-D6A0-4E87-8659-F1D12DA1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6E32F7-3DDF-463C-BC55-F9A551FC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3297CF-5408-4392-9494-97DB2B95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A7C304-B916-403F-A986-4AF54EFD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656B41-CC17-4651-8926-AFA582D5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A7A304-2BD3-4A68-AEA7-BD1D7619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8E116-E740-437F-8D23-2A20658E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4A7ED8-E8A3-4AC3-91BF-3127169A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247CB0-3A67-4976-898A-CFC1A14E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5442D5-33A0-489B-94E5-F2F01148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3C68AD-E635-4C81-9746-031F4D91F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4E84A8-16B2-49AB-8A8C-924B12DC0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E78C17-7AD9-4F18-8D18-B079DBEFD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FBD2A7-0FA3-44B7-8663-917A54B1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70FB7F-19F1-4CD7-BCBB-50462EC3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89C680-37AC-4C09-90EA-0C5B7C44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27142F-D669-4F92-88B5-625A9628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0731C-EE53-4ED0-8D7D-991A4FDF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8AA879-C711-4258-8DE6-85E6757C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C70E20-F1CF-47C5-8B3F-417CA250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4F88BD-4531-436E-89A6-13C593F9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006EC4-295C-4140-8E91-2BCD0419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047B20-FD65-41E8-82D9-AF69701F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2A5041-EB73-4F3B-A2AF-14710F39F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1215E5-3B2F-45E9-83F6-7DA9BF258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EDF274-425A-4EC8-817E-088BF7FF3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F21826-69A6-4066-B325-A81B85B5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1D1C83-9EFF-4848-A5A1-91D533E3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FB475-8317-40A0-9E33-9C0355F3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382FD4-BF8D-46FF-A623-F8E4B6DF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A8467A-C9BC-4A73-A665-721095F6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FC832E-B0E2-47B6-A555-9C789EBA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25D6C5-7939-4591-A99F-5AC46A9F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37F322-2EB1-4CC5-9A4B-A43C5897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1C7378-3C07-40B8-B0AA-9F127E25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6C2DDA-6FFE-482C-AB16-E11D0F31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1564EEA-7098-423B-8E7C-96AFB2415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400E84-81BF-4ABD-8EA0-4B88683F5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0EB4BA-C9AC-4234-8D0F-143E55923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9B548-6BE1-4291-B055-923F8F4B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1CC753-C0B0-489D-B48F-AE5EADEC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D04327A-E147-4760-9C5B-BB570A0E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46EF8C2-A2A8-47F6-9C1D-961655C9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24E7959-2FD8-41F7-A9B9-A788D86D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AC73B4F-B12C-44F0-90EA-A614B2FA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C3F9CE-EEE6-4118-B1FC-107F6DC4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4C5F90-759F-43D8-8CF9-2C35A8C6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4065C06-0317-48CC-87ED-32B311E6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C5F71C-2F2A-49FF-952B-A08A1350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C38F2E-100D-4465-9D2D-38CFAFAE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79D1-DAAA-4116-9FF3-5CEEA4C5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C47CB-73DE-41AE-BA64-3E975A0C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FC7CFD-D536-4195-BC5B-CB4382920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1E28F0-636A-44E0-8382-892102380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5426EF8-6FC8-477F-9AAC-7C55FB6D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C28FFCF-A8B7-4A48-95E8-E310C124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7379EF-04BF-4BFD-BBD0-6F621B12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631FB7D-01A1-4904-B1B5-6C0AA74B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578100-A8C9-4241-BB41-C5E089D9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E5A8D7-C301-4B97-BCC2-17BFB598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E32EEC4-9503-415D-8C3E-D64CB831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4EE0CF-A238-462C-9B02-3650BA22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074B1-9FE2-414D-9DE2-C4055EBF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42AE70E-EBB7-4145-8202-89AEB4CE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7C8DA11-0D8D-4F01-8875-067F5449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CB7AAB-D934-4010-B1A4-FEED48B98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32668E-FB90-403F-B91E-00FC3D525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AA69946-373F-42FF-9339-380BA5BF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0807D3C-4B51-41B7-AA74-11DDBDB6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62E0CC5-E79F-49BA-976F-267199BE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B24DC5B-6A0C-4308-A4D8-51EF392B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45EE784-CC81-48D8-8594-21C0F379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831AC39-D20A-4761-A861-50E24D94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90981-78E8-449B-B5E7-1C55D66F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3045845-EEC3-4F42-83F1-F583D718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226503C-C768-4B98-BCB2-E9B4257D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54AE910-B9FB-48DF-86E2-345F645E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5B474F7-E381-4A91-A5FF-E0F44E4B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456693-B315-4478-9B0A-63D6E1A37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974FF21-2A5C-4883-9AB1-75A279BF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E9B16A5-AD80-47B2-BB45-617FE039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8B0FCC2-90B5-48CD-A487-3334E621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1CB34C2-4DB2-4D9F-9481-5C2377F5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C990D13-6D16-441C-92BA-583F88EF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AE022-E7FA-4161-B217-BC1640C2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0DA66DC-C2A2-4A5E-B8F1-1596249A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A504D22-2974-4E53-BDBB-418DFF46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EAA31F9-8AE9-4494-A6F1-207663B0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92664E7-D265-4322-B6CD-A23EAA94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4AF21D3-AB78-40B4-8D53-4A4D3871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5BB9F21-83FC-44DC-AC1E-56558315C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CA5C42F-8055-483A-A64A-8C0B959CD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CC6D19E-9AEB-46B8-BBA4-1033E8CD9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F1C745C-A65D-415C-8A20-284B024F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BD1D306-0DAE-4E5C-9C81-927674A8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0740E-E2C4-481F-A124-111DDB90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FFA26A6-7F0E-41F4-9607-55AF827D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1B7239F-624C-437A-A739-F43CB1DC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DD8674F-F7A1-46FC-813A-7F185397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88D8C6B-4AC0-4666-B28F-C05120A6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45A0D20-393A-4D02-9EF5-6BAF06E5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92FDC79-2188-4306-8AA2-C0EE72FF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E8B3D5A-1189-454D-9364-B17280E7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29CE9D4-6042-4B1D-9DC6-C81F1A25C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4F964A6-A4CD-454C-B79E-E65D97CBF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356DAB0-FA74-4732-B71F-8D44671A8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12DDE-5C8D-4C17-9B9B-1CE47505E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485C5A3-5D7C-487D-8331-FE7E2EE0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19058D3-A6D0-494C-BCB0-CD9AE82A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5E81089-8D16-46D8-9036-DE107169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A71B259-137F-422E-82BD-B58F1924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19390F9-F3A2-4A9C-A6F4-A5A61A0C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5945C93-F051-4FA8-BBB1-E3479192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0B9BE4C-7AA6-400B-9BF2-DF85EAB7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B457EAA-057D-4CC5-A069-AF55BDB0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300176D-F070-4F61-AE5F-733D4EE1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3CE7D1F-8A10-4DE8-A2FE-AF3207A08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D03F8-6B72-48E3-AE14-352B1325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461863A-E2FE-4BC3-B8A9-6390EBBE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D66EA-373D-483C-8702-7CE2C4A62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30F3B-B882-4D6C-8F83-0857D1EB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A15BE-4AA0-4E49-B13A-71825C13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F718-8F0B-42AE-8879-5BA43132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CE443-8714-4AD0-9CF9-A77F1918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AE2E9-9E79-4636-925A-7BA8967F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F54C0-7C7C-4C9D-9F71-0855EF55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F9A03-81C4-41F3-9604-6461D0BD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128B0-D478-44DD-9F6F-4D4CA62F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EDEFD-9147-4BAB-BE79-495AD8EA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2454A-140A-425C-BB53-D6D13E30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1C6ED-B5F3-46A1-88BF-49754C721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FF76D-F0E9-463C-B546-1BADFB179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A2815-A7FA-4D9C-AC41-6DE262C9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1E06-57B0-4832-9080-FE9DC6FA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B6460-B347-4CC1-98D0-5D62F932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90991-9853-43D3-9CF2-E6A676FE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39CB7-DEF1-47AC-9FB3-F4968B9A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18C13-8303-4F2B-B278-879A275B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AB886-85B8-436D-84B1-8EDF2E00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C8A9B-F9A3-41DF-88CF-D97578B3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180C6-E2C3-48F6-9FE9-C10AB1B4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47D8F-A38D-45D9-B838-F651B409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4B06D-0201-471D-9986-FD7BC4FE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FA864-6CE0-40D9-A0B5-E834F63D9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DAE5-660F-46FF-9BB3-95469E6A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83FE6-8194-4346-A49F-D3533C6AD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6E1C3-1D52-475A-8A76-AC84A3A0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FBB2D-BF93-4FA0-8069-982F56A7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83AFE-07CE-415D-B209-BD9CC3FD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FDC86-43E4-4DB7-AA0C-D05E530E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D970F-A549-4C61-B483-3FC48ADA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11F24-675A-467B-8E49-102A1D1C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1C638-6B5E-413C-B42C-96C48465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F35DC-BD1A-4D20-8DCC-B86E140A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A8A94-462F-4017-A933-1EEB5237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00AA-2AA7-498C-9218-472E3D4F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68132-C766-492A-8E51-AC6E5102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D8706-E87B-4B4E-9F24-84A997A59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8F3EC-8B44-401E-B2C8-DCA08E464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2A110-72C2-47E6-87D2-0B1D3343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C8A77-8D2B-4986-A609-ABDD6A23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5B05F-7B97-4460-944E-C710B591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01CE9-188C-4E49-B3EE-D20FCE77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124BC-BC2B-4001-939A-7D5DBF3D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32465-501A-49AA-B98A-DA6CC6B0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20996-30E2-422A-A89D-501FE0D4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E065-6B8E-476E-9035-70F7C6A9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B7E10-DD70-496A-B6BC-81F93FF6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72C25-D8DD-460B-A9CC-5FAA03CD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A092F-1055-4638-8E55-1F97BB65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13DF2-80CF-4970-95A9-607BE30E9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A2A9B-E85F-48DF-AC7E-1A91EDDD9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C93B4-362F-4091-B0AB-52B31DA06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72BA9-FC02-4D4B-9116-73EDB1B8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85112-F5D0-4E14-BDF2-90F4D0FF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C4210-5D09-4DFA-8C70-A4992AE1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C87D3-B120-4FE3-A609-7B84AD3D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D2FF-55DE-41CB-9CD9-19133279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5033A-EEEB-473F-9FDC-A37A2DE6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87516-38C1-472A-988C-83F92D0D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AFF88-0C2C-4697-8F1E-5AFE9D0F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37654-2622-4034-B72D-4675209B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3D1E9-C739-4F29-B093-B4F824CA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DC7A5-AC41-4C25-83E8-B9E9291F8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A7C4E-49E5-4847-B53E-68739AAB1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2C14CE-3F63-47CF-A6CC-14B4942C6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944E1-8ADE-4CD1-B181-1B3F2E2D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BD451-8F40-4415-92CF-EA247E35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CE75-0DD9-454B-9A9D-05E281F74016}" type="datetime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55BD-64FD-4CB0-B926-B0E0FB683AD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7215-E470-4863-B343-10F3B967A18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9AB3-C56E-4538-8183-BF120522FE4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1E07-B1F5-4A3E-A399-A5691269F85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EB3D-9FC8-48B3-9293-7DA3B2FDC6C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A307-4DA8-4CC0-9E26-4F80F0D7588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7FA9-4A37-477D-96AA-0F24C7C9F29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3053-2238-4DFA-A214-6D948CB5B38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8BC3-AC2B-47EA-93F3-1BB19501E39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3FC0-52AE-412F-ADEF-9F3F0DD6ED1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4AAC-42CB-44BD-92C3-86D2E88A325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9529-DCDE-4754-BC82-E113C01B9614}" type="datetime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5EB6-F64D-46F2-8D29-D0167215E2F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2AFB-6CE4-454E-8399-D23F5C213FE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DEA4-BBC7-4117-8AE5-176A3BC02F0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D3FD-0C1B-4A15-9BCC-7AB6E4D2572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1BD9-B728-41CB-9CF5-E5D31FC661A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DF23-0775-4E21-937D-6F32523FE37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3505-131D-4A37-B485-1D48C6D64EE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2B65-6274-4525-BF54-8DD1BE680D9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901E-F3A3-4BE6-8B71-419AA5DAD1C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E6EC-2A00-4E75-A605-6F4FA687002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FF7D-FA26-4CE8-8B41-FF15505CC6B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D3C7-3182-436C-BE1B-CF75098FD89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0BB9-58D8-44E6-8282-81214A271E1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679B-1CD2-4D2A-B2FF-55D49035C8F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B7FD-AE43-4003-B3E9-497D52438FA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E6E0-A4FA-44DB-BC2B-055DFF3F1F4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D925-75AB-40A2-8491-1C0D4F58243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0789-AEF7-4496-AB3F-7699C32E5AF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7BCC-83F2-460B-8B61-00A78168541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2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angle 2"/>
          <p:cNvSpPr/>
          <p:nvPr/>
        </p:nvSpPr>
        <p:spPr>
          <a:xfrm>
            <a:off x="1925640" y="260280"/>
            <a:ext cx="631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rebuchet MS"/>
              </a:rPr>
              <a:t>Conferenza Territoriale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rebuchet MS"/>
              </a:rPr>
              <a:t>Sociale e San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Rectangle 29"/>
          <p:cNvSpPr/>
          <p:nvPr/>
        </p:nvSpPr>
        <p:spPr>
          <a:xfrm>
            <a:off x="2340000" y="2165400"/>
            <a:ext cx="5751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it-IT" sz="4800" spc="-1" strike="noStrike">
                <a:solidFill>
                  <a:srgbClr val="009959"/>
                </a:solidFill>
                <a:latin typeface="Trebuchet MS"/>
              </a:rPr>
              <a:t>Bilanci di esercizio 2021 delle Aziende Sanitarie dell’Area di Bologna</a:t>
            </a:r>
            <a:br>
              <a:rPr sz="4800"/>
            </a:br>
            <a:r>
              <a:rPr b="1" lang="it-IT" sz="2400" spc="-1" strike="noStrike">
                <a:solidFill>
                  <a:srgbClr val="339933"/>
                </a:solidFill>
                <a:latin typeface="Trebuchet MS"/>
              </a:rPr>
              <a:t>                      </a:t>
            </a:r>
            <a:br>
              <a:rPr sz="1600"/>
            </a:br>
            <a:br>
              <a:rPr sz="1600"/>
            </a:br>
            <a:r>
              <a:rPr b="1" lang="it-IT" sz="1600" spc="-1" strike="noStrike">
                <a:solidFill>
                  <a:srgbClr val="009959"/>
                </a:solidFill>
                <a:latin typeface="Trebuchet MS"/>
              </a:rPr>
              <a:t>Bologna, 9 giugno 20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7" name="Group 2"/>
          <p:cNvGrpSpPr/>
          <p:nvPr/>
        </p:nvGrpSpPr>
        <p:grpSpPr>
          <a:xfrm>
            <a:off x="2087640" y="1197000"/>
            <a:ext cx="5778360" cy="647640"/>
            <a:chOff x="2087640" y="1197000"/>
            <a:chExt cx="5778360" cy="647640"/>
          </a:xfrm>
        </p:grpSpPr>
        <p:pic>
          <p:nvPicPr>
            <p:cNvPr id="1268" name="Immagine 4" descr="COLORETRAS"/>
            <p:cNvPicPr/>
            <p:nvPr/>
          </p:nvPicPr>
          <p:blipFill>
            <a:blip r:embed="rId1"/>
            <a:stretch/>
          </p:blipFill>
          <p:spPr>
            <a:xfrm>
              <a:off x="6531480" y="1228680"/>
              <a:ext cx="1334520" cy="47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9" name="Immagine 1" descr="Alto"/>
            <p:cNvPicPr/>
            <p:nvPr/>
          </p:nvPicPr>
          <p:blipFill>
            <a:blip r:embed="rId2"/>
            <a:srcRect l="0" t="0" r="0" b="32621"/>
            <a:stretch/>
          </p:blipFill>
          <p:spPr>
            <a:xfrm>
              <a:off x="2087640" y="1197000"/>
              <a:ext cx="4419720" cy="647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Segnaposto numero diapositiva 1"/>
          <p:cNvSpPr/>
          <p:nvPr/>
        </p:nvSpPr>
        <p:spPr>
          <a:xfrm>
            <a:off x="6912000" y="6386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518B-EC46-49A3-B6DE-01B128A1BB6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7" name="Picture 5" descr="C:\Documents and Settings\Coglianese\Desktop\LOGO\SCRIVI.gif"/>
          <p:cNvPicPr/>
          <p:nvPr/>
        </p:nvPicPr>
        <p:blipFill>
          <a:blip r:embed="rId1"/>
          <a:stretch/>
        </p:blipFill>
        <p:spPr>
          <a:xfrm>
            <a:off x="971640" y="-47520"/>
            <a:ext cx="3209760" cy="884160"/>
          </a:xfrm>
          <a:prstGeom prst="rect">
            <a:avLst/>
          </a:prstGeom>
          <a:ln w="0">
            <a:noFill/>
          </a:ln>
        </p:spPr>
      </p:pic>
      <p:sp>
        <p:nvSpPr>
          <p:cNvPr id="1308" name="CasellaDiTesto 2"/>
          <p:cNvSpPr/>
          <p:nvPr/>
        </p:nvSpPr>
        <p:spPr>
          <a:xfrm>
            <a:off x="5076720" y="333720"/>
            <a:ext cx="36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rebuchet MS"/>
              </a:rPr>
              <a:t>Risorse Umane 2021-20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15"/>
          <p:cNvSpPr/>
          <p:nvPr/>
        </p:nvSpPr>
        <p:spPr>
          <a:xfrm>
            <a:off x="1258920" y="3573360"/>
            <a:ext cx="76341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La spesa complessiva delle Risorse umane comprende il personale dipendente, le collaborazioni coordinate continuative nonché le altre forme di lavoro autonomo e i comandi passivi/attivi. I valori sopra esposti sono al netto dell’IRA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La variazione di spesa 2021 vs 2019, pari a € +10,467 milioni (+12,%), è principalmente correlata alla dotazione di personale a seguito dell’emergenza COVID-19. Sull’esercizio 2021, tale variazione incide per € +3,611 (+3,6%) quale effetto a regime della dotazione incrementata a partire dall’esercizio 2020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0" name="Immagine 2" descr=""/>
          <p:cNvPicPr/>
          <p:nvPr/>
        </p:nvPicPr>
        <p:blipFill>
          <a:blip r:embed="rId2"/>
          <a:stretch/>
        </p:blipFill>
        <p:spPr>
          <a:xfrm>
            <a:off x="2085840" y="1120680"/>
            <a:ext cx="6046920" cy="2411640"/>
          </a:xfrm>
          <a:prstGeom prst="rect">
            <a:avLst/>
          </a:prstGeom>
          <a:ln w="0">
            <a:noFill/>
          </a:ln>
        </p:spPr>
      </p:pic>
      <p:pic>
        <p:nvPicPr>
          <p:cNvPr id="1311" name="Immagine 3" descr=""/>
          <p:cNvPicPr/>
          <p:nvPr/>
        </p:nvPicPr>
        <p:blipFill>
          <a:blip r:embed="rId3"/>
          <a:stretch/>
        </p:blipFill>
        <p:spPr>
          <a:xfrm>
            <a:off x="2967120" y="4973760"/>
            <a:ext cx="562752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Segnaposto numero diapositiva 1"/>
          <p:cNvSpPr/>
          <p:nvPr/>
        </p:nvSpPr>
        <p:spPr>
          <a:xfrm>
            <a:off x="6912000" y="6386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5062-EF50-4576-A5ED-6820231E442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3" name="Picture 5" descr="C:\Documents and Settings\Coglianese\Desktop\LOGO\SCRIVI.gif"/>
          <p:cNvPicPr/>
          <p:nvPr/>
        </p:nvPicPr>
        <p:blipFill>
          <a:blip r:embed="rId1"/>
          <a:stretch/>
        </p:blipFill>
        <p:spPr>
          <a:xfrm>
            <a:off x="971640" y="-47520"/>
            <a:ext cx="3209760" cy="884160"/>
          </a:xfrm>
          <a:prstGeom prst="rect">
            <a:avLst/>
          </a:prstGeom>
          <a:ln w="0">
            <a:noFill/>
          </a:ln>
        </p:spPr>
      </p:pic>
      <p:sp>
        <p:nvSpPr>
          <p:cNvPr id="1314" name="CasellaDiTesto 2"/>
          <p:cNvSpPr/>
          <p:nvPr/>
        </p:nvSpPr>
        <p:spPr>
          <a:xfrm>
            <a:off x="5219640" y="181440"/>
            <a:ext cx="346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rebuchet MS"/>
              </a:rPr>
              <a:t>Personale dipendente 2021-20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5" name="Immagine 1" descr=""/>
          <p:cNvPicPr/>
          <p:nvPr/>
        </p:nvPicPr>
        <p:blipFill>
          <a:blip r:embed="rId2"/>
          <a:stretch/>
        </p:blipFill>
        <p:spPr>
          <a:xfrm>
            <a:off x="2525760" y="1154160"/>
            <a:ext cx="5067360" cy="3209760"/>
          </a:xfrm>
          <a:prstGeom prst="rect">
            <a:avLst/>
          </a:prstGeom>
          <a:ln w="0">
            <a:noFill/>
          </a:ln>
        </p:spPr>
      </p:pic>
      <p:sp>
        <p:nvSpPr>
          <p:cNvPr id="1316" name="Text Box 15"/>
          <p:cNvSpPr/>
          <p:nvPr/>
        </p:nvSpPr>
        <p:spPr>
          <a:xfrm>
            <a:off x="1241280" y="4630680"/>
            <a:ext cx="7634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La tabella mostra i dati relativi esclusivamente al personale dipendente conteggiati alla data 31/12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La variazione tra il 2021 e il 2019 (anno pre pandemia) registra un incremento complessivo pari a +9,9%, concentrato sul ruolo sanitario (dirigenza medica e comparto infermieristico) e sul ruolo tecnico (comparto operatori socio sanitari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DF07-0045-4B75-9A14-933506703E5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Picture 5" descr="C:\Documents and Settings\Coglianese\Desktop\LOGO\SCRIVI.gif"/>
          <p:cNvPicPr/>
          <p:nvPr/>
        </p:nvPicPr>
        <p:blipFill>
          <a:blip r:embed="rId1"/>
          <a:stretch/>
        </p:blipFill>
        <p:spPr>
          <a:xfrm>
            <a:off x="971640" y="-47520"/>
            <a:ext cx="3209760" cy="884160"/>
          </a:xfrm>
          <a:prstGeom prst="rect">
            <a:avLst/>
          </a:prstGeom>
          <a:ln w="0">
            <a:noFill/>
          </a:ln>
        </p:spPr>
      </p:pic>
      <p:sp>
        <p:nvSpPr>
          <p:cNvPr id="1319" name="Text Box 15"/>
          <p:cNvSpPr/>
          <p:nvPr/>
        </p:nvSpPr>
        <p:spPr>
          <a:xfrm>
            <a:off x="5005440" y="169920"/>
            <a:ext cx="375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rebuchet MS"/>
              </a:rPr>
              <a:t>Fondo Regionale per la Non Autosufficienza (FRNA) 20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CasellaDiTesto 5"/>
          <p:cNvSpPr/>
          <p:nvPr/>
        </p:nvSpPr>
        <p:spPr>
          <a:xfrm>
            <a:off x="2274480" y="1184400"/>
            <a:ext cx="508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9959"/>
                </a:solidFill>
                <a:latin typeface="Arial"/>
                <a:ea typeface="Arial"/>
              </a:rPr>
              <a:t>Utilizzo delle risorse per la non autosufficienza anno 20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1" name="Immagine 2" descr=""/>
          <p:cNvPicPr/>
          <p:nvPr/>
        </p:nvPicPr>
        <p:blipFill>
          <a:blip r:embed="rId2"/>
          <a:stretch/>
        </p:blipFill>
        <p:spPr>
          <a:xfrm>
            <a:off x="1843200" y="1623960"/>
            <a:ext cx="6324480" cy="1085760"/>
          </a:xfrm>
          <a:prstGeom prst="rect">
            <a:avLst/>
          </a:prstGeom>
          <a:ln w="0">
            <a:noFill/>
          </a:ln>
        </p:spPr>
      </p:pic>
      <p:pic>
        <p:nvPicPr>
          <p:cNvPr id="1322" name="Immagine 3" descr=""/>
          <p:cNvPicPr/>
          <p:nvPr/>
        </p:nvPicPr>
        <p:blipFill>
          <a:blip r:embed="rId3"/>
          <a:stretch/>
        </p:blipFill>
        <p:spPr>
          <a:xfrm>
            <a:off x="2657520" y="2997360"/>
            <a:ext cx="46782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9852-FB87-47B3-A24E-DA1493DFBB5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4" name="Picture 5" descr="C:\Documents and Settings\Coglianese\Desktop\LOGO\SCRIVI.gif"/>
          <p:cNvPicPr/>
          <p:nvPr/>
        </p:nvPicPr>
        <p:blipFill>
          <a:blip r:embed="rId1"/>
          <a:stretch/>
        </p:blipFill>
        <p:spPr>
          <a:xfrm>
            <a:off x="971640" y="-47520"/>
            <a:ext cx="3209760" cy="884160"/>
          </a:xfrm>
          <a:prstGeom prst="rect">
            <a:avLst/>
          </a:prstGeom>
          <a:ln w="0">
            <a:noFill/>
          </a:ln>
        </p:spPr>
      </p:pic>
      <p:sp>
        <p:nvSpPr>
          <p:cNvPr id="1325" name="Text Box 15"/>
          <p:cNvSpPr/>
          <p:nvPr/>
        </p:nvSpPr>
        <p:spPr>
          <a:xfrm>
            <a:off x="5005440" y="169920"/>
            <a:ext cx="375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rebuchet MS"/>
              </a:rPr>
              <a:t>Fondo Regionale per la Non Autosufficienza (FRNA) 20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6" name="Immagine 1" descr=""/>
          <p:cNvPicPr/>
          <p:nvPr/>
        </p:nvPicPr>
        <p:blipFill>
          <a:blip r:embed="rId2"/>
          <a:stretch/>
        </p:blipFill>
        <p:spPr>
          <a:xfrm>
            <a:off x="2575080" y="1292400"/>
            <a:ext cx="4803480" cy="1992240"/>
          </a:xfrm>
          <a:prstGeom prst="rect">
            <a:avLst/>
          </a:prstGeom>
          <a:ln w="0">
            <a:noFill/>
          </a:ln>
        </p:spPr>
      </p:pic>
      <p:pic>
        <p:nvPicPr>
          <p:cNvPr id="1327" name="Immagine 2" descr=""/>
          <p:cNvPicPr/>
          <p:nvPr/>
        </p:nvPicPr>
        <p:blipFill>
          <a:blip r:embed="rId3"/>
          <a:stretch/>
        </p:blipFill>
        <p:spPr>
          <a:xfrm>
            <a:off x="2665440" y="3402000"/>
            <a:ext cx="471312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Segnaposto numero diapositiva 1"/>
          <p:cNvSpPr/>
          <p:nvPr/>
        </p:nvSpPr>
        <p:spPr>
          <a:xfrm>
            <a:off x="6948360" y="6375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C418-CAC5-4208-93F5-5C16EE8171A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9" name="Picture 5" descr="C:\Documents and Settings\Coglianese\Desktop\LOGO\SCRIVI.gif"/>
          <p:cNvPicPr/>
          <p:nvPr/>
        </p:nvPicPr>
        <p:blipFill>
          <a:blip r:embed="rId1"/>
          <a:stretch/>
        </p:blipFill>
        <p:spPr>
          <a:xfrm>
            <a:off x="971640" y="-47520"/>
            <a:ext cx="3209760" cy="884160"/>
          </a:xfrm>
          <a:prstGeom prst="rect">
            <a:avLst/>
          </a:prstGeom>
          <a:ln w="0">
            <a:noFill/>
          </a:ln>
        </p:spPr>
      </p:pic>
      <p:sp>
        <p:nvSpPr>
          <p:cNvPr id="1330" name="Text Box 15"/>
          <p:cNvSpPr/>
          <p:nvPr/>
        </p:nvSpPr>
        <p:spPr>
          <a:xfrm>
            <a:off x="4788000" y="189000"/>
            <a:ext cx="40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rebuchet MS"/>
              </a:rPr>
              <a:t>Investimenti - Area interventi e fonte finanziamento - 20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1" name="Immagine 1" descr=""/>
          <p:cNvPicPr/>
          <p:nvPr/>
        </p:nvPicPr>
        <p:blipFill>
          <a:blip r:embed="rId2"/>
          <a:stretch/>
        </p:blipFill>
        <p:spPr>
          <a:xfrm>
            <a:off x="1322280" y="1170000"/>
            <a:ext cx="7450200" cy="2259000"/>
          </a:xfrm>
          <a:prstGeom prst="rect">
            <a:avLst/>
          </a:prstGeom>
          <a:ln w="0">
            <a:noFill/>
          </a:ln>
        </p:spPr>
      </p:pic>
      <p:pic>
        <p:nvPicPr>
          <p:cNvPr id="1332" name="Immagine 4" descr=""/>
          <p:cNvPicPr/>
          <p:nvPr/>
        </p:nvPicPr>
        <p:blipFill>
          <a:blip r:embed="rId3"/>
          <a:stretch/>
        </p:blipFill>
        <p:spPr>
          <a:xfrm>
            <a:off x="2843280" y="3637080"/>
            <a:ext cx="45450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Segnaposto numero diapositiva 1"/>
          <p:cNvSpPr/>
          <p:nvPr/>
        </p:nvSpPr>
        <p:spPr>
          <a:xfrm>
            <a:off x="6948360" y="6375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479B-F402-4A64-A2D0-2E8DE72080B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4" name="Picture 5" descr="C:\Documents and Settings\Coglianese\Desktop\LOGO\SCRIVI.gif"/>
          <p:cNvPicPr/>
          <p:nvPr/>
        </p:nvPicPr>
        <p:blipFill>
          <a:blip r:embed="rId1"/>
          <a:stretch/>
        </p:blipFill>
        <p:spPr>
          <a:xfrm>
            <a:off x="971640" y="-47520"/>
            <a:ext cx="3209760" cy="884160"/>
          </a:xfrm>
          <a:prstGeom prst="rect">
            <a:avLst/>
          </a:prstGeom>
          <a:ln w="0">
            <a:noFill/>
          </a:ln>
        </p:spPr>
      </p:pic>
      <p:sp>
        <p:nvSpPr>
          <p:cNvPr id="1335" name="Text Box 15"/>
          <p:cNvSpPr/>
          <p:nvPr/>
        </p:nvSpPr>
        <p:spPr>
          <a:xfrm>
            <a:off x="4788000" y="189000"/>
            <a:ext cx="40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rebuchet MS"/>
              </a:rPr>
              <a:t>Investimenti - Fonte finanziamento - 20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6" name="Immagine 2" descr=""/>
          <p:cNvPicPr/>
          <p:nvPr/>
        </p:nvPicPr>
        <p:blipFill>
          <a:blip r:embed="rId2"/>
          <a:stretch/>
        </p:blipFill>
        <p:spPr>
          <a:xfrm>
            <a:off x="1979640" y="1484280"/>
            <a:ext cx="597708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Titolo 1"/>
          <p:cNvSpPr/>
          <p:nvPr/>
        </p:nvSpPr>
        <p:spPr>
          <a:xfrm>
            <a:off x="1908000" y="2276640"/>
            <a:ext cx="6409080" cy="30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9933"/>
                </a:solidFill>
                <a:latin typeface="Trebuchet MS"/>
              </a:rPr>
              <a:t>PRINCIPALI AZIONI 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9933"/>
                </a:solidFill>
                <a:latin typeface="Trebuchet MS"/>
              </a:rPr>
              <a:t>DATI DI ATTIVITA’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9933"/>
                </a:solidFill>
                <a:latin typeface="Trebuchet MS"/>
              </a:rPr>
              <a:t>20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339933"/>
                </a:solidFill>
                <a:uFillTx/>
                <a:latin typeface="Trebuchet MS"/>
              </a:rPr>
              <a:t>AUSL IM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8" name="Picture 5" descr="C:\Documents and Settings\Coglianese\Desktop\LOGO\SCRIVI.gif"/>
          <p:cNvPicPr/>
          <p:nvPr/>
        </p:nvPicPr>
        <p:blipFill>
          <a:blip r:embed="rId1"/>
          <a:stretch/>
        </p:blipFill>
        <p:spPr>
          <a:xfrm>
            <a:off x="1042920" y="-100080"/>
            <a:ext cx="350532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Rectangle 2"/>
          <p:cNvSpPr/>
          <p:nvPr/>
        </p:nvSpPr>
        <p:spPr>
          <a:xfrm>
            <a:off x="1295280" y="0"/>
            <a:ext cx="7848720" cy="121932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Line 3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1" name="Picture 4" descr="C:\Documents and Settings\Coglianese\Desktop\LOGO\PUNTI.gif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342" name="Picture 5" descr="C:\Documents and Settings\Coglianese\Desktop\LOGO\SCRIVI.gif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343" name="Text Box 10"/>
          <p:cNvSpPr/>
          <p:nvPr/>
        </p:nvSpPr>
        <p:spPr>
          <a:xfrm>
            <a:off x="1352520" y="1290600"/>
            <a:ext cx="767556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9959"/>
                </a:solidFill>
                <a:latin typeface="Arial"/>
                <a:ea typeface="Arial"/>
              </a:rPr>
              <a:t>Programmi regionali scre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A causa della pandemia a partire dal 2020 i tre i programmi di screening hanno subito una battuta d’arresto, come del resto sull’intero territorio regionale, comportando il ritardo nell'avanzamento, ovvero nell'invio delle lettere di invito. Nonostante ciò, anche a seguito delle intervenute nuove raccomandazioni regionali, l’AUSL di Imola ha ripreso il programma di inviti alla popolazione sul territorio aziendale. Nel 2021 è stato recuperato quasi tutto il ritardo. I dati disponibili derivano da una rilevazione regionale non ancora consolidata, che mostra comunque un incremento delle percentuali di avanzamento e di adesione al programma rispetto al 2020, in linea con il quadro regionale e in alcuni casi con performance superior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Segnaposto numero diapositiva 1"/>
          <p:cNvSpPr/>
          <p:nvPr/>
        </p:nvSpPr>
        <p:spPr>
          <a:xfrm>
            <a:off x="70041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439F-80AE-41C9-BB3D-CD364009A30C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Text Box 10"/>
          <p:cNvSpPr/>
          <p:nvPr/>
        </p:nvSpPr>
        <p:spPr>
          <a:xfrm>
            <a:off x="5651640" y="250920"/>
            <a:ext cx="309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Narrow"/>
              </a:rPr>
              <a:t>Prevenzione collettiva e Sanità Pubbl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6" name="Immagine 1" descr=""/>
          <p:cNvPicPr/>
          <p:nvPr/>
        </p:nvPicPr>
        <p:blipFill>
          <a:blip r:embed="rId3"/>
          <a:stretch/>
        </p:blipFill>
        <p:spPr>
          <a:xfrm>
            <a:off x="1906560" y="3038400"/>
            <a:ext cx="656748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2"/>
          <p:cNvSpPr/>
          <p:nvPr/>
        </p:nvSpPr>
        <p:spPr>
          <a:xfrm>
            <a:off x="1295280" y="0"/>
            <a:ext cx="7848720" cy="121932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Line 3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9" name="Picture 4" descr="C:\Documents and Settings\Coglianese\Desktop\LOGO\PUNTI.gif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350" name="Picture 5" descr="C:\Documents and Settings\Coglianese\Desktop\LOGO\SCRIVI.gif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10"/>
          <p:cNvSpPr/>
          <p:nvPr/>
        </p:nvSpPr>
        <p:spPr>
          <a:xfrm>
            <a:off x="1360440" y="1236600"/>
            <a:ext cx="76960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Per quanto riguarda le </a:t>
            </a:r>
            <a:r>
              <a:rPr b="1" lang="it-IT" sz="1000" spc="-1" strike="noStrike">
                <a:solidFill>
                  <a:srgbClr val="009959"/>
                </a:solidFill>
                <a:latin typeface="Arial"/>
                <a:ea typeface="Arial"/>
              </a:rPr>
              <a:t>vaccinazioni infantil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In riferimento al monitoraggio degli indicatori (NSG e SIVER) su piattaforma InSiDER, la tabella che segue riporta le percentuali di copertura vaccinale tratte, per il 2020, dalla suddetta piattaforma, mentre per il 2021 vengono riportati i dati in via di consolidamento resi disponibili al DSP dell’AUSL di Imola da parte del livello regionale, in quanto non disponibili sul portale InSiDER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Segnaposto numero diapositiva 1"/>
          <p:cNvSpPr/>
          <p:nvPr/>
        </p:nvSpPr>
        <p:spPr>
          <a:xfrm>
            <a:off x="7086600" y="6527880"/>
            <a:ext cx="19051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74D6-F890-4705-9BCE-AEE2B0B2636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Text Box 10"/>
          <p:cNvSpPr/>
          <p:nvPr/>
        </p:nvSpPr>
        <p:spPr>
          <a:xfrm>
            <a:off x="5867280" y="250920"/>
            <a:ext cx="287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Narrow"/>
              </a:rPr>
              <a:t>Prevenzione collettiva e Sanità Pubbl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ttangolo 3"/>
          <p:cNvSpPr/>
          <p:nvPr/>
        </p:nvSpPr>
        <p:spPr>
          <a:xfrm>
            <a:off x="2286000" y="-21363120"/>
            <a:ext cx="4572000" cy="46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Nell’area adulti si evidenziano le seguenti coperture vaccinal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33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Copertura vaccinale antinfluenzale nei soggetti &gt;= 65 anni (obiettivo &gt; 75%):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in riferimento alla campagna antinfluenzale 2018/2019 si riporta il dato regionale intermedio relativo alla campagna, aggiornato al 16 aprile 2019: 58,4%.</a:t>
            </a:r>
            <a:r>
              <a:rPr b="0" lang="it-IT" sz="1000" spc="-1" strike="noStrike">
                <a:solidFill>
                  <a:srgbClr val="ff0000"/>
                </a:solidFill>
                <a:latin typeface="Tahoma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L’indicatore InSIDER (IND0172) riporta la percentuale di copertura relativa alla precedente campagna antinfluenzale (2017/2018). Il dato regionale aggiornato al 16 aprile 2018: 56,14%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33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Copertura vaccinale antinfluenzale negli operatori sanitari (obiettivo &gt; = di 34%)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: in riferimento alla campagna 2018/2019 si riporta il dato regionale aggiornato al 16 aprile 2019: 36,8% (che diventa 40,8% se calcolati col denominatore più preciso proposto l'anno scorso dalla Regione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L’indicatore InSIDER (IND0174) per l’anno 2017/2018, aggiornato al 4 aprile 2018, evidenzia una copertura pari al 30,04% che esprime un buona performance nel range “verde” dei valori da 25% a 34% di copertur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33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Copertura vaccinale antipneumococco nella popolazione di età = 65 anni (obiettivo &gt;= 55%):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in riferimento a questo indicatore, non disponibile sulla piattaforma InSIDER, il dato anticipato dalla regione è il seguente: 41,7% nella coorte di nascita 1952 e 37,9% nella coorte 1953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ttangolo 4"/>
          <p:cNvSpPr/>
          <p:nvPr/>
        </p:nvSpPr>
        <p:spPr>
          <a:xfrm>
            <a:off x="2286000" y="-10159920"/>
            <a:ext cx="4572000" cy="31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ahoma"/>
              </a:rPr>
              <a:t>Nell’area adulti si evidenziano le seguenti coperture vaccinal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ahoma"/>
              </a:rPr>
              <a:t>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ahoma"/>
              </a:rPr>
              <a:t>Copertura vaccinale antinfluenzale nei soggetti &gt;= 65 anni (obiettivo &gt; 75): in riferimento alla campagna antinfluenzale 2018/2019 si riporta il dato regionale intermedio relativo alla campagna, aggiornato al 16 aprile 2019: 58,4%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ahoma"/>
              </a:rPr>
              <a:t>L’indicatore InSIDER (IND0172) riporta la percentuale di copertura relativa alla precedente campagna antinfluenzale (2017/2018). Il dato regionale aggiornato al 16 aprile 2018: 56,14%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ahoma"/>
              </a:rPr>
              <a:t>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ahoma"/>
              </a:rPr>
              <a:t>Copertura vaccinale antinfluenzale negli operatori sanitari (obiettivo &gt; = di 34%): in riferimento alla campagna 2018/2019 si riporta il dato regionale aggiornato al 16 aprile 2019: 36,8% (che diventa 40,8% se calcolati col denominatore più preciso proposto l'anno scorso dalla Regione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ahoma"/>
              </a:rPr>
              <a:t>L’indicatore InSIDER (IND0174) per l’anno 2017/2018, aggiornato al 4 aprile 2018, evidenzia una copertura pari al 30,04% che esprime un buona performance nel range “verde” dei valori da 25% a 34% di copertur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ahoma"/>
              </a:rPr>
              <a:t>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ahoma"/>
              </a:rPr>
              <a:t>Copertura vaccinale antipneumococco nella popolazione di età = 65 anni (obiettivo &gt;= 55%): in riferimento a questo indicatore, non disponibile sulla piattaforma InSIDER, il dato anticipato dalla regione è il seguente: 41,7% nella coorte di nascita 1952 e 37,9% nella coorte 1953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ttangolo 3"/>
          <p:cNvSpPr/>
          <p:nvPr/>
        </p:nvSpPr>
        <p:spPr>
          <a:xfrm>
            <a:off x="1835280" y="-13276440"/>
            <a:ext cx="57610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Psichiatria Adulti. Sotto il profilo della degenza ospedaliera si osserva un decremento dei casi totali trattati pari a –7,8% (SPDC); i casi trattati in RTI presentano una riduzione del -3,4%. L’andamento complessivo risulta proporzionale alla riduzione di posti letto. In coerenza con tale decremento risulta in calo anche il valore economico dei DRG (-5,4%). Di contro, si riscontra, un incremento significativo di casi trattati in Day Service (530 casi, pari a +45,8% rispetto all’anno precedente)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Sul versante territoriale, invece, i dati di attività mettono in evidenza un incremento del volume complessivo dei casi trattati (+2,9%) pur registrando una diminuzione dei nuovi presi in carico e un aumento delle dimissioni rispetto al 2014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ttangolo 6"/>
          <p:cNvSpPr/>
          <p:nvPr/>
        </p:nvSpPr>
        <p:spPr>
          <a:xfrm>
            <a:off x="2286000" y="-21363120"/>
            <a:ext cx="4572000" cy="46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Nell’area adulti si evidenziano le seguenti coperture vaccinal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33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Copertura vaccinale antinfluenzale nei soggetti &gt;= 65 anni (obiettivo &gt; 75%):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in riferimento alla campagna antinfluenzale 2018/2019 si riporta il dato regionale intermedio relativo alla campagna, aggiornato al 16 aprile 2019: 58,4%.</a:t>
            </a:r>
            <a:r>
              <a:rPr b="0" lang="it-IT" sz="1000" spc="-1" strike="noStrike">
                <a:solidFill>
                  <a:srgbClr val="ff0000"/>
                </a:solidFill>
                <a:latin typeface="Tahoma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L’indicatore InSIDER (IND0172) riporta la percentuale di copertura relativa alla precedente campagna antinfluenzale (2017/2018). Il dato regionale aggiornato al 16 aprile 2018: 56,14%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33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Copertura vaccinale antinfluenzale negli operatori sanitari (obiettivo &gt; = di 34%)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: in riferimento alla campagna 2018/2019 si riporta il dato regionale aggiornato al 16 aprile 2019: 36,8% (che diventa 40,8% se calcolati col denominatore più preciso proposto l'anno scorso dalla Regione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L’indicatore InSIDER (IND0174) per l’anno 2017/2018, aggiornato al 4 aprile 2018, evidenzia una copertura pari al 30,04% che esprime un buona performance nel range “verde” dei valori da 25% a 34% di copertur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33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Copertura vaccinale antipneumococco nella popolazione di età = 65 anni (obiettivo &gt;= 55%):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in riferimento a questo indicatore, non disponibile sulla piattaforma InSIDER, il dato anticipato dalla regione è il seguente: 41,7% nella coorte di nascita 1952 e 37,9% nella coorte 1953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8" name="Immagine 1" descr=""/>
          <p:cNvPicPr/>
          <p:nvPr/>
        </p:nvPicPr>
        <p:blipFill>
          <a:blip r:embed="rId3"/>
          <a:stretch/>
        </p:blipFill>
        <p:spPr>
          <a:xfrm>
            <a:off x="1785960" y="2492280"/>
            <a:ext cx="66024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2"/>
          <p:cNvSpPr/>
          <p:nvPr/>
        </p:nvSpPr>
        <p:spPr>
          <a:xfrm>
            <a:off x="1325520" y="0"/>
            <a:ext cx="7848720" cy="96516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3"/>
          <p:cNvSpPr/>
          <p:nvPr/>
        </p:nvSpPr>
        <p:spPr>
          <a:xfrm>
            <a:off x="1335240" y="-30240"/>
            <a:ext cx="0" cy="685800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1" name="Picture 4" descr="C:\Documents and Settings\Coglianese\Desktop\LOGO\PUNTI.gif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362" name="Picture 5" descr="C:\Documents and Settings\Coglianese\Desktop\LOGO\SCRIVI.gif"/>
          <p:cNvPicPr/>
          <p:nvPr/>
        </p:nvPicPr>
        <p:blipFill>
          <a:blip r:embed="rId2"/>
          <a:stretch/>
        </p:blipFill>
        <p:spPr>
          <a:xfrm>
            <a:off x="1300320" y="-144360"/>
            <a:ext cx="3335040" cy="919080"/>
          </a:xfrm>
          <a:prstGeom prst="rect">
            <a:avLst/>
          </a:prstGeom>
          <a:ln w="0">
            <a:noFill/>
          </a:ln>
        </p:spPr>
      </p:pic>
      <p:sp>
        <p:nvSpPr>
          <p:cNvPr id="1363" name="Segnaposto numero diapositiva 1"/>
          <p:cNvSpPr/>
          <p:nvPr/>
        </p:nvSpPr>
        <p:spPr>
          <a:xfrm>
            <a:off x="7230960" y="6529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39D2-236C-4804-87F1-F40B3058056A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ttangolo 2"/>
          <p:cNvSpPr/>
          <p:nvPr/>
        </p:nvSpPr>
        <p:spPr>
          <a:xfrm>
            <a:off x="2286000" y="-4741920"/>
            <a:ext cx="457200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  <a:ea typeface="Arial"/>
              </a:rPr>
              <a:t>Le tabelle seguenti rappresentano le principali attività delle USCA sul territorio al 31 dicembre 2020, con il dettaglio sull’attività di assistenza infermieristica e il dettaglio dei casi totali trattati presso SRCI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  <a:ea typeface="Arial"/>
              </a:rPr>
              <a:t>A questo proposito si ricorda che nella terza fase di gestione dell’emergenza si è proceduto a dedicare la degenza aggiuntiva del 4° piano dell’Ospedale di Comunità presso la Casa della Salute di Castel S. Pietro Terme al post acuti per pazienti Covi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ttangolo 3"/>
          <p:cNvSpPr/>
          <p:nvPr/>
        </p:nvSpPr>
        <p:spPr>
          <a:xfrm>
            <a:off x="6380280" y="1173240"/>
            <a:ext cx="26557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Le tabelle evidenziano il dettaglio dell’attività strettamente legata alla gestione della pandemia a livello territoriale, in particolare per quanto concerne l’attività di contact tracing e all’attività di sorveglianza. Anche nel 2021 sono stati erogati volumi importanti rispetto alle attività dettagliate in tabella che mostra, nella maggior parte dei casi, un incremento significativo rispetto al 2020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 Box 10"/>
          <p:cNvSpPr/>
          <p:nvPr/>
        </p:nvSpPr>
        <p:spPr>
          <a:xfrm>
            <a:off x="5792760" y="152280"/>
            <a:ext cx="287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Narrow"/>
              </a:rPr>
              <a:t>Assistenza Territor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Narrow"/>
              </a:rPr>
              <a:t>Emergenza COV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7" name="Immagine 5" descr=""/>
          <p:cNvPicPr/>
          <p:nvPr/>
        </p:nvPicPr>
        <p:blipFill>
          <a:blip r:embed="rId3"/>
          <a:stretch/>
        </p:blipFill>
        <p:spPr>
          <a:xfrm>
            <a:off x="1397160" y="1268280"/>
            <a:ext cx="4846320" cy="2068560"/>
          </a:xfrm>
          <a:prstGeom prst="rect">
            <a:avLst/>
          </a:prstGeom>
          <a:ln w="0">
            <a:noFill/>
          </a:ln>
        </p:spPr>
      </p:pic>
      <p:pic>
        <p:nvPicPr>
          <p:cNvPr id="1368" name="Immagine 6" descr=""/>
          <p:cNvPicPr/>
          <p:nvPr/>
        </p:nvPicPr>
        <p:blipFill>
          <a:blip r:embed="rId4"/>
          <a:stretch/>
        </p:blipFill>
        <p:spPr>
          <a:xfrm>
            <a:off x="1446120" y="3622680"/>
            <a:ext cx="514512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angle 29"/>
          <p:cNvSpPr/>
          <p:nvPr/>
        </p:nvSpPr>
        <p:spPr>
          <a:xfrm>
            <a:off x="1332000" y="2060640"/>
            <a:ext cx="759600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59"/>
                </a:solidFill>
                <a:latin typeface="Trebuchet MS"/>
              </a:rPr>
              <a:t>IL BILANCIO DI ESERCIZ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59"/>
                </a:solidFill>
                <a:latin typeface="Trebuchet MS"/>
              </a:rPr>
              <a:t>20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 u="sng">
                <a:solidFill>
                  <a:srgbClr val="009959"/>
                </a:solidFill>
                <a:uFillTx/>
                <a:latin typeface="Trebuchet MS"/>
              </a:rPr>
              <a:t>AUSL IMOLA</a:t>
            </a:r>
            <a:r>
              <a:rPr b="1" lang="it-IT" sz="3200" spc="-1" strike="noStrike">
                <a:solidFill>
                  <a:srgbClr val="009959"/>
                </a:solidFill>
                <a:latin typeface="Trebuchet MS"/>
              </a:rPr>
              <a:t>                    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1" name="Picture 5" descr="C:\Documents and Settings\Coglianese\Desktop\LOGO\SCRIVI.gif"/>
          <p:cNvPicPr/>
          <p:nvPr/>
        </p:nvPicPr>
        <p:blipFill>
          <a:blip r:embed="rId1"/>
          <a:stretch/>
        </p:blipFill>
        <p:spPr>
          <a:xfrm>
            <a:off x="971640" y="-47520"/>
            <a:ext cx="350496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Rectangle 2"/>
          <p:cNvSpPr/>
          <p:nvPr/>
        </p:nvSpPr>
        <p:spPr>
          <a:xfrm>
            <a:off x="1295280" y="0"/>
            <a:ext cx="7848720" cy="112536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Line 3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1" name="Picture 4" descr="C:\Documents and Settings\Coglianese\Desktop\LOGO\PUNTI.gif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372" name="Picture 5" descr="C:\Documents and Settings\Coglianese\Desktop\LOGO\SCRIVI.gif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373" name="Text Box 15"/>
          <p:cNvSpPr/>
          <p:nvPr/>
        </p:nvSpPr>
        <p:spPr>
          <a:xfrm>
            <a:off x="1336680" y="1103400"/>
            <a:ext cx="780732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9959"/>
                </a:solidFill>
                <a:latin typeface="Arial"/>
                <a:ea typeface="Arial"/>
              </a:rPr>
              <a:t>Ospedale di Comunità (OS.C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L’OSCO di Castel S. Pietro Terme è una Struttura Residenziale di Cure Intermedie (SRCI) ubicata all'interno della Casa della Salute, dove trova collocazione anche l'Hospice Territoriale (HT). Nel 2020 rispetto al 2019 (anno pre-pandemico) era stato registrato un incremento significativo di Posti Letto (da 21 a 36), di casi trattati e giornate di degenza, conseguente l’attivazione delle degenze aggiuntive per post acuti COVID-19. Questa riorganizzazione, avvenuta con la riapertura di spazi del quarto piano della CDS di CSPT per accogliere in degenza post acuti pazienti NO COVID, è stata mantenuta e rimodulata anche nel 2021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La Tabella che riporta i volumi e i dati di degenza relativi al 2020 e 2021, mostra un incremento di casi trattati (+21,8%) e in coerenza anche di giornate di degenza (+26,8%). Cala solo il tasso medio di occupazion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egnaposto numero diapositiva 1"/>
          <p:cNvSpPr/>
          <p:nvPr/>
        </p:nvSpPr>
        <p:spPr>
          <a:xfrm>
            <a:off x="7209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4601-7F84-4591-BCE0-ED0E640CEDA3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10"/>
          <p:cNvSpPr/>
          <p:nvPr/>
        </p:nvSpPr>
        <p:spPr>
          <a:xfrm>
            <a:off x="5800680" y="3747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Narrow"/>
              </a:rPr>
              <a:t>Assistenza Territor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6" name="Immagine 2" descr=""/>
          <p:cNvPicPr/>
          <p:nvPr/>
        </p:nvPicPr>
        <p:blipFill>
          <a:blip r:embed="rId3"/>
          <a:stretch/>
        </p:blipFill>
        <p:spPr>
          <a:xfrm>
            <a:off x="2435400" y="3360600"/>
            <a:ext cx="53719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2"/>
          <p:cNvSpPr/>
          <p:nvPr/>
        </p:nvSpPr>
        <p:spPr>
          <a:xfrm>
            <a:off x="1295280" y="0"/>
            <a:ext cx="7848720" cy="112536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Line 3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9" name="Picture 4" descr="C:\Documents and Settings\Coglianese\Desktop\LOGO\PUNTI.gif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380" name="Picture 5" descr="C:\Documents and Settings\Coglianese\Desktop\LOGO\SCRIVI.gif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381" name="Text Box 15"/>
          <p:cNvSpPr/>
          <p:nvPr/>
        </p:nvSpPr>
        <p:spPr>
          <a:xfrm>
            <a:off x="1336680" y="1103400"/>
            <a:ext cx="733896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9959"/>
                </a:solidFill>
                <a:latin typeface="Arial"/>
                <a:ea typeface="Arial"/>
              </a:rPr>
              <a:t>Assistenza infermieristica domicili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La Tabella mostra il numero di pazienti presi in carico, gli accessi e le prestazioni erogate (dati che comprendono anche gli occasionali). I valori 2021 sui volumi rilevano un incremento significativo rispetto al 2020 dei pazienti in carico, delle prestazioni erogate e degli accessi. Buono anche il dato che rileva comunque una media di accessi per paziente quasi invariata rispetto al 2020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Segnaposto numero diapositiva 1"/>
          <p:cNvSpPr/>
          <p:nvPr/>
        </p:nvSpPr>
        <p:spPr>
          <a:xfrm>
            <a:off x="7209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F305-8DD2-4834-A967-7EBE54904B84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 Box 10"/>
          <p:cNvSpPr/>
          <p:nvPr/>
        </p:nvSpPr>
        <p:spPr>
          <a:xfrm>
            <a:off x="5800680" y="3747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Narrow"/>
              </a:rPr>
              <a:t>Assistenza Territor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4" name="Immagine 2" descr=""/>
          <p:cNvPicPr/>
          <p:nvPr/>
        </p:nvPicPr>
        <p:blipFill>
          <a:blip r:embed="rId3"/>
          <a:stretch/>
        </p:blipFill>
        <p:spPr>
          <a:xfrm>
            <a:off x="2693880" y="2411280"/>
            <a:ext cx="47624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Rectangle 2"/>
          <p:cNvSpPr/>
          <p:nvPr/>
        </p:nvSpPr>
        <p:spPr>
          <a:xfrm>
            <a:off x="1295280" y="0"/>
            <a:ext cx="7848720" cy="112536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Line 3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7" name="Picture 4" descr="C:\Documents and Settings\Coglianese\Desktop\LOGO\PUNTI.gif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388" name="Picture 5" descr="C:\Documents and Settings\Coglianese\Desktop\LOGO\SCRIVI.gif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389" name="Text Box 15"/>
          <p:cNvSpPr/>
          <p:nvPr/>
        </p:nvSpPr>
        <p:spPr>
          <a:xfrm>
            <a:off x="1336680" y="1103400"/>
            <a:ext cx="7699320" cy="21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9959"/>
                </a:solidFill>
                <a:latin typeface="Arial"/>
                <a:ea typeface="Arial"/>
              </a:rPr>
              <a:t>Dipartimento Salute Ment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Sul versante territoriale - </a:t>
            </a:r>
            <a:r>
              <a:rPr b="1" lang="it-IT" sz="1000" spc="-1" strike="noStrike">
                <a:solidFill>
                  <a:srgbClr val="339966"/>
                </a:solidFill>
                <a:latin typeface="Arial"/>
                <a:ea typeface="Arial"/>
              </a:rPr>
              <a:t>Psichiatria Adulti Territoriale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- i dati evidenziano un significativo incremento di utenti presi in carico dal CSM pari a +27,2% (+578 casi), in pieno recupero rispetto al decremento registrato nel 2020 conseguente al periodo di emergenza pandemica acu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Nell’ambito della </a:t>
            </a:r>
            <a:r>
              <a:rPr b="1" lang="it-IT" sz="1000" spc="-1" strike="noStrike">
                <a:solidFill>
                  <a:srgbClr val="339966"/>
                </a:solidFill>
                <a:latin typeface="Arial"/>
                <a:ea typeface="Arial"/>
              </a:rPr>
              <a:t>Neuropsichiatria Infantile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si registra un incremento significativo degli utenti in carico (+24% pari a +491 casi) a conferma della tendenza in aumento che negli ultimi anni ha visto il potenziamento degli interventi nell’ambito del Progetto PRIA su finanziamento regionale, che hanno riguardato l’Autism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L’area della </a:t>
            </a:r>
            <a:r>
              <a:rPr b="1" lang="it-IT" sz="1000" spc="-1" strike="noStrike">
                <a:solidFill>
                  <a:srgbClr val="339966"/>
                </a:solidFill>
                <a:latin typeface="Arial"/>
                <a:ea typeface="Arial"/>
              </a:rPr>
              <a:t>Dipendenze Patologiche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registra un incremento del numero di utenti (+3%). In ambito di semiresidenzialità, presso il Centro diurno a gestione diretta (Arcobaleno), si registrano 2 utenti in più e un lieve aumento delle giornate di degenza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Segnaposto numero diapositiva 1"/>
          <p:cNvSpPr/>
          <p:nvPr/>
        </p:nvSpPr>
        <p:spPr>
          <a:xfrm>
            <a:off x="7209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897C-9236-4570-BFC0-D9499D4A8F33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10"/>
          <p:cNvSpPr/>
          <p:nvPr/>
        </p:nvSpPr>
        <p:spPr>
          <a:xfrm>
            <a:off x="5800680" y="3747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Narrow"/>
              </a:rPr>
              <a:t>Assistenza Territor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2" name="Immagine 1" descr=""/>
          <p:cNvPicPr/>
          <p:nvPr/>
        </p:nvPicPr>
        <p:blipFill>
          <a:blip r:embed="rId3"/>
          <a:stretch/>
        </p:blipFill>
        <p:spPr>
          <a:xfrm>
            <a:off x="2435400" y="3429000"/>
            <a:ext cx="56307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Rectangle 2"/>
          <p:cNvSpPr/>
          <p:nvPr/>
        </p:nvSpPr>
        <p:spPr>
          <a:xfrm>
            <a:off x="1295280" y="0"/>
            <a:ext cx="7848720" cy="112536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Line 3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5" name="Picture 4" descr="C:\Documents and Settings\Coglianese\Desktop\LOGO\PUNTI.gif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396" name="Picture 5" descr="C:\Documents and Settings\Coglianese\Desktop\LOGO\SCRIVI.gif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397" name="Text Box 15"/>
          <p:cNvSpPr/>
          <p:nvPr/>
        </p:nvSpPr>
        <p:spPr>
          <a:xfrm>
            <a:off x="1425600" y="1111320"/>
            <a:ext cx="741204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9959"/>
                </a:solidFill>
                <a:latin typeface="Arial"/>
                <a:ea typeface="Arial"/>
              </a:rPr>
              <a:t>Consultorio Famili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Gli utenti in carico nel 2021 presso il Consultorio sono aumentati rispetto all’anno precedente (+8%; +568 casi), confermando la tendenza di crescita costante, nonostante il periodo caratterizzato dalla pandemia da COVID-2. In coerenza si registra un incremento degli accessi (+17,4%) e delle prestazioni erogate (individuali e di gruppo) pari a +18%. Sono proseguiti anche nel 2021 gli interventi in "Telemedicina", che nel 2020 in periodo di pandemia acuta hanno garantito con colloqui in video chiamata o telefonici destinati a singoli o gruppi di utenti la prevenzione e cura del disagio psico-fisico, colloqui di sostegno, consulenze e terapie a distanza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Segnaposto numero diapositiva 1"/>
          <p:cNvSpPr/>
          <p:nvPr/>
        </p:nvSpPr>
        <p:spPr>
          <a:xfrm>
            <a:off x="7209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4944-3DC1-4242-83CD-105D4048D5B0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10"/>
          <p:cNvSpPr/>
          <p:nvPr/>
        </p:nvSpPr>
        <p:spPr>
          <a:xfrm>
            <a:off x="5800680" y="3747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Narrow"/>
              </a:rPr>
              <a:t>Assistenza Territor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0" name="Immagine 1" descr=""/>
          <p:cNvPicPr/>
          <p:nvPr/>
        </p:nvPicPr>
        <p:blipFill>
          <a:blip r:embed="rId3"/>
          <a:stretch/>
        </p:blipFill>
        <p:spPr>
          <a:xfrm>
            <a:off x="2185920" y="2936880"/>
            <a:ext cx="5686560" cy="1905120"/>
          </a:xfrm>
          <a:prstGeom prst="rect">
            <a:avLst/>
          </a:prstGeom>
          <a:ln w="0">
            <a:noFill/>
          </a:ln>
        </p:spPr>
      </p:pic>
      <p:sp>
        <p:nvSpPr>
          <p:cNvPr id="1401" name="CasellaDiTesto 13"/>
          <p:cNvSpPr/>
          <p:nvPr/>
        </p:nvSpPr>
        <p:spPr>
          <a:xfrm>
            <a:off x="1341360" y="4952880"/>
            <a:ext cx="758052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50000"/>
              </a:lnSpc>
              <a:spcBef>
                <a:spcPts val="300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1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IND317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) % utenti degli spazi giovani sulla popolazione target (14-19 anni). (Valore di riferimento &gt;= 7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L'indicatore che valuta la capacità di attrazione dei servizi consultoriali rivolti agli adolescenti mostra per L’AUSL di Imola una percentuale pari a 8,93%, in leggero aumento rispetto al 2020 (8,11%) ed entro il target atteso. Il valore regionale 2021 risulta pari a 7,3%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150000"/>
              </a:lnSpc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1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IND318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) % utenti dei consultori familiari sulla popolazione target (15-64 anni)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La capacità di attrazione del servizio consultoriale dell’AUSL di Imola risulta tra le migliori a livello regionale: 7,22%, in incremento rispetto al 2020 (6,64%). Il valore regionale 2021 risulta pari a 6,39%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Rectangle 2"/>
          <p:cNvSpPr/>
          <p:nvPr/>
        </p:nvSpPr>
        <p:spPr>
          <a:xfrm>
            <a:off x="1295280" y="0"/>
            <a:ext cx="7848720" cy="112536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Line 3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4" name="Picture 4" descr="C:\Documents and Settings\Coglianese\Desktop\LOGO\PUNTI.gif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405" name="Picture 5" descr="C:\Documents and Settings\Coglianese\Desktop\LOGO\SCRIVI.gif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406" name="Text Box 15"/>
          <p:cNvSpPr/>
          <p:nvPr/>
        </p:nvSpPr>
        <p:spPr>
          <a:xfrm>
            <a:off x="1425600" y="1176480"/>
            <a:ext cx="732312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9959"/>
                </a:solidFill>
                <a:latin typeface="Arial"/>
                <a:ea typeface="Arial"/>
              </a:rPr>
              <a:t>Garanzia dell’accesso alle prestazioni di specialistica ambulator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 coerenza con la DGR 603/2019 “Piano Regionale di governo delle liste d’attesa (PRGLA) per il triennio 2019-2021” l’obiettivo prioritario monitorato riguarda la continuità assistenziale attraverso la presa in carico dello specialista, ovvero l’incremento delle prescrizioni e prenotazioni dei controlli/approfondimenti diagnostici da parte degli specialisti che hanno in carico il paziente e che sono tenuti a prescrivere le prestazioni senza rinvio al medico di medicina general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Segnaposto numero diapositiva 1"/>
          <p:cNvSpPr/>
          <p:nvPr/>
        </p:nvSpPr>
        <p:spPr>
          <a:xfrm>
            <a:off x="7209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A1EE-EA60-41A6-98AE-B6F42CE28DB3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Text Box 10"/>
          <p:cNvSpPr/>
          <p:nvPr/>
        </p:nvSpPr>
        <p:spPr>
          <a:xfrm>
            <a:off x="5800680" y="3747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Narrow"/>
              </a:rPr>
              <a:t>Assistenza Territor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9" name="Immagine 1" descr=""/>
          <p:cNvPicPr/>
          <p:nvPr/>
        </p:nvPicPr>
        <p:blipFill>
          <a:blip r:embed="rId3"/>
          <a:stretch/>
        </p:blipFill>
        <p:spPr>
          <a:xfrm>
            <a:off x="1523880" y="2846520"/>
            <a:ext cx="70344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2"/>
          <p:cNvSpPr/>
          <p:nvPr/>
        </p:nvSpPr>
        <p:spPr>
          <a:xfrm>
            <a:off x="1295280" y="0"/>
            <a:ext cx="7848720" cy="112536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Line 3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2" name="Picture 4" descr="C:\Documents and Settings\Coglianese\Desktop\LOGO\PUNTI.gif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413" name="Picture 5" descr="C:\Documents and Settings\Coglianese\Desktop\LOGO\SCRIVI.gif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414" name="Text Box 15"/>
          <p:cNvSpPr/>
          <p:nvPr/>
        </p:nvSpPr>
        <p:spPr>
          <a:xfrm>
            <a:off x="1363680" y="1158840"/>
            <a:ext cx="745632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9959"/>
                </a:solidFill>
                <a:latin typeface="Arial"/>
                <a:ea typeface="Arial"/>
              </a:rPr>
              <a:t>Specialistica Ambulatoriale – Governo delle liste di att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er quanto concerne i tempi di attesa che il sistema di rilevazione regionale monitora per visite ed esami diagnostici, nel 2021 si sono perseguiti gli obiettivi sotto specificati e monitorati su Piattaforma InSiDER che mettono in evidenza un sostanziale e generale decremento in particolare per i primi accessi alle visite, conseguenza della situazione contingente venutasi a creare causa l’emergenza pandemic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Segnaposto numero diapositiva 1"/>
          <p:cNvSpPr/>
          <p:nvPr/>
        </p:nvSpPr>
        <p:spPr>
          <a:xfrm>
            <a:off x="7209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FDB8-10CB-428A-A3AE-D4F057E9DF08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Text Box 10"/>
          <p:cNvSpPr/>
          <p:nvPr/>
        </p:nvSpPr>
        <p:spPr>
          <a:xfrm>
            <a:off x="5800680" y="3747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Narrow"/>
              </a:rPr>
              <a:t>Assistenza Territor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7" name="Immagine 1" descr=""/>
          <p:cNvPicPr/>
          <p:nvPr/>
        </p:nvPicPr>
        <p:blipFill>
          <a:blip r:embed="rId3"/>
          <a:stretch/>
        </p:blipFill>
        <p:spPr>
          <a:xfrm>
            <a:off x="1477800" y="2693880"/>
            <a:ext cx="720108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Rectangle 2"/>
          <p:cNvSpPr/>
          <p:nvPr/>
        </p:nvSpPr>
        <p:spPr>
          <a:xfrm>
            <a:off x="1295280" y="0"/>
            <a:ext cx="7848720" cy="121932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Line 3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0" name="Picture 4" descr="C:\Documents and Settings\Coglianese\Desktop\LOGO\PUNTI.gif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421" name="Picture 5" descr="C:\Documents and Settings\Coglianese\Desktop\LOGO\SCRIVI.gif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422" name="Text Box 15"/>
          <p:cNvSpPr/>
          <p:nvPr/>
        </p:nvSpPr>
        <p:spPr>
          <a:xfrm>
            <a:off x="1457280" y="4343400"/>
            <a:ext cx="75247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9959"/>
                </a:solidFill>
                <a:latin typeface="Arial"/>
                <a:ea typeface="Arial"/>
              </a:rPr>
              <a:t>L’attività di degenza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in regime ordinario, nel 2020 (dati SDO) presentava, per le ragioni legate alla gestione dell’emergenza pandemica, un significativo decremento di casi trattati rispetto al 2019 (-2.285 casi, pari a -17,5%). Nel 2021 rispetto all’anno precedente si registra un lieve incremento delle degenze (+92 casi, pari a +0,85%) che, come evidenzia la tabella, riguarda i soli DRG Medici (+205 casi, pari a +2,71%). Per quanto riguarda i DRG Chirurgici si rileva un ulteriore decremento (-110 casi, pari a -3,41%) dovuto in parte al perdurare dell’emergenza da SARS COV-2 e alle necessarie riorganizzazioni volte a contenere la pandemia e in parte alla carenza di risorse di personale infermieristico e medico anestesista nelle sale operatorie che ha inevitabilmente condizionato la programmazione degli interventi chirurgici, rallentando il processo di recupero dell’attività chirurgica ai livelli di produzione del 201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La casistica COIVID, trattata presso l’Ospedale di Imola, registra un volume pari a n. 910 ricoveri nel 2021 e n. 615 nel 2020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Segnaposto numero diapositiva 1"/>
          <p:cNvSpPr/>
          <p:nvPr/>
        </p:nvSpPr>
        <p:spPr>
          <a:xfrm>
            <a:off x="704520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2F65-C81F-4E6B-B585-15A1869BD67A}" type="slidenum">
              <a:rPr b="0" lang="it-IT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Text Box 10"/>
          <p:cNvSpPr/>
          <p:nvPr/>
        </p:nvSpPr>
        <p:spPr>
          <a:xfrm>
            <a:off x="5800680" y="3747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Narrow"/>
              </a:rPr>
              <a:t>Assistenza Ospedali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5" name="Immagine 2" descr=""/>
          <p:cNvPicPr/>
          <p:nvPr/>
        </p:nvPicPr>
        <p:blipFill>
          <a:blip r:embed="rId3"/>
          <a:stretch/>
        </p:blipFill>
        <p:spPr>
          <a:xfrm>
            <a:off x="2054160" y="1424160"/>
            <a:ext cx="629136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Rectangle 2"/>
          <p:cNvSpPr/>
          <p:nvPr/>
        </p:nvSpPr>
        <p:spPr>
          <a:xfrm>
            <a:off x="1295280" y="0"/>
            <a:ext cx="7848720" cy="121932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Line 3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8" name="Picture 4" descr="C:\Documents and Settings\Coglianese\Desktop\LOGO\PUNTI.gif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429" name="Picture 5" descr="C:\Documents and Settings\Coglianese\Desktop\LOGO\SCRIVI.gif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430" name="Text Box 15"/>
          <p:cNvSpPr/>
          <p:nvPr/>
        </p:nvSpPr>
        <p:spPr>
          <a:xfrm>
            <a:off x="1474920" y="1339920"/>
            <a:ext cx="7524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Si rappresentano i </a:t>
            </a:r>
            <a:r>
              <a:rPr b="1" lang="it-IT" sz="1000" spc="-1" strike="noStrike">
                <a:solidFill>
                  <a:srgbClr val="009959"/>
                </a:solidFill>
                <a:latin typeface="Arial"/>
                <a:ea typeface="Arial"/>
              </a:rPr>
              <a:t>Progett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che, nel corso degli ultimi anni, l’Azienda ha perseguito mediante la progressiva attuazione di </a:t>
            </a:r>
            <a:r>
              <a:rPr b="1" lang="it-IT" sz="1000" spc="-1" strike="noStrike">
                <a:solidFill>
                  <a:srgbClr val="009959"/>
                </a:solidFill>
                <a:latin typeface="Arial"/>
                <a:ea typeface="Arial"/>
              </a:rPr>
              <a:t>Accordi di integrazione a gestione interaziendal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Segnaposto numero diapositiva 1"/>
          <p:cNvSpPr/>
          <p:nvPr/>
        </p:nvSpPr>
        <p:spPr>
          <a:xfrm>
            <a:off x="704520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6CF6-0B8F-40E1-9FED-6E6F742F2666}" type="slidenum">
              <a:rPr b="0" lang="it-IT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Text Box 10"/>
          <p:cNvSpPr/>
          <p:nvPr/>
        </p:nvSpPr>
        <p:spPr>
          <a:xfrm>
            <a:off x="5800680" y="3747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Narrow"/>
              </a:rPr>
              <a:t>Assistenza Ospedali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3" name="Immagine 1" descr=""/>
          <p:cNvPicPr/>
          <p:nvPr/>
        </p:nvPicPr>
        <p:blipFill>
          <a:blip r:embed="rId3"/>
          <a:stretch/>
        </p:blipFill>
        <p:spPr>
          <a:xfrm>
            <a:off x="1523880" y="2071800"/>
            <a:ext cx="722484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2"/>
          <p:cNvSpPr/>
          <p:nvPr/>
        </p:nvSpPr>
        <p:spPr>
          <a:xfrm>
            <a:off x="1295280" y="0"/>
            <a:ext cx="7848720" cy="121932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5" name="Picture 4" descr="C:\Documents and Settings\Coglianese\Desktop\LOGO\PUNTI.gif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436" name="Picture 5" descr="C:\Documents and Settings\Coglianese\Desktop\LOGO\SCRIVI.gif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437" name="Segnaposto numero diapositiva 1"/>
          <p:cNvSpPr/>
          <p:nvPr/>
        </p:nvSpPr>
        <p:spPr>
          <a:xfrm>
            <a:off x="723888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76FB-81FB-4E4F-B78F-36F83C5E881F}" type="slidenum">
              <a:rPr b="0" lang="it-IT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10"/>
          <p:cNvSpPr/>
          <p:nvPr/>
        </p:nvSpPr>
        <p:spPr>
          <a:xfrm>
            <a:off x="5800680" y="3747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Narrow"/>
              </a:rPr>
              <a:t>Assistenza Ospedali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Line 3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15"/>
          <p:cNvSpPr/>
          <p:nvPr/>
        </p:nvSpPr>
        <p:spPr>
          <a:xfrm>
            <a:off x="1511280" y="1413000"/>
            <a:ext cx="7399440" cy="14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9959"/>
                </a:solidFill>
                <a:latin typeface="Arial"/>
                <a:ea typeface="Arial"/>
              </a:rPr>
              <a:t>Indicatori di Esit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Si riportano gli andamenti degli indicatori di esito di cui al DM 70/2015 e DGR 2040/2015, disponibili su piattaforma regionale InSiDER, a confronto con gli esiti di livello regionale, al fine di dare evidenza dell’andamento generale, conseguente al contesto emergenziale COVID-19, che ha interessato tutte le Aziende sanitarie sul territorio region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1" name=""/>
          <p:cNvGraphicFramePr/>
          <p:nvPr/>
        </p:nvGraphicFramePr>
        <p:xfrm>
          <a:off x="2168640" y="3054240"/>
          <a:ext cx="6084720" cy="1832040"/>
        </p:xfrm>
        <a:graphic>
          <a:graphicData uri="http://schemas.openxmlformats.org/drawingml/2006/table">
            <a:tbl>
              <a:tblPr/>
              <a:tblGrid>
                <a:gridCol w="2954160"/>
                <a:gridCol w="633600"/>
                <a:gridCol w="626760"/>
                <a:gridCol w="625680"/>
                <a:gridCol w="614160"/>
                <a:gridCol w="630360"/>
              </a:tblGrid>
              <a:tr h="420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2f5496"/>
                          </a:solidFill>
                          <a:latin typeface="Tahoma"/>
                          <a:ea typeface="Times New Roman"/>
                        </a:rPr>
                        <a:t>INDICATORI DI ESIT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2f5496"/>
                          </a:solidFill>
                          <a:latin typeface="Tahoma"/>
                          <a:ea typeface="Times New Roman"/>
                        </a:rPr>
                        <a:t>DM 70/2015 e DGR 2040/201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800" spc="-1" strike="noStrike">
                          <a:solidFill>
                            <a:srgbClr val="2f5496"/>
                          </a:solidFill>
                          <a:latin typeface="Tahoma"/>
                          <a:ea typeface="Times New Roman"/>
                        </a:rPr>
                        <a:t>TARGET R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2f5496"/>
                          </a:solidFill>
                          <a:latin typeface="Tahoma"/>
                          <a:ea typeface="Times New Roman"/>
                        </a:rPr>
                        <a:t>20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2f5496"/>
                          </a:solidFill>
                          <a:latin typeface="Tahoma"/>
                          <a:ea typeface="Times New Roman"/>
                        </a:rPr>
                        <a:t>20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2f5496"/>
                          </a:solidFill>
                          <a:latin typeface="Tahoma"/>
                          <a:ea typeface="Times New Roman"/>
                        </a:rPr>
                        <a:t>20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2f5496"/>
                          </a:solidFill>
                          <a:latin typeface="Tahoma"/>
                          <a:ea typeface="Times New Roman"/>
                        </a:rPr>
                        <a:t>2021 R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</a:t>
                      </a: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771</a:t>
                      </a: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 </a:t>
                      </a:r>
                      <a:r>
                        <a:rPr b="1" lang="it-IT" sz="9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ea typeface="Times New Roman"/>
                        </a:rPr>
                        <a:t>Frattura di femore</a:t>
                      </a: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: % di interventi effettuati entro 48h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&gt;= 7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3,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3,1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9,3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3,1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40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</a:t>
                      </a: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630</a:t>
                      </a: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 </a:t>
                      </a:r>
                      <a:r>
                        <a:rPr b="1" lang="it-IT" sz="9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ea typeface="Times New Roman"/>
                        </a:rPr>
                        <a:t>Colecistectomia laparoscopica</a:t>
                      </a: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: % di interventi con degenza post-operatoria inferiore a 3 giorn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&gt;= 7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3,7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2,0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4,2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3,2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</a:t>
                      </a: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632</a:t>
                      </a: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 </a:t>
                      </a:r>
                      <a:r>
                        <a:rPr b="1" lang="it-IT" sz="9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ea typeface="Times New Roman"/>
                        </a:rPr>
                        <a:t>Tagli cesarei primari</a:t>
                      </a: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: % di interventi in maternità di I livello o comunque con &lt;1000 parti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&lt;=1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,9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,7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,5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,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Rectangle 2"/>
          <p:cNvSpPr/>
          <p:nvPr/>
        </p:nvSpPr>
        <p:spPr>
          <a:xfrm>
            <a:off x="1295280" y="0"/>
            <a:ext cx="7848720" cy="121932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3" name="Picture 4" descr="C:\Documents and Settings\Coglianese\Desktop\LOGO\PUNTI.gif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444" name="Picture 5" descr="C:\Documents and Settings\Coglianese\Desktop\LOGO\SCRIVI.gif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445" name="Segnaposto numero diapositiva 1"/>
          <p:cNvSpPr/>
          <p:nvPr/>
        </p:nvSpPr>
        <p:spPr>
          <a:xfrm>
            <a:off x="7175520" y="644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86A0-4EE4-4328-AE54-DAF1F5F94F71}" type="slidenum">
              <a:rPr b="0" lang="it-IT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Text Box 10"/>
          <p:cNvSpPr/>
          <p:nvPr/>
        </p:nvSpPr>
        <p:spPr>
          <a:xfrm>
            <a:off x="5800680" y="3747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Narrow"/>
              </a:rPr>
              <a:t>Assistenza Ospedali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Line 3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15"/>
          <p:cNvSpPr/>
          <p:nvPr/>
        </p:nvSpPr>
        <p:spPr>
          <a:xfrm>
            <a:off x="1295280" y="1287360"/>
            <a:ext cx="7685280" cy="35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9959"/>
                </a:solidFill>
                <a:latin typeface="Arial"/>
                <a:ea typeface="Arial"/>
              </a:rPr>
              <a:t>Riduzione Tempi di Attesa per le prestazioni di ricovero ospedali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itoraggio prospettic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. Risultati del monitoraggio prospettico da SIGLA 2.0 al 31/12/2021, di tutti gli interventi chirurgici programmati previsti dal nomenclatore regionale e non soltanto gli interventi monitorati a livello nazionale (fonte ReportERHome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Posizioni SIGLA in tempo rispetto alla classe di priorità dell’AUSL di Imola: 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lasse A 90,38% - Classe B 45,95% - Classe C 41,68% - Classe D 40,78%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. I dati mostrano l’aderenza delle UO del Dipartimento chirurgico alle indicazioni fornite dalla Direzione Sanitaria in merito alle priorità di trattamento in corso di emergenza Pandemica (priorità per classi A oncologiche entro 30gg, avvio recupero a partire dalle classi B scadute e trattamento dei casi improcrastinabili; è sempre stato garantito il trattamento delle urgenze/emergenze). Le UO del Dipartimento chirurgico sono sempre state supportate nel governo delle criticità legate a carenze di PL e offerta di ore di sala operatoria dal GdL multidisciplinare/multiprofessionale costituente la “Cabina di regia della </a:t>
            </a:r>
            <a:r>
              <a:rPr b="0" lang="it-IT" sz="900" spc="-1" strike="noStrike">
                <a:solidFill>
                  <a:srgbClr val="000000"/>
                </a:solidFill>
                <a:latin typeface="Arial"/>
                <a:ea typeface="Arial"/>
              </a:rPr>
              <a:t>programmazion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 chirurgica”. L’attuazione del piano operativo di recupero degli interventi chirurgici rinviati nel 2020, a causa della Pandemia Covid-19, nel corso del 2021 non ha visto pieno sviluppo, determinando un rallentamento nella ripresa dei volumi di produzione, a causa di importanti e seguitanti criticità nella dotazione e reclutamento di risorse anestesiologiche e infermieristiche dedicate alle attività del Blocco Operatorio. Si aggiunge inoltre l’importante impatto sulla dotazione PL del Dipartimento Chirurgico (fino a -43 PL nel corso dei picchi pandemici) determinato dalla necessità di riassegnare risorse al Dipartimento Medico-Area Covid. In tabella le performance 2021 monitorate su piattaforma InSiDER in merito ai tempi di attesa per ricoveri chirurgici programmat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9" name=""/>
          <p:cNvGraphicFramePr/>
          <p:nvPr/>
        </p:nvGraphicFramePr>
        <p:xfrm>
          <a:off x="2265480" y="4869000"/>
          <a:ext cx="5810040" cy="1893600"/>
        </p:xfrm>
        <a:graphic>
          <a:graphicData uri="http://schemas.openxmlformats.org/drawingml/2006/table">
            <a:tbl>
              <a:tblPr/>
              <a:tblGrid>
                <a:gridCol w="2390760"/>
                <a:gridCol w="600120"/>
                <a:gridCol w="691920"/>
                <a:gridCol w="695520"/>
                <a:gridCol w="685800"/>
                <a:gridCol w="745920"/>
              </a:tblGrid>
              <a:tr h="2826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INDICATOR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TARG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20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20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20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RER 20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5920">
                <a:tc gridSpan="6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Tempi di Attesa dai dati retrospettivi della SDO (Riferimento InSiDER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92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(</a:t>
                      </a: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IND765</a:t>
                      </a: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) Per i tumori: casi entro 30gg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≥</a:t>
                      </a: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9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99,0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93,8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89,0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77,7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666666"/>
                      </a:solidFill>
                    </a:lnL>
                    <a:lnR>
                      <a:noFill/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(</a:t>
                      </a: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IND766</a:t>
                      </a: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) Per le protesi d’anca: casi entro 180gg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≥</a:t>
                      </a: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9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85,1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73,3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29,2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83,6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666666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04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(</a:t>
                      </a: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IND767</a:t>
                      </a: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) Per tutte le altre prestazioni oggetto di monitoraggio: casi entro la classe di priorità assegnat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≥</a:t>
                      </a: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9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93,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69,0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54,5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75,2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666666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Segnaposto numero diapositiva 1"/>
          <p:cNvSpPr/>
          <p:nvPr/>
        </p:nvSpPr>
        <p:spPr>
          <a:xfrm>
            <a:off x="6913440" y="6332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86E5-E385-432E-8FFD-C8C24331A42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3" name="Picture 5" descr="C:\Documents and Settings\Coglianese\Desktop\LOGO\SCRIVI.gif"/>
          <p:cNvPicPr/>
          <p:nvPr/>
        </p:nvPicPr>
        <p:blipFill>
          <a:blip r:embed="rId1"/>
          <a:stretch/>
        </p:blipFill>
        <p:spPr>
          <a:xfrm>
            <a:off x="971640" y="-47520"/>
            <a:ext cx="3209760" cy="884160"/>
          </a:xfrm>
          <a:prstGeom prst="rect">
            <a:avLst/>
          </a:prstGeom>
          <a:ln w="0">
            <a:noFill/>
          </a:ln>
        </p:spPr>
      </p:pic>
      <p:sp>
        <p:nvSpPr>
          <p:cNvPr id="1274" name="CasellaDiTesto 2"/>
          <p:cNvSpPr/>
          <p:nvPr/>
        </p:nvSpPr>
        <p:spPr>
          <a:xfrm>
            <a:off x="4788000" y="208080"/>
            <a:ext cx="36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rebuchet MS"/>
              </a:rPr>
              <a:t>Contributi in conto esercizio anni 2019-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Rettangolo 3"/>
          <p:cNvSpPr/>
          <p:nvPr/>
        </p:nvSpPr>
        <p:spPr>
          <a:xfrm>
            <a:off x="1300320" y="3659040"/>
            <a:ext cx="76057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ispetto al preventivo 2021, i contributi in c/esercizio segnano un incremento di 7,9 milioni. Di tale incremento, la quota più significativa, pari a 7,12 milioni, è riconducibile alle Risorse ad integrazione dell'equilibrio economico finanziario dei bilanci d'esercizio 2021 assegnate con DGR 882/2022 “Assegnazione di risorse a favore delle aziende sanitarie a valere sui bilanci d'esercizio 2021”.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6" name="Immagine 2" descr=""/>
          <p:cNvPicPr/>
          <p:nvPr/>
        </p:nvPicPr>
        <p:blipFill>
          <a:blip r:embed="rId2"/>
          <a:stretch/>
        </p:blipFill>
        <p:spPr>
          <a:xfrm>
            <a:off x="1311120" y="1695600"/>
            <a:ext cx="7605720" cy="15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Rectangle 2"/>
          <p:cNvSpPr/>
          <p:nvPr/>
        </p:nvSpPr>
        <p:spPr>
          <a:xfrm>
            <a:off x="1295280" y="0"/>
            <a:ext cx="7848720" cy="121932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1" name="Picture 4" descr="C:\Documents and Settings\Coglianese\Desktop\LOGO\PUNTI.gif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452" name="Picture 5" descr="C:\Documents and Settings\Coglianese\Desktop\LOGO\SCRIVI.gif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453" name="Segnaposto numero diapositiva 1"/>
          <p:cNvSpPr/>
          <p:nvPr/>
        </p:nvSpPr>
        <p:spPr>
          <a:xfrm>
            <a:off x="7175520" y="644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7241-CDFE-42B4-BC1B-E00A08B63894}" type="slidenum">
              <a:rPr b="0" lang="it-IT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10"/>
          <p:cNvSpPr/>
          <p:nvPr/>
        </p:nvSpPr>
        <p:spPr>
          <a:xfrm>
            <a:off x="5800680" y="3747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Narrow"/>
              </a:rPr>
              <a:t>Assistenza Ospedali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Line 3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 Box 15"/>
          <p:cNvSpPr/>
          <p:nvPr/>
        </p:nvSpPr>
        <p:spPr>
          <a:xfrm>
            <a:off x="1295280" y="1287360"/>
            <a:ext cx="745344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9959"/>
                </a:solidFill>
                <a:latin typeface="Arial"/>
                <a:ea typeface="Arial"/>
              </a:rPr>
              <a:t>Emergenza ospedali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</a:t>
            </a:r>
            <a:r>
              <a:rPr b="1" lang="it-IT" sz="1000" spc="-1" strike="noStrike">
                <a:solidFill>
                  <a:srgbClr val="1f497d"/>
                </a:solidFill>
                <a:latin typeface="Arial"/>
                <a:ea typeface="Times New Roman"/>
              </a:rPr>
              <a:t> </a:t>
            </a:r>
            <a:r>
              <a:rPr b="1" lang="it-IT" sz="1000" spc="-1" strike="noStrike">
                <a:solidFill>
                  <a:srgbClr val="009959"/>
                </a:solidFill>
                <a:latin typeface="Arial"/>
                <a:ea typeface="Times New Roman"/>
              </a:rPr>
              <a:t>Pronto Soccorso</a:t>
            </a:r>
            <a:r>
              <a:rPr b="0" lang="it-IT" sz="1000" spc="-1" strike="noStrike">
                <a:solidFill>
                  <a:srgbClr val="009959"/>
                </a:solidFill>
                <a:latin typeface="Arial"/>
                <a:ea typeface="Times New Roman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gistra nel 2021, rispetto al totale complessivo, un incremento pari a +3.155 accessi (+8,5%), registrando un significativo recupero rispetto al 2020 che registrava un abbattimento importante riconducibile alla prima situazione di emergenza SARS-COV-2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7" name="Immagine 1" descr=""/>
          <p:cNvPicPr/>
          <p:nvPr/>
        </p:nvPicPr>
        <p:blipFill>
          <a:blip r:embed="rId3"/>
          <a:stretch/>
        </p:blipFill>
        <p:spPr>
          <a:xfrm>
            <a:off x="2236680" y="2147760"/>
            <a:ext cx="5616720" cy="2325960"/>
          </a:xfrm>
          <a:prstGeom prst="rect">
            <a:avLst/>
          </a:prstGeom>
          <a:ln w="0">
            <a:noFill/>
          </a:ln>
        </p:spPr>
      </p:pic>
      <p:sp>
        <p:nvSpPr>
          <p:cNvPr id="1458" name="CasellaDiTesto 10"/>
          <p:cNvSpPr/>
          <p:nvPr/>
        </p:nvSpPr>
        <p:spPr>
          <a:xfrm>
            <a:off x="1539720" y="4797360"/>
            <a:ext cx="71359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Fonte InSiDER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IND775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) % accessi con permanenza &lt;6 +1 ore in PS con più di 45.000 accessi. (valore riferimento &gt; 90%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L’AUSL di Imola, nel 2021, presenta una percentuale tra le migliori a livello regionale, pari a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82,83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%, in calo rispetto al 2020 (86,81%). Il valore medio regionale 2021 risulta pari a 77,55%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Segnaposto numero diapositiva 1"/>
          <p:cNvSpPr/>
          <p:nvPr/>
        </p:nvSpPr>
        <p:spPr>
          <a:xfrm>
            <a:off x="6913440" y="6332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B6F6-525F-44AA-9FE0-8E62461CEE8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8" name="Picture 5" descr="C:\Documents and Settings\Coglianese\Desktop\LOGO\SCRIVI.gif"/>
          <p:cNvPicPr/>
          <p:nvPr/>
        </p:nvPicPr>
        <p:blipFill>
          <a:blip r:embed="rId1"/>
          <a:stretch/>
        </p:blipFill>
        <p:spPr>
          <a:xfrm>
            <a:off x="971640" y="-47520"/>
            <a:ext cx="3209760" cy="884160"/>
          </a:xfrm>
          <a:prstGeom prst="rect">
            <a:avLst/>
          </a:prstGeom>
          <a:ln w="0">
            <a:noFill/>
          </a:ln>
        </p:spPr>
      </p:pic>
      <p:sp>
        <p:nvSpPr>
          <p:cNvPr id="1279" name="CasellaDiTesto 2"/>
          <p:cNvSpPr/>
          <p:nvPr/>
        </p:nvSpPr>
        <p:spPr>
          <a:xfrm>
            <a:off x="5771520" y="333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rebuchet MS"/>
              </a:rPr>
              <a:t>Conto econom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0" name="Immagine 2" descr=""/>
          <p:cNvPicPr/>
          <p:nvPr/>
        </p:nvPicPr>
        <p:blipFill>
          <a:blip r:embed="rId2"/>
          <a:stretch/>
        </p:blipFill>
        <p:spPr>
          <a:xfrm>
            <a:off x="1649520" y="1122480"/>
            <a:ext cx="6954840" cy="55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Segnaposto numero diapositiva 1"/>
          <p:cNvSpPr/>
          <p:nvPr/>
        </p:nvSpPr>
        <p:spPr>
          <a:xfrm>
            <a:off x="6942240" y="65246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C1A3-287C-4D4F-AD1E-F3C3C4CBB46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2" name="Picture 5" descr="C:\Documents and Settings\Coglianese\Desktop\LOGO\SCRIVI.gif"/>
          <p:cNvPicPr/>
          <p:nvPr/>
        </p:nvPicPr>
        <p:blipFill>
          <a:blip r:embed="rId1"/>
          <a:stretch/>
        </p:blipFill>
        <p:spPr>
          <a:xfrm>
            <a:off x="971640" y="-47520"/>
            <a:ext cx="3209760" cy="884160"/>
          </a:xfrm>
          <a:prstGeom prst="rect">
            <a:avLst/>
          </a:prstGeom>
          <a:ln w="0">
            <a:noFill/>
          </a:ln>
        </p:spPr>
      </p:pic>
      <p:sp>
        <p:nvSpPr>
          <p:cNvPr id="1283" name="Text Box 15"/>
          <p:cNvSpPr/>
          <p:nvPr/>
        </p:nvSpPr>
        <p:spPr>
          <a:xfrm>
            <a:off x="5381640" y="277920"/>
            <a:ext cx="32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rebuchet MS"/>
              </a:rPr>
              <a:t>Acquisto beni di consum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rebuchet MS"/>
              </a:rPr>
              <a:t>2021-20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Text Box 15"/>
          <p:cNvSpPr/>
          <p:nvPr/>
        </p:nvSpPr>
        <p:spPr>
          <a:xfrm>
            <a:off x="1116000" y="3781440"/>
            <a:ext cx="7920000" cy="24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  <a:ea typeface="Arial"/>
              </a:rPr>
              <a:t>La spesa per l’acquisto di beni sanitari e non sanitari, comprensivi della variazione delle rimanenze, registrano un incremento di € 2,913 milioni rispetto al consuntivo 2020 (+7,7%). Sull’incremento incide il consumo di scorte giacenti al 31.12.2020 dei Dispositivi Medici e di Protezione Individuale, correlati alla gestione del Covid-19, acquisiti dai soggetti aggregatori in ambito regionale. Principali fattori di incremento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  <a:ea typeface="Arial"/>
              </a:rPr>
              <a:t>L’aggregato Farmaci registra un incremento di consumo rispetto al 2020 pari a pari a € +1.269.862 determinato prevalentemente da maggiore erogazione diretta di farmaci rivolti alla cura di pazienti affetti da malattie rare € +493.174 e per la parte restante prevalentemente dovuto da maggiore erogazione diretta “per conto”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  <a:ea typeface="Arial"/>
              </a:rPr>
              <a:t>I farmaci innovativi oncologici e non oncologici rilevano un consuntivo 2021 pari a € 1.359.105 interamente finanziato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  <a:ea typeface="Arial"/>
              </a:rPr>
              <a:t>Nell’ambito dei beni sanitari, incide la spesa per DM e DPI che comprende i consumi di guanti non chirurgici e camici standard con un aumento di spesa rispettivamente di € +503.670 e di € +665.929 rispetto al 2020, per un complessivo di € +1.169.599, per effetti di maggiori prezzi unitari di acquisto effettuati dai soggetti aggregatori nel corso del 2020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  <a:ea typeface="Arial"/>
              </a:rPr>
              <a:t>I beni non sanitari registrano un aumento di € 479.121: incide la spesa per DPI quali camici di protezione, mascherine FFPP2, calzari, visiere e kit di protezione facciale, tute che nel 2021 sono stati movimentati e valorizzati a costo di acquisto 2020; il confronto tra 2021 ed 2020 per tali fattori produttivi, correlati di fatto alla gestione della pandemia, deve tenere anche conto che nel 2020 si sono registrati consumi dei prodotti valorizzati a prezzo “zero” in quanto forniti dalla Protezione Civile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  <a:ea typeface="Arial"/>
              </a:rPr>
              <a:t>Si registra un incremento anche della spesa per Dispositivi Medici, quale effetto dell’aumento dell’attività programmata, dei Dispositivi Diagnostici di laboratorio correlati alla pandemia Covid-19, dei DM rivolti a pazienti diabetici, nonché dei Vaccini antinfluenzali.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5" name="Immagine 1" descr=""/>
          <p:cNvPicPr/>
          <p:nvPr/>
        </p:nvPicPr>
        <p:blipFill>
          <a:blip r:embed="rId2"/>
          <a:stretch/>
        </p:blipFill>
        <p:spPr>
          <a:xfrm>
            <a:off x="2451240" y="1144440"/>
            <a:ext cx="53355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Segnaposto numero diapositiva 1"/>
          <p:cNvSpPr/>
          <p:nvPr/>
        </p:nvSpPr>
        <p:spPr>
          <a:xfrm>
            <a:off x="699912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26AD-554B-4252-83F5-5B3C9C17192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7" name="Picture 5" descr="C:\Documents and Settings\Coglianese\Desktop\LOGO\SCRIVI.gif"/>
          <p:cNvPicPr/>
          <p:nvPr/>
        </p:nvPicPr>
        <p:blipFill>
          <a:blip r:embed="rId1"/>
          <a:stretch/>
        </p:blipFill>
        <p:spPr>
          <a:xfrm>
            <a:off x="971640" y="-47520"/>
            <a:ext cx="3209760" cy="884160"/>
          </a:xfrm>
          <a:prstGeom prst="rect">
            <a:avLst/>
          </a:prstGeom>
          <a:ln w="0">
            <a:noFill/>
          </a:ln>
        </p:spPr>
      </p:pic>
      <p:sp>
        <p:nvSpPr>
          <p:cNvPr id="1288" name="Text Box 15"/>
          <p:cNvSpPr/>
          <p:nvPr/>
        </p:nvSpPr>
        <p:spPr>
          <a:xfrm>
            <a:off x="5219640" y="189000"/>
            <a:ext cx="321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rebuchet MS"/>
              </a:rPr>
              <a:t>Acquisto servizi sanitari 2021-20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15"/>
          <p:cNvSpPr/>
          <p:nvPr/>
        </p:nvSpPr>
        <p:spPr>
          <a:xfrm>
            <a:off x="1116000" y="3672000"/>
            <a:ext cx="7920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  <a:ea typeface="Arial"/>
              </a:rPr>
              <a:t>L’aggregato di spesa per servizi sanitari osserva nel 2021 una variazione in incremento di € 10,638 milioni rispetto al consuntivo 2020 (+7,3%). Oltre il 50% della variazione in aumento rispetto al precedente esercizio è determinato dalla </a:t>
            </a:r>
            <a:r>
              <a:rPr b="1" lang="it-IT" sz="900" spc="-1" strike="noStrike">
                <a:solidFill>
                  <a:srgbClr val="339966"/>
                </a:solidFill>
                <a:latin typeface="Arial"/>
                <a:ea typeface="Arial"/>
              </a:rPr>
              <a:t>mobilità passiva</a:t>
            </a:r>
            <a:r>
              <a:rPr b="0" lang="it-IT" sz="900" spc="-1" strike="noStrike">
                <a:solidFill>
                  <a:srgbClr val="000000"/>
                </a:solidFill>
                <a:latin typeface="Arial"/>
                <a:ea typeface="Arial"/>
              </a:rPr>
              <a:t> che presenta una spesa in aumento di € +5,235 milioni. Al netto della mobilità passiva, la variazione per l’acquisto di servizi sanitari, presenta un aumento di € 5,742 milioni rispetto al consuntivo 2020 (+5,2%). Le principali variazioni riguardano i fattori di seguito elencati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  <a:ea typeface="Arial"/>
              </a:rPr>
              <a:t>Diagnostica di laboratorio per tamponi molecolari COVID: + € 2,595 milion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  <a:ea typeface="Arial"/>
              </a:rPr>
              <a:t>Degenze - Case di Cura: + € 955 mil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  <a:ea typeface="Arial"/>
              </a:rPr>
              <a:t>Farmaceutica Convenzionata (compresa la remunerazione aggiuntiva): + € 238 mil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  <a:ea typeface="Arial"/>
              </a:rPr>
              <a:t>Diagnostica di laboratorio (LUM): + € 217 mil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  <a:ea typeface="Arial"/>
              </a:rPr>
              <a:t>Medicina di base – Continuità assistenziale – PLS: + € 238 mil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  <a:ea typeface="Arial"/>
              </a:rPr>
              <a:t>Assistenza termale: + € 143 mil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  <a:ea typeface="Arial"/>
              </a:rPr>
              <a:t>Test sierologici COVID (farmacie territorio): + € 284 mil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  <a:ea typeface="Arial"/>
              </a:rPr>
              <a:t>Rimborsi di DPI a strutture socio sanitarie: + € 142 mil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  <a:ea typeface="Arial"/>
              </a:rPr>
              <a:t>Accordo SPDH utilizzo piattaforma chirurgica: + € 131 mil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  <a:ea typeface="Arial"/>
              </a:rPr>
              <a:t>Servizio distribuzione farmaci «per conto»: + € 82 mil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0" name="Immagine 1" descr=""/>
          <p:cNvPicPr/>
          <p:nvPr/>
        </p:nvPicPr>
        <p:blipFill>
          <a:blip r:embed="rId2"/>
          <a:stretch/>
        </p:blipFill>
        <p:spPr>
          <a:xfrm>
            <a:off x="2340000" y="1197000"/>
            <a:ext cx="511164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Segnaposto numero diapositiva 1"/>
          <p:cNvSpPr/>
          <p:nvPr/>
        </p:nvSpPr>
        <p:spPr>
          <a:xfrm>
            <a:off x="699912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3C66-B64D-4E3F-A9CA-BA8BCDC236D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2" name="Picture 5" descr="C:\Documents and Settings\Coglianese\Desktop\LOGO\SCRIVI.gif"/>
          <p:cNvPicPr/>
          <p:nvPr/>
        </p:nvPicPr>
        <p:blipFill>
          <a:blip r:embed="rId1"/>
          <a:stretch/>
        </p:blipFill>
        <p:spPr>
          <a:xfrm>
            <a:off x="971640" y="-47520"/>
            <a:ext cx="3209760" cy="884160"/>
          </a:xfrm>
          <a:prstGeom prst="rect">
            <a:avLst/>
          </a:prstGeom>
          <a:ln w="0">
            <a:noFill/>
          </a:ln>
        </p:spPr>
      </p:pic>
      <p:sp>
        <p:nvSpPr>
          <p:cNvPr id="1293" name="Text Box 15"/>
          <p:cNvSpPr/>
          <p:nvPr/>
        </p:nvSpPr>
        <p:spPr>
          <a:xfrm>
            <a:off x="5241960" y="307800"/>
            <a:ext cx="32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rebuchet MS"/>
              </a:rPr>
              <a:t>Mobilità Pass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4" name="Picture 2" descr=""/>
          <p:cNvPicPr/>
          <p:nvPr/>
        </p:nvPicPr>
        <p:blipFill>
          <a:blip r:embed="rId2"/>
          <a:stretch/>
        </p:blipFill>
        <p:spPr>
          <a:xfrm>
            <a:off x="2050920" y="1298520"/>
            <a:ext cx="5718240" cy="2370240"/>
          </a:xfrm>
          <a:prstGeom prst="rect">
            <a:avLst/>
          </a:prstGeom>
          <a:ln w="0">
            <a:noFill/>
          </a:ln>
        </p:spPr>
      </p:pic>
      <p:sp>
        <p:nvSpPr>
          <p:cNvPr id="1295" name="CasellaDiTesto 13"/>
          <p:cNvSpPr/>
          <p:nvPr/>
        </p:nvSpPr>
        <p:spPr>
          <a:xfrm>
            <a:off x="1258920" y="3789360"/>
            <a:ext cx="770580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all’analisi di dettaglio dei valori di mobilità passiva, si evince che il 70% dell’incremento riguarda l’ambito della degenza ospedaliera che presenta una variazione di € +3,700 milioni (+18,1%) rispetto al precedente esercizio. La maggiore produzione verso residenti imolesi si concentra sulle seguenti Aziend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buClr>
                <a:srgbClr val="009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RCSS – Azienda Ospedaliero Universitaria di Bologna la cui produzione registra un incremento del +19% rispetto al 2020 per un valore pari a € + 1,970 milion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buClr>
                <a:srgbClr val="009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USL di Bologna la cui produzione registra un aumento del +10% (€ + 509 mila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buClr>
                <a:srgbClr val="009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OR Istituto Ortopedico Rizzoli, la cui produzione è incrementata del 51% con una variazione di € +655 mil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e variazioni sono conseguenti alla ripresa delle attività programmate; si deve anche tenere conto che la produzione dell’IRCSS – AOU Bologna e dell’AUSL di Bologna comprendono la casistica Covid-19 in degenza per la concentrazione su tali Aziende delle terapie intensive Covid. La valorizzazione delle degenze Covid-19 ammonta complessivamente tra le due Aziende a € 3.244.520, di cui € 1.872.612 verso AUSL Bologna ed € 1.371.908 verso IRCSS-AOU Bologn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Segnaposto numero diapositiva 1"/>
          <p:cNvSpPr/>
          <p:nvPr/>
        </p:nvSpPr>
        <p:spPr>
          <a:xfrm>
            <a:off x="7010280" y="636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0BB2-04EC-407B-9C16-74825A9AB2B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7" name="Picture 5" descr="C:\Documents and Settings\Coglianese\Desktop\LOGO\SCRIVI.gif"/>
          <p:cNvPicPr/>
          <p:nvPr/>
        </p:nvPicPr>
        <p:blipFill>
          <a:blip r:embed="rId1"/>
          <a:stretch/>
        </p:blipFill>
        <p:spPr>
          <a:xfrm>
            <a:off x="971640" y="-47520"/>
            <a:ext cx="3209760" cy="884160"/>
          </a:xfrm>
          <a:prstGeom prst="rect">
            <a:avLst/>
          </a:prstGeom>
          <a:ln w="0">
            <a:noFill/>
          </a:ln>
        </p:spPr>
      </p:pic>
      <p:sp>
        <p:nvSpPr>
          <p:cNvPr id="1298" name="Text Box 15"/>
          <p:cNvSpPr/>
          <p:nvPr/>
        </p:nvSpPr>
        <p:spPr>
          <a:xfrm>
            <a:off x="5219640" y="189000"/>
            <a:ext cx="292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rebuchet MS"/>
              </a:rPr>
              <a:t>Farmaceutica Convenzion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 Box 15"/>
          <p:cNvSpPr/>
          <p:nvPr/>
        </p:nvSpPr>
        <p:spPr>
          <a:xfrm>
            <a:off x="1332000" y="4292640"/>
            <a:ext cx="748800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  <a:ea typeface="Arial"/>
              </a:rPr>
              <a:t>In relazione alla farmaceutica convenzionata la programmazione aziendale per il 2021 prevedeva un incremento del +0,8% con un obiettivo regionale per l’anno 2021 era pari ad un aumento medio del +0,1%. Il consuntivo 2021 registra un incremento della spesa convenzionata netta del +0,5% rispetto all’esercizio 2020 pari a € +92.484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  <a:ea typeface="Arial"/>
              </a:rPr>
              <a:t>L’assistenza farmaceutica comprende inoltre un incremento pari a € +145.932 relativo alla remunerazione aggiuntiva verso le farmacie del territorio per il rimborso dei farmaci erogati in regime di SSN, in applicazione del Decreto 11 agosto 2021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0" name="Immagine 1" descr=""/>
          <p:cNvPicPr/>
          <p:nvPr/>
        </p:nvPicPr>
        <p:blipFill>
          <a:blip r:embed="rId2"/>
          <a:stretch/>
        </p:blipFill>
        <p:spPr>
          <a:xfrm>
            <a:off x="2238480" y="1457280"/>
            <a:ext cx="562932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Segnaposto numero diapositiva 1"/>
          <p:cNvSpPr/>
          <p:nvPr/>
        </p:nvSpPr>
        <p:spPr>
          <a:xfrm>
            <a:off x="7010280" y="636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E3AA-B203-493A-8C4C-5258C286BF0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2" name="Picture 5" descr="C:\Documents and Settings\Coglianese\Desktop\LOGO\SCRIVI.gif"/>
          <p:cNvPicPr/>
          <p:nvPr/>
        </p:nvPicPr>
        <p:blipFill>
          <a:blip r:embed="rId1"/>
          <a:stretch/>
        </p:blipFill>
        <p:spPr>
          <a:xfrm>
            <a:off x="971640" y="-47520"/>
            <a:ext cx="3209760" cy="884160"/>
          </a:xfrm>
          <a:prstGeom prst="rect">
            <a:avLst/>
          </a:prstGeom>
          <a:ln w="0">
            <a:noFill/>
          </a:ln>
        </p:spPr>
      </p:pic>
      <p:sp>
        <p:nvSpPr>
          <p:cNvPr id="1303" name="Text Box 15"/>
          <p:cNvSpPr/>
          <p:nvPr/>
        </p:nvSpPr>
        <p:spPr>
          <a:xfrm>
            <a:off x="5724360" y="128520"/>
            <a:ext cx="292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rebuchet MS"/>
              </a:rPr>
              <a:t>Spesa Assistenza Farmaceu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Text Box 15"/>
          <p:cNvSpPr/>
          <p:nvPr/>
        </p:nvSpPr>
        <p:spPr>
          <a:xfrm>
            <a:off x="1116000" y="5113440"/>
            <a:ext cx="79200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La spesa complessiva 2021 (convenzionata + acquisto ospedaliero) registra un incremento del +3,9% rispetto al consuntivo 2020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339966"/>
                </a:solidFill>
                <a:latin typeface="Arial"/>
                <a:ea typeface="Arial"/>
              </a:rPr>
              <a:t>Acquisto Ospedaliero di Farmaci.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Si osserva un incremento (2021 vs 2020) pari a +6,1% a fronte di una media RER del +9,6%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La spesa in incremento riguarda prevalentemente la Distribuzione diretta di Farmaci per malattie rare e per Distribuzione «per conto» da parte delle farmaci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La spesa territoriale netta pro capite pesata 2021 è pari a 183,46 con uno scostamento dalla media RER di € 3,74. Tale scostamento risulta inferiore rispetto allo scostamento dalla media RER che si era registrato nel 2020 (€ 5,19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5" name="Immagine 1" descr=""/>
          <p:cNvPicPr/>
          <p:nvPr/>
        </p:nvPicPr>
        <p:blipFill>
          <a:blip r:embed="rId2"/>
          <a:stretch/>
        </p:blipFill>
        <p:spPr>
          <a:xfrm>
            <a:off x="2031840" y="1155600"/>
            <a:ext cx="616284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3T08:57:11Z</dcterms:created>
  <dc:creator>Coglianese</dc:creator>
  <dc:description/>
  <dc:language>en-US</dc:language>
  <cp:lastModifiedBy>Dell'orto Alessandra</cp:lastModifiedBy>
  <cp:lastPrinted>2022-06-01T12:07:05Z</cp:lastPrinted>
  <dcterms:modified xsi:type="dcterms:W3CDTF">2022-06-06T07:38:27Z</dcterms:modified>
  <cp:revision>769</cp:revision>
  <dc:subject/>
  <dc:title>Presentazione di PowerPoint</dc:title>
</cp:coreProperties>
</file>