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D5F1B4-F214-410D-AAA3-3DEA714BAC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348E07-4B84-4304-9FFD-EBCADF41AB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FFF3E0-E8DF-4FF6-8C26-68430BB9D0C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0472EE-2AC3-43BC-9CB3-DC1363EF9F2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BC5BB1-FCB2-476F-B826-168F0E73AE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AA7252-5CD0-4FF1-A20F-1C7E763682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96FC3A-3482-4A7A-A321-BC28D7D3877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0246F1-3C18-495A-88FA-D05F9F9A48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83AFB3-97F8-42CF-B4ED-27A91E1597F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2874C2-A66F-4FF5-9830-E2D2102BB59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EAD81F-00C0-4648-BB5F-F251AAE9B3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219-2F9A-46D1-9F7C-5C9E4C7E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099B-00A3-4B28-ACB0-01FFA0E4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E41-BC3A-4DF3-86EF-51F3BD98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9F3-59B0-4F57-81A8-553BAE7B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68F-A310-4264-B6E6-70B633CF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E301-8DD9-49E7-BF79-C95CD71F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21B-9E14-413E-AA9B-AEB117A1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642-FA33-461A-828A-B77983F3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F53-B28A-4E6B-83C3-FDB26080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C27-9D8A-4E8E-8BD9-382DECD9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AC6-3D7F-461F-8367-DFFFA43E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2AC-17B1-4B9D-BAB0-6D33BF8A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43A3-C6D7-410D-BCB5-1DCBCC545C4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2133720"/>
            <a:ext cx="878544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000000"/>
                </a:solidFill>
                <a:latin typeface="Cambria"/>
              </a:rPr>
              <a:t>VACCINAZIONE COVID-19 NELL’ AZIENDA USL DI IMOLA</a:t>
            </a:r>
            <a:endParaRPr b="0" lang="en-US" sz="5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79280" y="522936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CTSS Metropolitana di Bologna, 10/06/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79280" y="484344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NDREA ROS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/1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8" name="Immagine 3" descr=""/>
          <p:cNvPicPr/>
          <p:nvPr/>
        </p:nvPicPr>
        <p:blipFill>
          <a:blip r:embed="rId4"/>
          <a:stretch/>
        </p:blipFill>
        <p:spPr>
          <a:xfrm>
            <a:off x="5986440" y="5594400"/>
            <a:ext cx="3122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0/1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20520" y="119700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CRUSCOTTO INDICATORI AGENAS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1" name="Immagine 1" descr=""/>
          <p:cNvPicPr/>
          <p:nvPr/>
        </p:nvPicPr>
        <p:blipFill>
          <a:blip r:embed="rId4"/>
          <a:stretch/>
        </p:blipFill>
        <p:spPr>
          <a:xfrm>
            <a:off x="826920" y="1636560"/>
            <a:ext cx="74455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0520" y="14130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PUNTI VACCINALI TERRITORIALI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-1810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/1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304920" y="261792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Auditorium Osservanza Imola 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04920" y="5445000"/>
            <a:ext cx="84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entro Congressi Artemide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astel S.Pietro Terme  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04920" y="413064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S La Tozzona Imola 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0" name="Immagine 2" descr=""/>
          <p:cNvPicPr/>
          <p:nvPr/>
        </p:nvPicPr>
        <p:blipFill>
          <a:blip r:embed="rId4"/>
          <a:stretch/>
        </p:blipFill>
        <p:spPr>
          <a:xfrm>
            <a:off x="6485040" y="3753000"/>
            <a:ext cx="2260440" cy="1331640"/>
          </a:xfrm>
          <a:prstGeom prst="rect">
            <a:avLst/>
          </a:prstGeom>
          <a:ln w="0">
            <a:noFill/>
          </a:ln>
        </p:spPr>
      </p:pic>
      <p:pic>
        <p:nvPicPr>
          <p:cNvPr id="71" name="Immagine 3" descr=""/>
          <p:cNvPicPr/>
          <p:nvPr/>
        </p:nvPicPr>
        <p:blipFill>
          <a:blip r:embed="rId5"/>
          <a:stretch/>
        </p:blipFill>
        <p:spPr>
          <a:xfrm>
            <a:off x="6485040" y="5297400"/>
            <a:ext cx="226368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Immagine 4" descr=""/>
          <p:cNvPicPr/>
          <p:nvPr/>
        </p:nvPicPr>
        <p:blipFill>
          <a:blip r:embed="rId6"/>
          <a:stretch/>
        </p:blipFill>
        <p:spPr>
          <a:xfrm>
            <a:off x="6485040" y="2205000"/>
            <a:ext cx="2260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20" y="154944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PUNTI VACCINALI SPOK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/1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0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1"/>
          <p:cNvSpPr/>
          <p:nvPr/>
        </p:nvSpPr>
        <p:spPr>
          <a:xfrm>
            <a:off x="304920" y="261792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asa della Salute di Castel S.Pietro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304920" y="3645000"/>
            <a:ext cx="84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asa della Salute di Medicina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324000" y="4705200"/>
            <a:ext cx="84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Casa della Salute Val Santerno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4" name="Immagine 1" descr=""/>
          <p:cNvPicPr/>
          <p:nvPr/>
        </p:nvPicPr>
        <p:blipFill>
          <a:blip r:embed="rId4"/>
          <a:stretch/>
        </p:blipFill>
        <p:spPr>
          <a:xfrm>
            <a:off x="7020000" y="2278080"/>
            <a:ext cx="1631880" cy="1222200"/>
          </a:xfrm>
          <a:prstGeom prst="rect">
            <a:avLst/>
          </a:prstGeom>
          <a:ln w="0">
            <a:noFill/>
          </a:ln>
        </p:spPr>
      </p:pic>
      <p:pic>
        <p:nvPicPr>
          <p:cNvPr id="85" name="Immagine 2" descr=""/>
          <p:cNvPicPr/>
          <p:nvPr/>
        </p:nvPicPr>
        <p:blipFill>
          <a:blip r:embed="rId5"/>
          <a:stretch/>
        </p:blipFill>
        <p:spPr>
          <a:xfrm>
            <a:off x="7020000" y="3730680"/>
            <a:ext cx="1616040" cy="1211040"/>
          </a:xfrm>
          <a:prstGeom prst="rect">
            <a:avLst/>
          </a:prstGeom>
          <a:ln w="0">
            <a:noFill/>
          </a:ln>
        </p:spPr>
      </p:pic>
      <p:pic>
        <p:nvPicPr>
          <p:cNvPr id="86" name="Immagine 3" descr=""/>
          <p:cNvPicPr/>
          <p:nvPr/>
        </p:nvPicPr>
        <p:blipFill>
          <a:blip r:embed="rId6"/>
          <a:stretch/>
        </p:blipFill>
        <p:spPr>
          <a:xfrm>
            <a:off x="7010280" y="5238720"/>
            <a:ext cx="16257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20520" y="154944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HUB VACCINALE INDUSTRIA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4/1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304920" y="364500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Medical Center Autodromo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6" name="Immagine 1" descr=""/>
          <p:cNvPicPr/>
          <p:nvPr/>
        </p:nvPicPr>
        <p:blipFill>
          <a:blip r:embed="rId4"/>
          <a:stretch/>
        </p:blipFill>
        <p:spPr>
          <a:xfrm>
            <a:off x="4937040" y="2619360"/>
            <a:ext cx="366732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0520" y="13320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ACCORDO MMG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5/1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1"/>
          <p:cNvSpPr/>
          <p:nvPr/>
        </p:nvSpPr>
        <p:spPr>
          <a:xfrm>
            <a:off x="304920" y="1989000"/>
            <a:ext cx="84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Vaccinazione presso le Medicine di Gruppo (Castel Guelfo, Mordano, Q. Pedagna (2), Q. Centro (2), Q. Zona Industriale, Q. Campanella 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304920" y="3500280"/>
            <a:ext cx="84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2) Vaccinazione presso Case della Salute di Medicina, Castel S.Pietro e Borgo Tossignano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24000" y="458136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3) Vaccinazione nel PVT Tozzona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4000" y="530064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4) Vaccinazione ambulatori MMG Val Santerno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0520" y="1312920"/>
            <a:ext cx="9123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ambria"/>
              </a:rPr>
              <a:t>DOSI SOMMINISTRATE X CATEGORIE TARGET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08000" y="6488280"/>
            <a:ext cx="8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6/1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7" name="Immagine 1" descr=""/>
          <p:cNvPicPr/>
          <p:nvPr/>
        </p:nvPicPr>
        <p:blipFill>
          <a:blip r:embed="rId4"/>
          <a:stretch/>
        </p:blipFill>
        <p:spPr>
          <a:xfrm>
            <a:off x="865080" y="1873080"/>
            <a:ext cx="741384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20520" y="1125360"/>
            <a:ext cx="9123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PER COMUNE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5" name="Immagine 1" descr=""/>
          <p:cNvPicPr/>
          <p:nvPr/>
        </p:nvPicPr>
        <p:blipFill>
          <a:blip r:embed="rId4"/>
          <a:stretch/>
        </p:blipFill>
        <p:spPr>
          <a:xfrm>
            <a:off x="34920" y="1484280"/>
            <a:ext cx="90741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20520" y="1263600"/>
            <a:ext cx="9123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PER TARGET DI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3" name="Immagine 1" descr=""/>
          <p:cNvPicPr/>
          <p:nvPr/>
        </p:nvPicPr>
        <p:blipFill>
          <a:blip r:embed="rId4"/>
          <a:stretch/>
        </p:blipFill>
        <p:spPr>
          <a:xfrm>
            <a:off x="20520" y="1844640"/>
            <a:ext cx="90885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20520" y="1241280"/>
            <a:ext cx="9123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PRIM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9/1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2" name="Immagine 1" descr=""/>
          <p:cNvPicPr/>
          <p:nvPr/>
        </p:nvPicPr>
        <p:blipFill>
          <a:blip r:embed="rId4"/>
          <a:stretch/>
        </p:blipFill>
        <p:spPr>
          <a:xfrm>
            <a:off x="108000" y="1719360"/>
            <a:ext cx="89074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Rossi Andrea</cp:lastModifiedBy>
  <cp:lastPrinted>2021-05-20T13:37:30Z</cp:lastPrinted>
  <dcterms:modified xsi:type="dcterms:W3CDTF">2021-06-10T12:47:46Z</dcterms:modified>
  <cp:revision>1086</cp:revision>
  <dc:subject/>
  <dc:title>Presentazione di PowerPoint</dc:title>
</cp:coreProperties>
</file>