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.jpeg" ContentType="image/jpeg"/>
  <Override PartName="/ppt/media/image1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B37CB9-531F-4216-A757-6855A72DC4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814E6F-1224-4C11-9401-7B196A254E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4DD96E-F270-458C-9005-5AA75E29B0E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3352A3-ECA5-4BDD-BDD3-9F78BDDAAAC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F9C743-1B94-42F9-9E05-A4ADA24F2E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61A270-7EF7-49B7-900D-629CB78390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27085C-918C-417A-A15D-07355753343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ED2FDE-DDFA-41A6-A3B5-826E3B2732C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74BE21-11FA-46E0-97F4-B2AC1FDC791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88D112-BEC9-4BEC-9DD9-EA6FB074BA9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9FD5FB-830E-4B28-AC71-4A1ECFD3FE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C94ED2-9356-48A8-8251-33AFD809600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34C680-D6C3-4FA4-A207-421DCAF4ED7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D83CF2-811A-4ABE-96BD-A00F3768F3F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5A8D24-48A9-4D9B-8FF3-64797B554E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12C9BE1-D0BD-4291-9DDD-C4A89B396B1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EDBFF3-8479-4011-A82D-D43E836336E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8F8E38-3B66-4F08-A0BE-152780A3E0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475A9F-B224-42B4-9BB5-644F0CCD0D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997650-229E-4480-8CE8-504C4653FA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F86CCA-94F6-4196-BCB0-AB7BF62705F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D9E459-8151-44F7-AFCA-9C0C638AF1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7D85E9-00C8-427C-B411-8006789102E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7BE38C-A41F-4B89-B6F9-919FAAD35D6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A76A78-C48C-4698-8018-FA5096BE57B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B1AC9B-B3B9-4D44-B932-7498FC1768B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ECF0F9-D6D2-4F67-8512-B9D0395F696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5A1F46-14D7-49C3-899C-A6860B680A1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67D17E-F48C-463B-ABED-A41AB9A7B9D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7A4D21-BFDE-45B2-8A4B-D7DF5808F92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B10863-CBE3-4949-911D-7C59ED23241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8D8-F8B2-465F-AA91-6BA773E6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14E-6584-4E19-811A-F2D0AEAF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B6C-56A8-4FFD-9B6D-C35F747E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956-F3F9-47C6-A215-E78EB39E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42CD-0D7D-40A9-9C6F-C9A1537C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03D-67E6-4E26-B575-72B93A25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11B-2C4F-4C03-A5B5-0B80085B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E86-9B76-429E-9549-CC300107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506-2233-4EEF-A36D-D503C980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1E6-2B4B-4878-93C4-0CB9D78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94C-2525-4BDC-8ADF-5787B143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6F9-1CC7-4F8D-89D1-3D1C0250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99E9-6527-436E-95DC-5A18F0889D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2133720"/>
            <a:ext cx="878544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000000"/>
                </a:solidFill>
                <a:latin typeface="Cambria"/>
              </a:rPr>
              <a:t>BOLLETTINO SETTIMANALE COVID-19 DELL’ AZIENDA USL DI IMOLA</a:t>
            </a:r>
            <a:endParaRPr b="0" lang="en-US" sz="5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79280" y="58514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Comitato di Distretto, Nuovo Circondario Imolese, 8/06/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79280" y="54198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NDREA ROS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8" name="Immagine 1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1128600" cy="113364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1" descr=""/>
          <p:cNvPicPr/>
          <p:nvPr/>
        </p:nvPicPr>
        <p:blipFill>
          <a:blip r:embed="rId5"/>
          <a:stretch/>
        </p:blipFill>
        <p:spPr>
          <a:xfrm>
            <a:off x="6553080" y="4371840"/>
            <a:ext cx="248292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misure di occorrenza x 100.000 abitanti, al 7/06/21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0520" y="1306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RIEPILOGO PER COMUN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0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8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84" name="Immagine 1" descr=""/>
          <p:cNvPicPr/>
          <p:nvPr/>
        </p:nvPicPr>
        <p:blipFill>
          <a:blip r:embed="rId4"/>
          <a:stretch/>
        </p:blipFill>
        <p:spPr>
          <a:xfrm>
            <a:off x="1211400" y="2133720"/>
            <a:ext cx="68166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revalenza di casi attivi x 100.000 abitanti, al 7/06/21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8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0520" y="1306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ASI ATTIVI PER COMUN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1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94" name="Immagine 2" descr=""/>
          <p:cNvPicPr/>
          <p:nvPr/>
        </p:nvPicPr>
        <p:blipFill>
          <a:blip r:embed="rId4"/>
          <a:stretch/>
        </p:blipFill>
        <p:spPr>
          <a:xfrm>
            <a:off x="108000" y="2052720"/>
            <a:ext cx="89535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179280" y="2038320"/>
            <a:ext cx="8785440" cy="4390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di incidenza per 100.000 abitanti residenti al 7/06/21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8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0520" y="1233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INCIDENZA 7 GG PER COMUN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2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4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5" name="Connettore 1 2"/>
          <p:cNvSpPr/>
          <p:nvPr/>
        </p:nvSpPr>
        <p:spPr>
          <a:xfrm>
            <a:off x="684360" y="4221000"/>
            <a:ext cx="81356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Immagine 1" descr=""/>
          <p:cNvPicPr/>
          <p:nvPr/>
        </p:nvPicPr>
        <p:blipFill>
          <a:blip r:embed="rId1"/>
          <a:stretch/>
        </p:blipFill>
        <p:spPr>
          <a:xfrm>
            <a:off x="1614600" y="1989000"/>
            <a:ext cx="5914800" cy="4775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percentuali di casi attivi al 7/06/21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9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8"/>
          <p:cNvSpPr/>
          <p:nvPr/>
        </p:nvSpPr>
        <p:spPr>
          <a:xfrm>
            <a:off x="1787400" y="155736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0520" y="137808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PER SETTING DI ISOLAMENTO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3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5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6" name="CasellaDiTesto 4"/>
          <p:cNvSpPr/>
          <p:nvPr/>
        </p:nvSpPr>
        <p:spPr>
          <a:xfrm>
            <a:off x="5599080" y="184464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5 (4,7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7" name="CasellaDiTesto 14"/>
          <p:cNvSpPr/>
          <p:nvPr/>
        </p:nvSpPr>
        <p:spPr>
          <a:xfrm>
            <a:off x="6392880" y="21337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6 (5,7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8" name="CasellaDiTesto 16"/>
          <p:cNvSpPr/>
          <p:nvPr/>
        </p:nvSpPr>
        <p:spPr>
          <a:xfrm>
            <a:off x="4779360" y="602136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95 (89,6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9" name="CasellaDiTesto 16"/>
          <p:cNvSpPr/>
          <p:nvPr/>
        </p:nvSpPr>
        <p:spPr>
          <a:xfrm>
            <a:off x="4694400" y="3894120"/>
            <a:ext cx="133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TOTALE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106 CA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7/06/2021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PL OCCUPATI COVID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4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29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0" name="Immagine 1" descr=""/>
          <p:cNvPicPr/>
          <p:nvPr/>
        </p:nvPicPr>
        <p:blipFill>
          <a:blip r:embed="rId4"/>
          <a:stretch/>
        </p:blipFill>
        <p:spPr>
          <a:xfrm>
            <a:off x="166680" y="1989000"/>
            <a:ext cx="881064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0520" y="16286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I CASI ATTIVI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5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1"/>
          <p:cNvSpPr/>
          <p:nvPr/>
        </p:nvSpPr>
        <p:spPr>
          <a:xfrm>
            <a:off x="304920" y="2708280"/>
            <a:ext cx="858816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Cambria"/>
              </a:rPr>
              <a:t>Casi Attivi: 106 (-61)</a:t>
            </a:r>
            <a:endParaRPr b="0" lang="en-US" sz="29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Cambria"/>
              </a:rPr>
              <a:t>Soggetti in Quarantena: 282 (-55) </a:t>
            </a:r>
            <a:endParaRPr b="0" lang="en-US" sz="29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Cambria"/>
              </a:rPr>
              <a:t>Q / Attivi: 2,66</a:t>
            </a:r>
            <a:endParaRPr b="0" lang="en-US" sz="29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Cambria"/>
              </a:rPr>
              <a:t>Età media nuovi casi: 32,1 aa. (-1)</a:t>
            </a:r>
            <a:endParaRPr b="0" lang="en-US" sz="29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Cambria"/>
              </a:rPr>
              <a:t>Casi Asintomatici: 40,0% </a:t>
            </a:r>
            <a:endParaRPr b="0" lang="en-US" sz="29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Cambria"/>
              </a:rPr>
              <a:t>Casi Sintomatici: 60,0%</a:t>
            </a:r>
            <a:r>
              <a:rPr b="1" lang="it-IT" sz="2900" spc="-1" strike="noStrike">
                <a:solidFill>
                  <a:srgbClr val="3333cc"/>
                </a:solidFill>
                <a:latin typeface="Cambria"/>
              </a:rPr>
              <a:t>	</a:t>
            </a:r>
            <a:r>
              <a:rPr b="1" lang="it-IT" sz="2900" spc="-1" strike="noStrike">
                <a:solidFill>
                  <a:srgbClr val="3333cc"/>
                </a:solidFill>
                <a:latin typeface="Cambria"/>
              </a:rPr>
              <a:t>	</a:t>
            </a:r>
            <a:endParaRPr b="0" lang="en-US" sz="29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7/06/2021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20520" y="126828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DECESSI PER SETTIMANA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6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249" name="Immagine 1" descr=""/>
          <p:cNvPicPr/>
          <p:nvPr/>
        </p:nvPicPr>
        <p:blipFill>
          <a:blip r:embed="rId4"/>
          <a:stretch/>
        </p:blipFill>
        <p:spPr>
          <a:xfrm>
            <a:off x="96840" y="1954080"/>
            <a:ext cx="893916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1"/>
          <p:cNvSpPr/>
          <p:nvPr/>
        </p:nvSpPr>
        <p:spPr>
          <a:xfrm>
            <a:off x="108000" y="65055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Tassi grezzi di mortalità x 1.000 ab. al 7/06/2021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DECESSI PER COMUN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7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1"/>
          <p:cNvSpPr/>
          <p:nvPr/>
        </p:nvSpPr>
        <p:spPr>
          <a:xfrm>
            <a:off x="395280" y="2060640"/>
            <a:ext cx="648036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Totale: 339 (+1) (171M; 168F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Età media: 82,3 aa. (12-102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Imola: 188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S.Pietro: 4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Borgo Tossignano: 13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edicina: 43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Fontanelic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Guelfo: 6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Dozza: 9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del Rio: 4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alfiumanese: 5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ordano: 6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Extra CI: 1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0" name="Immagine 1" descr=""/>
          <p:cNvPicPr/>
          <p:nvPr/>
        </p:nvPicPr>
        <p:blipFill>
          <a:blip r:embed="rId4"/>
          <a:stretch/>
        </p:blipFill>
        <p:spPr>
          <a:xfrm>
            <a:off x="2627280" y="3267000"/>
            <a:ext cx="63295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1"/>
          <p:cNvSpPr/>
          <p:nvPr/>
        </p:nvSpPr>
        <p:spPr>
          <a:xfrm>
            <a:off x="57240" y="64659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7/06/2021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DECESSI PER CLASSI DI ETA’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8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270" name="Immagine 1" descr=""/>
          <p:cNvPicPr/>
          <p:nvPr/>
        </p:nvPicPr>
        <p:blipFill>
          <a:blip r:embed="rId4"/>
          <a:stretch/>
        </p:blipFill>
        <p:spPr>
          <a:xfrm>
            <a:off x="262080" y="1925640"/>
            <a:ext cx="858024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grezzi di mortalità specifica x 1.000 abitanti, al 7/06/2021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0520" y="1341360"/>
            <a:ext cx="9123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cc"/>
                </a:solidFill>
                <a:latin typeface="Cambria"/>
              </a:rPr>
              <a:t>TASSI DI MORTALITA’ COVID-19</a:t>
            </a:r>
            <a:endParaRPr b="0" lang="en-US" sz="4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9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280" name="Immagine 1" descr=""/>
          <p:cNvPicPr/>
          <p:nvPr/>
        </p:nvPicPr>
        <p:blipFill>
          <a:blip r:embed="rId4"/>
          <a:stretch/>
        </p:blipFill>
        <p:spPr>
          <a:xfrm>
            <a:off x="179280" y="2222640"/>
            <a:ext cx="87854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0520" y="140508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MESSAGGI CHIAV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-1810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108000" y="2108160"/>
            <a:ext cx="89280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4a Settimana Bianca con discesa  dell’incidenza settimanale e dell’ Rt; un solo decesso;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Azzeramento occupazione PL per acuti; leggero rialzo della proporzione di positivi al test;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Strutture LTC per anziani CoviD free; sporadici focolai familiari di  contagio; sorveglianza genomica (varianti);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Campagna vaccinale: andamento vaccinazioni, prenotazioni e proporzioni di copertura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8"/>
          <p:cNvSpPr/>
          <p:nvPr/>
        </p:nvSpPr>
        <p:spPr>
          <a:xfrm>
            <a:off x="1828800" y="14842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20520" y="148428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SINTESI RESIDENZE LTC*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0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1"/>
          <p:cNvSpPr/>
          <p:nvPr/>
        </p:nvSpPr>
        <p:spPr>
          <a:xfrm>
            <a:off x="449280" y="2492280"/>
            <a:ext cx="851544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44 Strutture CoviD Free</a:t>
            </a: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1" lang="it-IT" sz="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Operatori contagiati: 0 (-3) 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Ospiti contagiati: 0 (-2)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Operatori distaccati: 15 (-)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Ricoveri ospedalieri: 0 (-)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Decessi: 71  </a:t>
            </a: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(comprendono 10 casi sospetti tampone negativo)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79280" y="6237360"/>
            <a:ext cx="878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Cambria"/>
              </a:rPr>
              <a:t>*Long Term Care (LTC): ogni forma di cura fornita a persone non autosufficienti, per un periodo di tempo esteso, senza data di termine predefinita (OCSE). </a:t>
            </a:r>
            <a:endParaRPr b="0" lang="en-US" sz="9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20520" y="141300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MORTALITA’ IN RESIDENZ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1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1"/>
          <p:cNvSpPr/>
          <p:nvPr/>
        </p:nvSpPr>
        <p:spPr>
          <a:xfrm>
            <a:off x="250920" y="636120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roporzione della mortalità CoviD nelle Residenze, sul totale della mortalità specifica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0" name="Immagine 1" descr=""/>
          <p:cNvPicPr/>
          <p:nvPr/>
        </p:nvPicPr>
        <p:blipFill>
          <a:blip r:embed="rId4"/>
          <a:stretch/>
        </p:blipFill>
        <p:spPr>
          <a:xfrm>
            <a:off x="665280" y="2138400"/>
            <a:ext cx="78134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di prevalenza x 1.000 ab. X classi di età, al 7/06/21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20520" y="1413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CASI NELLE CLASSI DI ETA’ SCOLARE 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2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310" name="Immagine 1" descr=""/>
          <p:cNvPicPr/>
          <p:nvPr/>
        </p:nvPicPr>
        <p:blipFill>
          <a:blip r:embed="rId4"/>
          <a:stretch/>
        </p:blipFill>
        <p:spPr>
          <a:xfrm>
            <a:off x="47520" y="2057400"/>
            <a:ext cx="904896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3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20520" y="1522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ASI NELLE SCUOL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376200" y="2565360"/>
            <a:ext cx="8443800" cy="32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Nuovi casi gestiti: n. 7 (7) 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Nuovi casi secondari: n. 0 (-)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Classi sospese: 0 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Classi in quarantena: 1 (-)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4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9"/>
          <p:cNvSpPr/>
          <p:nvPr/>
        </p:nvSpPr>
        <p:spPr>
          <a:xfrm>
            <a:off x="20520" y="1233360"/>
            <a:ext cx="9123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cc"/>
                </a:solidFill>
                <a:latin typeface="Cambria"/>
              </a:rPr>
              <a:t>DOSI SOMMINISTRATE X TARGET</a:t>
            </a:r>
            <a:endParaRPr b="0" lang="en-US" sz="4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8" name="Immagine 2" descr=""/>
          <p:cNvPicPr/>
          <p:nvPr/>
        </p:nvPicPr>
        <p:blipFill>
          <a:blip r:embed="rId4"/>
          <a:stretch/>
        </p:blipFill>
        <p:spPr>
          <a:xfrm>
            <a:off x="1752480" y="1873080"/>
            <a:ext cx="54118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9"/>
          <p:cNvSpPr/>
          <p:nvPr/>
        </p:nvSpPr>
        <p:spPr>
          <a:xfrm>
            <a:off x="20520" y="114300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COPERTURE PER COMUNE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6" name="Immagine 1" descr=""/>
          <p:cNvPicPr/>
          <p:nvPr/>
        </p:nvPicPr>
        <p:blipFill>
          <a:blip r:embed="rId4"/>
          <a:stretch/>
        </p:blipFill>
        <p:spPr>
          <a:xfrm>
            <a:off x="20520" y="1557360"/>
            <a:ext cx="90885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9"/>
          <p:cNvSpPr/>
          <p:nvPr/>
        </p:nvSpPr>
        <p:spPr>
          <a:xfrm>
            <a:off x="20520" y="119700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OPERTURE PER ETA’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4" name="Immagine 2" descr=""/>
          <p:cNvPicPr/>
          <p:nvPr/>
        </p:nvPicPr>
        <p:blipFill>
          <a:blip r:embed="rId4"/>
          <a:stretch/>
        </p:blipFill>
        <p:spPr>
          <a:xfrm>
            <a:off x="119160" y="1773360"/>
            <a:ext cx="8916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7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9"/>
          <p:cNvSpPr/>
          <p:nvPr/>
        </p:nvSpPr>
        <p:spPr>
          <a:xfrm>
            <a:off x="20520" y="126828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OPERTURE PRIME DOSI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3" name="Immagine 1" descr=""/>
          <p:cNvPicPr/>
          <p:nvPr/>
        </p:nvPicPr>
        <p:blipFill>
          <a:blip r:embed="rId4"/>
          <a:stretch/>
        </p:blipFill>
        <p:spPr>
          <a:xfrm>
            <a:off x="179280" y="2130480"/>
            <a:ext cx="878544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8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0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9"/>
          <p:cNvSpPr/>
          <p:nvPr/>
        </p:nvSpPr>
        <p:spPr>
          <a:xfrm>
            <a:off x="20520" y="126828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VACCINAZIONE COVID-19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2" name="Rettangolo 1"/>
          <p:cNvSpPr/>
          <p:nvPr/>
        </p:nvSpPr>
        <p:spPr>
          <a:xfrm>
            <a:off x="250920" y="1916280"/>
            <a:ext cx="864216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Prime dosi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ver 85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: copertura 97,5%; prime dosi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80-84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: copertura 95,6%; prime dosi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75-79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: copertura 95,5%; prime dosi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70-74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: copertura 85,9%; prime dosi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65-69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: copertura 83,9%; prime dosi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60-64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: copertura 78,2%; prime dosi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55-59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: copertura 68,2%, termine 15 giugno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Vulnerabili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,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Disabili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,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Fragili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 e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aregivers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 completati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50-54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: 3.729 prenotati da MMG (vaccino Moderna); 642 da AUSL; 3.165 già vaccinati (29,3%); inizio 7 giugno, termine 21 giugno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40-49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: 7.642 candidati, prenotati dal 3 giugno; prenotazioni open dal 4 giugno; inizio 21 giugno, termine 8 luglio; 4.207 già vaccinati (19,6%)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4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9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VACCINAZIONE COVID-19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1" name="Rettangolo 1"/>
          <p:cNvSpPr/>
          <p:nvPr/>
        </p:nvSpPr>
        <p:spPr>
          <a:xfrm>
            <a:off x="250920" y="2079720"/>
            <a:ext cx="864216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Consegne vaccinali stabili in giugno, luglio e agosto (ritmo 1.200 dosi/die)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Da ieri prenotazioni 12-19 (3.342 /9.983); termine 25 luglio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Rallentamento prime dosi giugno per scarsa disponibilità; prestito 1.000 dosi Pfizer da Bologna e Romagna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Punto vaccinale temporaneo per aziende 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a Imola: avvio dall’8 giugno con 300 dosi/die per 10 giorni (totale 3.000)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Vaccinazione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personale Centri Estivi 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(~1.000; J&amp;J); vaccinazione </a:t>
            </a: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minori fragili 12-15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 (~250; Pfizer)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Obiettivi settimanali 28 maggio – 3 giugno (1.090) e 4 giugno – 10 giugno (1.200)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1"/>
          <p:cNvSpPr/>
          <p:nvPr/>
        </p:nvSpPr>
        <p:spPr>
          <a:xfrm>
            <a:off x="179280" y="64436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Media giornaliera di nuovi casi per settimana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NUOVI CASI / DI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78" name="Immagine 1" descr=""/>
          <p:cNvPicPr/>
          <p:nvPr/>
        </p:nvPicPr>
        <p:blipFill>
          <a:blip r:embed="rId4"/>
          <a:stretch/>
        </p:blipFill>
        <p:spPr>
          <a:xfrm>
            <a:off x="44280" y="2039760"/>
            <a:ext cx="9064800" cy="44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0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9" name="Rettangolo 1"/>
          <p:cNvSpPr/>
          <p:nvPr/>
        </p:nvSpPr>
        <p:spPr>
          <a:xfrm>
            <a:off x="250920" y="2241720"/>
            <a:ext cx="86421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Under 40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: prenotazione per fasce quinquennali (a cominciare dai 12-19 poi a scalare da 35-39) dal 7 al 18 giugno, con ingresso progressivo delle fasce di età successive ogni due giorni; termine prime dosi entro agosto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Recupero non aderenti 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(personale sanitario e sociosanitario per applicazione normativa sull’obbligo vaccinale e recall/sensibilizzazione ad opera MMG per i non aderenti);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pen Day </a:t>
            </a:r>
            <a:r>
              <a:rPr b="1" lang="it-IT" sz="2300" spc="-1" strike="noStrike">
                <a:solidFill>
                  <a:srgbClr val="000000"/>
                </a:solidFill>
                <a:latin typeface="Cambria"/>
                <a:ea typeface="Calibri"/>
              </a:rPr>
              <a:t>vaccinali J&amp;J presso farmacie aderenti o presso spazi liberi negli Hub vaccinali, previa candidatura, fatta salva disponibilità di vaccino.</a:t>
            </a:r>
            <a:endParaRPr b="0" lang="en-US" sz="23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20520" y="145080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VACCINAZIONE COVID-19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RICOVERI COVID/SETT.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4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179280" y="64436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Nuove ammissioni in ospedale di nuovi casi CoviD per settimana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8" name="Immagine 1" descr=""/>
          <p:cNvPicPr/>
          <p:nvPr/>
        </p:nvPicPr>
        <p:blipFill>
          <a:blip r:embed="rId4"/>
          <a:stretch/>
        </p:blipFill>
        <p:spPr>
          <a:xfrm>
            <a:off x="108000" y="2046240"/>
            <a:ext cx="89280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INCIDENZA CUMULATIVA/SETT.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5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179280" y="64436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settimanali di incidenza cumulativa x 100.000 abitant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8" name="Immagine 1" descr=""/>
          <p:cNvPicPr/>
          <p:nvPr/>
        </p:nvPicPr>
        <p:blipFill>
          <a:blip r:embed="rId4"/>
          <a:stretch/>
        </p:blipFill>
        <p:spPr>
          <a:xfrm>
            <a:off x="108000" y="1925640"/>
            <a:ext cx="89280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magine 1" descr=""/>
          <p:cNvPicPr/>
          <p:nvPr/>
        </p:nvPicPr>
        <p:blipFill>
          <a:blip r:embed="rId1"/>
          <a:stretch/>
        </p:blipFill>
        <p:spPr>
          <a:xfrm>
            <a:off x="179280" y="2062080"/>
            <a:ext cx="8785440" cy="4175280"/>
          </a:xfrm>
          <a:prstGeom prst="rect">
            <a:avLst/>
          </a:prstGeom>
          <a:ln w="0">
            <a:noFill/>
          </a:ln>
        </p:spPr>
      </p:pic>
      <p:sp>
        <p:nvSpPr>
          <p:cNvPr id="10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1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INCIDENZA A 7 GG PER AUSL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6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7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79280" y="64436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settimanali di incidenza cumulativa x 100.000 abitant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9" name="Connettore 1 2"/>
          <p:cNvSpPr/>
          <p:nvPr/>
        </p:nvSpPr>
        <p:spPr>
          <a:xfrm>
            <a:off x="684360" y="2706840"/>
            <a:ext cx="8135640" cy="144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magine 1" descr=""/>
          <p:cNvPicPr/>
          <p:nvPr/>
        </p:nvPicPr>
        <p:blipFill>
          <a:blip r:embed="rId1"/>
          <a:stretch/>
        </p:blipFill>
        <p:spPr>
          <a:xfrm>
            <a:off x="28440" y="2114640"/>
            <a:ext cx="9087120" cy="4194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Media settimanale di test eseguiti e percentuale di positività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3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IL TREND DEI TEST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7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9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20" name="CasellaDiTesto 2"/>
          <p:cNvSpPr/>
          <p:nvPr/>
        </p:nvSpPr>
        <p:spPr>
          <a:xfrm>
            <a:off x="542880" y="4160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0,7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1" name="CasellaDiTesto 12"/>
          <p:cNvSpPr/>
          <p:nvPr/>
        </p:nvSpPr>
        <p:spPr>
          <a:xfrm>
            <a:off x="759600" y="40053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,7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2" name="CasellaDiTesto 13"/>
          <p:cNvSpPr/>
          <p:nvPr/>
        </p:nvSpPr>
        <p:spPr>
          <a:xfrm>
            <a:off x="975600" y="37162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3,9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3" name="CasellaDiTesto 14"/>
          <p:cNvSpPr/>
          <p:nvPr/>
        </p:nvSpPr>
        <p:spPr>
          <a:xfrm>
            <a:off x="1262160" y="35733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6,4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4" name="CasellaDiTesto 15"/>
          <p:cNvSpPr/>
          <p:nvPr/>
        </p:nvSpPr>
        <p:spPr>
          <a:xfrm>
            <a:off x="1550880" y="35002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6,4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5" name="CasellaDiTesto 15"/>
          <p:cNvSpPr/>
          <p:nvPr/>
        </p:nvSpPr>
        <p:spPr>
          <a:xfrm>
            <a:off x="1696320" y="32972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1,1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6" name="CasellaDiTesto 15"/>
          <p:cNvSpPr/>
          <p:nvPr/>
        </p:nvSpPr>
        <p:spPr>
          <a:xfrm>
            <a:off x="1983600" y="365616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3,0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7" name="CasellaDiTesto 15"/>
          <p:cNvSpPr/>
          <p:nvPr/>
        </p:nvSpPr>
        <p:spPr>
          <a:xfrm>
            <a:off x="2127240" y="300816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0,1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8" name="CasellaDiTesto 15"/>
          <p:cNvSpPr/>
          <p:nvPr/>
        </p:nvSpPr>
        <p:spPr>
          <a:xfrm>
            <a:off x="2415240" y="31417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1,8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9" name="CasellaDiTesto 15"/>
          <p:cNvSpPr/>
          <p:nvPr/>
        </p:nvSpPr>
        <p:spPr>
          <a:xfrm>
            <a:off x="2630520" y="35114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4,2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0" name="CasellaDiTesto 15"/>
          <p:cNvSpPr/>
          <p:nvPr/>
        </p:nvSpPr>
        <p:spPr>
          <a:xfrm>
            <a:off x="2920320" y="38005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0,4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1" name="CasellaDiTesto 15"/>
          <p:cNvSpPr/>
          <p:nvPr/>
        </p:nvSpPr>
        <p:spPr>
          <a:xfrm>
            <a:off x="3135240" y="3368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9,9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2" name="CasellaDiTesto 15"/>
          <p:cNvSpPr/>
          <p:nvPr/>
        </p:nvSpPr>
        <p:spPr>
          <a:xfrm>
            <a:off x="3643200" y="343836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0,8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3" name="CasellaDiTesto 15"/>
          <p:cNvSpPr/>
          <p:nvPr/>
        </p:nvSpPr>
        <p:spPr>
          <a:xfrm>
            <a:off x="3351960" y="364500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1,5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4" name="CasellaDiTesto 15"/>
          <p:cNvSpPr/>
          <p:nvPr/>
        </p:nvSpPr>
        <p:spPr>
          <a:xfrm>
            <a:off x="3783960" y="37987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0,1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5" name="CasellaDiTesto 15"/>
          <p:cNvSpPr/>
          <p:nvPr/>
        </p:nvSpPr>
        <p:spPr>
          <a:xfrm>
            <a:off x="4143600" y="35733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6,2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6" name="CasellaDiTesto 15"/>
          <p:cNvSpPr/>
          <p:nvPr/>
        </p:nvSpPr>
        <p:spPr>
          <a:xfrm>
            <a:off x="4359240" y="3943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9,4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7" name="CasellaDiTesto 15"/>
          <p:cNvSpPr/>
          <p:nvPr/>
        </p:nvSpPr>
        <p:spPr>
          <a:xfrm>
            <a:off x="4575240" y="3368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8,5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8" name="CasellaDiTesto 15"/>
          <p:cNvSpPr/>
          <p:nvPr/>
        </p:nvSpPr>
        <p:spPr>
          <a:xfrm>
            <a:off x="4791240" y="30798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9,0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9" name="CasellaDiTesto 15"/>
          <p:cNvSpPr/>
          <p:nvPr/>
        </p:nvSpPr>
        <p:spPr>
          <a:xfrm>
            <a:off x="5006880" y="2792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8,7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0" name="CasellaDiTesto 15"/>
          <p:cNvSpPr/>
          <p:nvPr/>
        </p:nvSpPr>
        <p:spPr>
          <a:xfrm>
            <a:off x="5295960" y="2503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8,3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1" name="CasellaDiTesto 15"/>
          <p:cNvSpPr/>
          <p:nvPr/>
        </p:nvSpPr>
        <p:spPr>
          <a:xfrm>
            <a:off x="5511960" y="2287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8,6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2" name="CasellaDiTesto 15"/>
          <p:cNvSpPr/>
          <p:nvPr/>
        </p:nvSpPr>
        <p:spPr>
          <a:xfrm>
            <a:off x="5799240" y="24321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7,6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3" name="CasellaDiTesto 15"/>
          <p:cNvSpPr/>
          <p:nvPr/>
        </p:nvSpPr>
        <p:spPr>
          <a:xfrm>
            <a:off x="6015240" y="2790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7,4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4" name="CasellaDiTesto 15"/>
          <p:cNvSpPr/>
          <p:nvPr/>
        </p:nvSpPr>
        <p:spPr>
          <a:xfrm>
            <a:off x="6230880" y="3081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5,8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5" name="CasellaDiTesto 15"/>
          <p:cNvSpPr/>
          <p:nvPr/>
        </p:nvSpPr>
        <p:spPr>
          <a:xfrm>
            <a:off x="6529320" y="2936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4,0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6" name="CasellaDiTesto 15"/>
          <p:cNvSpPr/>
          <p:nvPr/>
        </p:nvSpPr>
        <p:spPr>
          <a:xfrm>
            <a:off x="6735960" y="3297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4,2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7" name="CasellaDiTesto 15"/>
          <p:cNvSpPr/>
          <p:nvPr/>
        </p:nvSpPr>
        <p:spPr>
          <a:xfrm>
            <a:off x="6951600" y="3513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3,7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8" name="CasellaDiTesto 15"/>
          <p:cNvSpPr/>
          <p:nvPr/>
        </p:nvSpPr>
        <p:spPr>
          <a:xfrm>
            <a:off x="7167600" y="3800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3,2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9" name="CasellaDiTesto 15"/>
          <p:cNvSpPr/>
          <p:nvPr/>
        </p:nvSpPr>
        <p:spPr>
          <a:xfrm>
            <a:off x="7383600" y="3222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2,4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0" name="CasellaDiTesto 15"/>
          <p:cNvSpPr/>
          <p:nvPr/>
        </p:nvSpPr>
        <p:spPr>
          <a:xfrm>
            <a:off x="7670880" y="35002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2,2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1" name="CasellaDiTesto 15"/>
          <p:cNvSpPr/>
          <p:nvPr/>
        </p:nvSpPr>
        <p:spPr>
          <a:xfrm>
            <a:off x="7888320" y="3357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,4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2" name="CasellaDiTesto 15"/>
          <p:cNvSpPr/>
          <p:nvPr/>
        </p:nvSpPr>
        <p:spPr>
          <a:xfrm>
            <a:off x="8104320" y="35830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,5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3" name="CasellaDiTesto 15"/>
          <p:cNvSpPr/>
          <p:nvPr/>
        </p:nvSpPr>
        <p:spPr>
          <a:xfrm>
            <a:off x="8473320" y="35845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0,9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4" name="CasellaDiTesto 15"/>
          <p:cNvSpPr/>
          <p:nvPr/>
        </p:nvSpPr>
        <p:spPr>
          <a:xfrm>
            <a:off x="8624880" y="400536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1,6%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Numero di Riproduzione Rt calcolato sulla settimana 31 maggio / 6 giugno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8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20520" y="159372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INDICI DI CONTAGIO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4" name="Immagine 1" descr=""/>
          <p:cNvPicPr/>
          <p:nvPr/>
        </p:nvPicPr>
        <p:blipFill>
          <a:blip r:embed="rId4"/>
          <a:stretch/>
        </p:blipFill>
        <p:spPr>
          <a:xfrm>
            <a:off x="44280" y="2743200"/>
            <a:ext cx="90648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1"/>
          <p:cNvSpPr/>
          <p:nvPr/>
        </p:nvSpPr>
        <p:spPr>
          <a:xfrm>
            <a:off x="179280" y="65768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Frequenza di casi attivi per sesso ed età, al 7/06/2021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0520" y="1306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ASI ATTIVI PER ETA’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9/30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3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74" name="Immagine 1" descr=""/>
          <p:cNvPicPr/>
          <p:nvPr/>
        </p:nvPicPr>
        <p:blipFill>
          <a:blip r:embed="rId4"/>
          <a:stretch/>
        </p:blipFill>
        <p:spPr>
          <a:xfrm>
            <a:off x="227160" y="2054160"/>
            <a:ext cx="86896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Rossi Andrea</cp:lastModifiedBy>
  <cp:lastPrinted>2021-06-07T16:01:24Z</cp:lastPrinted>
  <dcterms:modified xsi:type="dcterms:W3CDTF">2021-06-08T08:28:39Z</dcterms:modified>
  <cp:revision>1218</cp:revision>
  <dc:subject/>
  <dc:title>Presentazione di PowerPoint</dc:title>
</cp:coreProperties>
</file>