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33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4.png" ContentType="image/png"/>
  <Override PartName="/ppt/media/image2.png" ContentType="image/png"/>
  <Override PartName="/ppt/media/image14.wmf" ContentType="image/x-wmf"/>
  <Override PartName="/ppt/media/image16.png" ContentType="image/png"/>
  <Override PartName="/ppt/media/image17.wmf" ContentType="image/x-wmf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9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sldImg"/>
          </p:nvPr>
        </p:nvSpPr>
        <p:spPr>
          <a:xfrm>
            <a:off x="928440" y="73836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ftr" idx="9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 type="sldNum" idx="9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97BF17-57AE-47BB-9722-5CB93A3FD8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304DB7-DE8D-46BA-9A8F-8FF530A6E09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C5F130-CBAC-450F-ABE3-A4A30A6E33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D34ED0-F4D4-4E52-A9B7-B21BF07618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2E4EC5-24C4-40D9-98E1-F6FA0761DD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E6DB04-37A6-4F26-981F-7C85EA8329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47FB6-25E2-4D6C-A606-387D48EB2B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220255-8122-4139-9A12-C80B4235D5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4612FB-FF25-4117-98EF-AAD4483985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94E8CA-7CA8-4513-AEC3-FC900FF8B6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CBACB3-4648-4A1E-8D24-850600623A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25F4A2-3ED6-42B6-B6ED-F625825AA97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6008B6-FEC3-4090-97F5-EE62503041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B85E64-26B0-46DC-8F29-51B7F32C1B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2E38A1-41EE-452D-BA7B-B6F76284F2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6C73E0-908E-448B-906C-206E207C43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2220C2-033A-441D-B520-C7636DCFFA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AB5C15-04DA-4C3A-90E4-A998E2CF05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egnaposto numero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07BF2A-FD98-4C10-979E-0C3A972DA3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5E0-5D00-42E2-A454-F3142978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48F-DF01-4691-8666-C9BE0285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CB52-E8D5-4030-B7E7-FDF8277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C76C9-1035-47B9-BE3F-C83B537E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846EF-A79C-4A26-A469-52B645F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477B2-424F-4C77-8D0B-EFA91CD7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EFAA3-C0E5-41E7-9780-E75C20C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9A7F3-2A47-4781-87C2-B6118B4D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74B04-A7DF-4B3E-BBAE-1B88FE8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AC107-7390-4E3E-AF29-7A2EB00A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DD87-C4C0-4B8A-A2D9-BE69ED26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4192C-486B-4688-9DE4-FD307619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F84-3E15-49BC-B602-8B2BD1DE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F2749-888E-4A66-9789-285E25CA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6E509-D7BE-4698-BC53-87DBE1C1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1F53A-F165-4E1E-B2FE-57E0AA4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19236-AC11-46C7-8C9D-1283500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58036-733B-4119-A780-FC4F2215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B9602-2657-4B2A-BA53-20E9B97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704D7-F01B-43D8-9312-8667F50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D0DAA-AE6F-4DCE-BF54-41B4D24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29701-D46B-4506-BFF4-7DCD0705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C204B-BED4-4064-9D8E-773B4DBD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06C-A14C-4E50-8DF4-099E056A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E00BD-EF1C-4896-B617-BA3883F4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24945-5E37-49C5-A38C-774DDCF0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B14B4-7372-4F64-9D5E-5F72F2B8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62323-EBCA-414C-A09A-5DE215D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A23B-A045-4BE0-AB85-168D98B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3CE9C-E177-4CDB-9121-73FE2551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3572-9797-4479-ABB6-8A5C53C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0492C-BC07-447B-A288-1009A44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2B0F8-E51C-4218-BF64-9DC1943D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CED49-89D2-48A1-9DB2-DE1B5F0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4B0F-D867-4D5D-8A66-5FA3DB81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22607-8397-4C5A-A7B2-C1DC8D45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065CA-44E9-4DEE-B2EE-1847AC3F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B8EC-2424-4E97-A34D-AA2D1153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4D48C-74BD-431C-ACE9-73573DA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B22C8-5CD2-4A1D-99D1-9F3F8C2A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D2E7E-7BA9-410E-A43F-9C09AF5F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5896B-48F2-42A1-BE14-717712A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1567A-9084-4A0B-A440-0FA9B3B6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6A618-5024-466F-9A67-D602FBC1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DEA7D-3BA1-4B25-A9A0-22438D4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CE6D-EB4A-489D-BADF-54153ABF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3EC9F-41E7-452A-993F-1EF62690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0DC1E-464C-401B-96F4-6A7E70B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0526F-6E20-4F84-AF55-91DD1E3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DD58A-9BCF-4F82-B530-A15008EA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FB129-9AFD-4DA8-921A-00FE5FE1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0C656-1B5C-4ED1-9520-2FADBE67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67BA8-7675-40DF-8763-ED07F48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42513-48FA-4195-A055-DC1426F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471DA-450C-4108-8B20-F30351E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AB19D-EB17-4ED4-8613-B042A3F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177-D725-4C58-8187-38310900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25738-CE96-48D7-BCE6-D46F3EB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447AC-AE29-4737-9479-8E22AC5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76A47-CCF1-47A5-945C-890C29F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23B29-430B-4B9B-89CC-1118029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FC6EC-AF23-49B6-941E-222F9D67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E0637-9A47-4385-BFBE-4B7C9BF4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4FABE-5882-44A5-8FE6-B6FD9ABF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E7437-8057-41E2-9F52-B2AF21B8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65E32-C772-42B7-A1A5-9D123749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8AA9B-D1BD-44B5-ABB2-621CDFA0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5073-09E8-4B33-8BA7-468287DD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19273-DDBD-4E5A-B46D-9CF768A7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75629-6B64-425F-A7CB-777C5D4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F0604-CCD3-4D8B-879E-597B9D92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52B6F-E53D-4F1B-A431-F8744C0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C7577-B4BF-49B5-831C-90EB078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CFE2B-2170-429E-87A8-6ED8C2D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2D1C5-0637-4F95-AA7E-EAD75C0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136E9-0F5A-4DF9-A33E-3F68D3FC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552DA-CE29-4FB0-9D7F-620A3158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51E8A-0F6B-416A-B5D4-7EFE42F5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7FA1-1203-4188-9CED-EDA0E69A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2BAAA-04D3-457F-9FAA-365A2AD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0DCBE-D42B-4648-A8C0-705D49C2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463D9-C7E1-4F0A-84F2-D19BC4A5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75378-9173-4F44-8822-313130AE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C2775-AFF1-4048-9F4C-0B63F510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1E7DB-0DC1-4C38-9B49-3755D27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C4DBC-5BCB-4DFD-B355-37C3999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9D0BA-78A3-4DB9-AF53-2397260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D7E53-4853-4D3A-8B39-91141F90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4D547-73A1-41C8-8F6F-7294C6BB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0DBF-AAE1-44AC-8726-15D60913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5D0DC-A3B5-47F0-A319-98BF7E6D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A56FB-556A-4CC6-8A43-F6889689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80507-BFB8-4C5F-81E1-B17F0D1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993DE-BB7A-46ED-807E-BDA36465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60055-FA58-41FB-94F3-BEDC198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630EA-D9F3-41F7-B3A4-4322115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9FEFC-6861-42BD-8E28-B009FD9C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9D193-4351-441F-9AEC-4BFBF3D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E0460-6844-4987-9754-D0B955E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69509-DBBA-4102-9FE4-FAE0578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937F-8A5A-44C9-B14D-F6072F6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E16E2-377D-4D94-98FA-A392A9ED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AAFBB-75D0-4842-AC8C-FCB29BA7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FC167-0561-412C-A1B4-DFDE2894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57AFF-353C-49DD-8A19-8A65849D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1F8DA-BD0E-41A0-B1E1-11DF5A5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9A83C-C142-45C8-BC20-5B7B1BE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281F6-DF0E-4024-8C36-8F1BF92F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5FF4C-66BC-45DB-B5E5-21CB3487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3751E-F23A-42BF-B2BF-BB4412C0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411F8-7B3F-4898-93C4-97B5698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7F5-8A48-4005-BE37-5E2CE84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3BC-C528-4393-8D8D-395C577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0914B-6DB4-4786-8FF6-B42AADF3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E5DF1-F7F4-42F0-AE68-F05DBD0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47E4D-9135-4603-AD5E-EF1E2CD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F193D-C2BB-4C24-9BA5-7AB62A17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311E8-22AE-414F-8DAA-1CFEFB40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B5DF8-952A-4698-A191-F4594126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0E834-9468-4CDA-B88F-883F5323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956E8-8DFC-444F-B0BE-61FAD24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14862-8669-4F92-9BB5-A11E3F14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00D20-5273-47E1-AAF6-F74A0DBF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F344-5FD8-4F80-B0D6-A359791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EC322-2E2C-4B8C-94B8-C157CA52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67A88-C2F6-4CF1-80B6-582B74B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E1958-7DB7-4617-9267-0A01ADF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887F0-BE74-4DAF-A911-D8C24B3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9FB5E-2591-4CB3-8781-DC78A405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D32E1-5BEC-4668-9104-0D9F111F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79349-2C96-47E7-9F58-C8E2C435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AA47E3-68CC-4CC3-A85F-6F8168AA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37FD9-A986-4725-B8E6-3BC9332A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3B683-3EB4-455D-ACA1-6C2C42E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5D0B-9E7E-417A-BC1C-3BC97BE3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BAF06-C23C-4F72-BE3A-5F148840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20F77-22D1-4DB8-A765-71162CDD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97A0B-92D8-4D60-BA86-3BA8F17B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AA169-6DDD-42D0-B0F3-20E3A6F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BBF6B-9E82-4C08-8A5A-B642A30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756A8-A8AE-417D-8433-7D4BDBC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3BFBEF-2203-4CE9-B08B-309569E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F79D1-EF4E-439D-AD6E-B3C4C8B0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EB0A0-A5AE-408F-9D2F-FD60A457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5C534-6E01-462C-ADF2-D78D32AB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7D2A-54C9-4666-8755-EDE37EB6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69252-3869-4818-BB5F-F4B46FBB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AC6FC-2321-42AB-9F4B-3992633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60211-D70E-4439-B75C-FDFA59B7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C6AFD-2B4B-4926-8135-9B386A6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F2CE8-0C96-4EBD-A8B9-F314F169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A0792-8C0B-4724-9C5C-89445F9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2ED8A-434F-48F6-862E-9D52122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E1D61-0A98-4434-AD1D-0A2A158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D4FFD-D867-4AFF-B0F7-DF5F7B8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17317-22E3-49BF-837B-0F0744F3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2238-EB8A-4582-B9F2-2FE4C7A6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7BCE5-5A2B-4AEA-AEA0-1B0EC3F8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6C73A-F421-4DAF-8009-5E8D6CFE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9AA33-5243-422A-856B-7BA5CD0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59551-AD07-4560-9207-54987E47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C51263-7F67-4D45-BFDD-34F85906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FA0A7-8081-44E7-8544-F625E92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A5B44-8BDB-4B10-AD44-85EE346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FC0B0-D8E6-4A18-B2D0-0FA7F35E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78D4D-54DF-447A-9EC2-4383198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CB5BB-C6D2-4757-9BAC-2551C14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AE43-181D-4A85-A73C-E1C4E72E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5A1E7-CF62-4E08-9F47-F95BB88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7AAEA-5CBD-493F-B0C5-F3CF5464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3DFE1-D132-4326-84D8-DB561BB3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9848E-6CBB-4307-93C9-59643FE5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A095F-3D5D-48AC-BEC5-CDB714F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7E23F-5A7E-434B-9448-9969C34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79B07-1023-48B5-B86C-F4E619E3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40B6FE-1F6D-4AFD-A857-F3B6EB54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41160-816C-4B0A-B9A5-E28FB00E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29277-CCE8-4368-89F1-8CB3296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C5A4-DAC7-4881-A153-17CF5A7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984321-5D7E-4083-8D30-09ED69D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43E50-5663-48DE-906A-ACEEEAF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2F0A8-A986-45E7-BCB3-833442D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2A7F4-7C27-4FDB-A26E-4AAD994B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81F1FE-9054-4C29-95CA-BF8A2B8E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E5E8A-711F-4A47-9AB2-3E049215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5C111-0CC2-41E3-9BCA-09C60F6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FF351-C8EE-461F-84C9-304289F4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C56729-F8B1-4EE2-ADE4-86864F43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F1D9C-3DB6-4A76-8E8B-2DBCC550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EE06-E6BF-4193-A881-824B37D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0B36E5-8E05-4FC9-BE51-CB6D04E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AE814-7CBF-48A0-9D06-A8AA54D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D87CB-6833-4E78-B261-CBC94DE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D7F00-3F0E-44C3-ACC6-00A79EF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EBEF8-8BE7-42B3-B5C1-4495409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22405-68DD-48CD-8BB5-CDE0616D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17E3A3-1D46-4913-AC91-9FFF707F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628C88-5B23-4CAC-841D-D07FB6DB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B7C55E-F603-4DBE-8BBA-F2C6953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860AEE-669F-4750-A8A7-595FD40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6175-3CA0-4972-954E-ED89F36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F261A1-A3AC-440C-847E-2F984CD2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A9E72-4529-4EB2-9C8F-3A2958C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D60941-11B3-4E1C-AC6F-83D5CA39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D2046-02E2-406B-A50A-43BA8AB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D8B2E2-18DD-4AFF-803B-CE2E562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4CB91B-5312-4811-8954-37D16DEE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555665-345E-42E4-B177-DC96684F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E7A21-0A45-4B30-BA32-684AEAFC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9F5A08-060C-43F4-8E90-93A0C9E4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87AD9D-FC2E-453F-A993-D256498A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C5E2-004C-4D67-A6A1-A0366DBA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06ABF5-7EB2-4C8D-BCB9-8445632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FA5C0-4DE2-4896-B062-842FA324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42C863-2BDE-4164-BEA6-8BBACD7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EBD4C-90C7-47F8-8E6D-DC16CE5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1B6B4D-FF8C-43E0-B838-EAEDD5C3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D64A13-0234-4792-8024-E12039B9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A492AC-D4DA-4A33-B5BB-A987218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56B0D6-2BD0-4A91-A3FC-2A4B19F9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A20A64-6734-4457-A317-FAEEEACA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284B0-7A45-4CFA-8C2D-AEB3C1A3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FED-F45D-4F5C-842C-AB39C968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E98F-D99A-4DC5-BE2A-E3A3B66A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17F12-DB72-453F-9C89-5A8F2175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284820-B0AA-4157-813B-94F14C07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E0391A-015B-4D55-943D-66703513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9CEB63-9C35-4309-BD8F-B0E57669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58760A-8CD7-404F-9386-5AC360FA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966AA7-9020-47B7-91A0-795655EF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E9AFD4-72BE-4554-9A14-30FA2FE1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092997-D541-49F2-A1C0-42A2A2E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5800B5-C424-4A00-A633-3CB9506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48990B-B847-4C7D-ABDA-BA8576D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868C-7EF1-4088-B269-2BB5AC4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6BD96-ABD5-4704-B395-7E06C0D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F314A7-60D1-480D-A6B9-F1E207AC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FB0CC2-5B93-4BA2-AE02-6FE85340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5B79F4-76E6-4BA5-B0DA-02523822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FAE4A2-142E-4D5A-BE7A-2EB7FC4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70F460-71EF-40C5-9D06-25691FC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0876C-F011-4619-8FDE-D2293F8B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3873BF-6D30-4942-941D-9C4DEA97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2D9540-D17B-4D5C-9AA5-5E0CF015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0485CC-B138-40BD-80F0-AD11EA97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ACE0-BE66-4701-A46C-A2FFFB6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EDC371-D9B4-4D07-89CD-81B5B85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5B70E4-DFB3-4ACB-A8CE-D96A7D2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3F76B0-F318-4D48-9308-7B7EFE92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AF77B9-6A9B-4571-B3F7-AE94139D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477486-3ECA-4C97-9557-970EFA9D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2F7CB8-4B22-4881-9F84-3655C0D2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74B945-2C14-438F-BF24-B639C219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A7D435-F6A3-45EC-A3A3-6444D3AB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CBD7E5-18F1-4E19-8229-CF41ECED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088F06-0985-4536-A5F4-6ACEEFA2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EADB-AB70-4E89-A97E-C88E2E1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30EA19-67A0-4F38-8CFC-4412873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668C42-FF1F-4EFA-AD64-7A22D60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03CD3B-8A18-452C-87A6-5CD3AD8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AECCBB-32C8-4876-9E63-08C277A7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E5E5D1-205E-4E5E-995F-8A0CC099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21185-40F1-4698-ABE4-8115040A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C21460-ACD7-4EB6-ADF4-84F52B5A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3C26F0-75AF-4F41-9D31-2EC1427D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009F7B-21B5-48A9-BF7E-5A43B799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2D2FD9-61C6-47BB-AA7C-876A8103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A3E9-8A75-42D2-AF3D-52DB8FBD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CB618D-FCD3-439C-93E4-71430967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DB24BC-F280-4867-B820-6342C932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5A1C51-433E-40C3-A22C-12D5E96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7AA2ED-C45F-4F59-B0D6-25B5B35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712D99-C005-4B07-A2FC-F691A65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D47E29-663A-4056-A3F3-04206C5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BB49F6-8308-4905-82C9-AD33BA7E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8DF0FC-511D-49DA-955E-F828D171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1BF8AE-1ABF-479A-B0A0-5687B235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9E5A54-11E6-4DFB-BF6C-C984ED04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1F41-CF1A-4280-9480-C16A5D51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61F43E-D521-4BB5-BC1F-A2CE8D79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B4E948-9766-4BC1-B733-0EB7ACF0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442D71-281A-4615-A822-688943CE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401A14-03C7-45E0-9EF7-6602026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BD1440-A1DD-4122-82A3-201BDB66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AE8BE3-FBDA-412F-866D-990AACE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11D437-482D-499E-91D8-87332C3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5B8AA0-7D37-4C8B-B915-BC212F8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2D4072-4226-4AF1-B428-3A847E4B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E5ED2D-DA66-4EF0-B315-3EACAB5E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4A38-1B97-43DA-BBF0-6AE1978B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8A20EA-9B74-40B6-B444-DA14400C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B0CE-6ED0-447F-9472-3E267B36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7583-F1BB-4C24-8B30-850B119D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6C07-B225-4E23-9048-991A54B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9F4-AB13-42A1-BB41-FE63819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9A4C-A3BA-4415-A76E-3E94FB01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E18C-B8F9-4A03-8858-04B62FAE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FD4A-DCE9-4493-91B3-2357412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4247-CC22-472B-A1E9-82044EA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DFE5-145D-4DA5-B3E9-AED2BF6E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EED0-DBBA-4D22-86E8-2325878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E68A-4204-4C35-A516-59E9E9A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69CB-5386-42F1-B990-E513DF7B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F643-539E-4BFD-A938-5DFFFB63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C280-DAED-4C2C-9352-F9CB97B1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D0D-E2D1-462D-B5BA-30DE33A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C243-6954-44D4-9D8A-34D0601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6679-ECE1-49B8-BB95-450FD4A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6076-1CCB-44F7-A2E6-80D9516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67CF-F5B9-4D26-BE3B-507E72A4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AA70-776E-4512-A7D2-872B5ECD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0EFA-8553-4F53-B1DD-289C54E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0825-8F36-4B36-AE24-D05E6C1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8D4E-BF0F-4EDB-BE2F-A532AD5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F210A-F941-416B-90E0-16A01B77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D7D4-8950-41B8-8BE4-194A3160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32E-C38C-4BF4-A209-7A72027C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CDB2-2DA6-46C8-8A6E-578A7AC2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F2CE-AD26-4742-88FA-54372388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301F-6C1C-4033-8505-80C045D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4386-065D-4DCD-9035-FC3EF7DA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83BB7-DC04-4AA5-8C98-60528CF4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395D5-AAC3-4E51-8FFB-73E955A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D1BC-650A-4CFD-ABFA-3595909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198C-4142-42BB-B769-91E12EC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6A749-9190-4D68-A10D-8E47D94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8765A-BCD4-46CD-9B24-3B7C785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535-E7B5-4DB9-9248-FF42284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5B22-69D2-43CC-8553-3006C92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A75C-5481-4072-8B5F-6AFE1430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F2F7-31EC-4343-B1F0-ABABDFA7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A08C2-F9C9-489A-A61C-20D92260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8129-D8D7-4EA6-863C-E04A63BF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7602-063A-4DAA-B5C5-0816B7FC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1268-A4CD-41C9-9FC0-53D757E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27A8-11D7-4EB2-8E79-958C96C5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71AA-995F-48E4-9A31-6DB5D6E2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21D9-0C79-40DA-8FD2-C785CDF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97D-678B-44F0-9A6E-EB89803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98AB-7730-4FC2-9DC7-82C87BA5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B70D0-E23A-4363-97D4-0395EEDE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2082-0845-4A44-8321-109B6610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8A4F1-C590-401E-BF14-CF0AA83E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3BE5-2343-44DE-8B74-4B694E34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FEEB1-624F-4781-9374-6BC44B75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AC887-5031-453B-BD8E-6A07CF8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C7E52-A105-44AB-8846-F9857B30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45B7-8B44-4C0D-9E3A-850FB8F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EE222-1EE5-4F24-8F88-E902EB39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F8C-7B97-4DD8-81CE-179AFCC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E3C1-BF8F-469C-B816-6A5F7A38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97CB-03D0-41A4-854B-AF0D855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5F74C-ED1A-4310-ABAD-9E58E0D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2A51A-44D8-448F-93DA-6696FA3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E8A3-0BB4-49A3-A929-2023819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22F5-DAE5-498F-B31D-A94650DC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A1AC-EB9B-49C6-8EF4-EAC7F0EF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E052E-2821-412B-9743-46B830A3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C6523-1140-4DFE-9B23-F7D4E1C5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C3C50-54C2-4229-8C5E-28301C87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FC4F-B7EF-4AE7-B62D-5FE9421DD73F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2501-DE6F-4FDC-B9A9-B891E8117E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8048-BB28-41EB-BBAC-F5BD1B75D9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3107-E880-4204-B91F-C678B750B1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0F9A-B3D1-4A41-BBC8-78113E602E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A21F-AD37-435B-9624-A2385D6A66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C9F7-482B-46BE-A03F-40C201C482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051-085F-4552-B6C7-2E2576F041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4A56-D83C-431B-8B68-A6C21513F9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6AC-6C3F-4027-AC31-81E344C4B7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40FD-DAA7-4C74-B822-7EDBF41EA5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806-CC83-4E2A-98A5-9EFB7CFA7F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A408-0050-45B3-A851-B6C852BD8BA3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C21-B9D0-4510-BC6E-B8B36ECDB3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DE3-89F0-43D9-B2E3-FF1BBA3C63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1F39-B2B5-4790-A6A7-8A1437605D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43D6-5B14-46BA-84A9-39F7D9C68F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FAE8-46B9-4264-BF93-19401E3514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918-CF99-4F1C-ABDB-B9AF48F899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FC3-AB7A-4A25-B662-39AE8CF596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AF11-C784-4890-B1D0-31E4599D63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B23-4646-4A2D-8EF1-6FF7273F02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CDF7-CF54-4583-A9F2-CCBB60539A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696F-9DAA-4775-91E0-677F9F32A6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E23-C799-4F81-9F96-740EF9EDD1C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D336-0CAD-40DB-8BBF-F0F8FD1C12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726-EE8C-4CF9-87BE-44C42E0DC4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92F-2126-4C94-ACA8-1D84E39F84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E5FB-987D-4D6A-AD37-3A6A910312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42C-D363-42FF-9E00-C53E584CE3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FBB-9507-4CB4-81C5-80BBF4D523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1063800" y="0"/>
            <a:ext cx="8094600" cy="1052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6/07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2AC4-D997-446D-B58D-F15D8B6B04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1925640" y="260280"/>
            <a:ext cx="63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rebuchet MS"/>
              </a:rPr>
              <a:t>Conferenza Territoriale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rebuchet MS"/>
              </a:rPr>
              <a:t>Sociale e S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29"/>
          <p:cNvSpPr/>
          <p:nvPr/>
        </p:nvSpPr>
        <p:spPr>
          <a:xfrm>
            <a:off x="2340000" y="2165400"/>
            <a:ext cx="5751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4800" spc="-1" strike="noStrike">
                <a:solidFill>
                  <a:srgbClr val="009959"/>
                </a:solidFill>
                <a:latin typeface="Trebuchet MS"/>
              </a:rPr>
              <a:t>Bilanci di esercizio 2021 delle Aziende Sanitarie dell’Area di Bologna</a:t>
            </a:r>
            <a:br>
              <a:rPr sz="4800"/>
            </a:br>
            <a:r>
              <a:rPr b="1" lang="it-IT" sz="2400" spc="-1" strike="noStrike">
                <a:solidFill>
                  <a:srgbClr val="339933"/>
                </a:solidFill>
                <a:latin typeface="Trebuchet MS"/>
              </a:rPr>
              <a:t>                     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9959"/>
                </a:solidFill>
                <a:latin typeface="Trebuchet MS"/>
              </a:rPr>
              <a:t>Bologna, 9 giugno 2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Group 2"/>
          <p:cNvGrpSpPr/>
          <p:nvPr/>
        </p:nvGrpSpPr>
        <p:grpSpPr>
          <a:xfrm>
            <a:off x="2087640" y="1197000"/>
            <a:ext cx="5778360" cy="647640"/>
            <a:chOff x="2087640" y="1197000"/>
            <a:chExt cx="5778360" cy="647640"/>
          </a:xfrm>
        </p:grpSpPr>
        <p:pic>
          <p:nvPicPr>
            <p:cNvPr id="1268" name="Immagine 4" descr="COLORETRAS"/>
            <p:cNvPicPr/>
            <p:nvPr/>
          </p:nvPicPr>
          <p:blipFill>
            <a:blip r:embed="rId1"/>
            <a:stretch/>
          </p:blipFill>
          <p:spPr>
            <a:xfrm>
              <a:off x="6531480" y="1228680"/>
              <a:ext cx="1334520" cy="4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Immagine 1" descr="Alto"/>
            <p:cNvPicPr/>
            <p:nvPr/>
          </p:nvPicPr>
          <p:blipFill>
            <a:blip r:embed="rId2"/>
            <a:srcRect l="0" t="0" r="0" b="32621"/>
            <a:stretch/>
          </p:blipFill>
          <p:spPr>
            <a:xfrm>
              <a:off x="2087640" y="1197000"/>
              <a:ext cx="441972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egnaposto numero diapositiva 1"/>
          <p:cNvSpPr/>
          <p:nvPr/>
        </p:nvSpPr>
        <p:spPr>
          <a:xfrm>
            <a:off x="6912000" y="6386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EA76-7FD6-4C3B-8590-038DEAC1C12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08" name="CasellaDiTesto 2"/>
          <p:cNvSpPr/>
          <p:nvPr/>
        </p:nvSpPr>
        <p:spPr>
          <a:xfrm>
            <a:off x="5076720" y="333720"/>
            <a:ext cx="36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Risorse Umane 2021-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5"/>
          <p:cNvSpPr/>
          <p:nvPr/>
        </p:nvSpPr>
        <p:spPr>
          <a:xfrm>
            <a:off x="1258920" y="3573360"/>
            <a:ext cx="7634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complessiva delle Risorse umane comprende il personale dipendente, le collaborazioni coordinate continuative nonché le altre forme di lavoro autonomo e i comandi passivi/attivi. I valori sopra esposti sono al netto dell’IRA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variazione di spesa 2021 vs 2019, pari a € +10,467 milioni (+12,%), è principalmente correlata alla dotazione di personale a seguito dell’emergenza COVID-19. Sull’esercizio 2021, tale variazione incide per € +3,611 (+3,6%) quale effetto a regime della dotazione incrementata a partire dall’esercizio 2020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Immagine 2" descr=""/>
          <p:cNvPicPr/>
          <p:nvPr/>
        </p:nvPicPr>
        <p:blipFill>
          <a:blip r:embed="rId2"/>
          <a:stretch/>
        </p:blipFill>
        <p:spPr>
          <a:xfrm>
            <a:off x="2085840" y="1120680"/>
            <a:ext cx="6046920" cy="2411640"/>
          </a:xfrm>
          <a:prstGeom prst="rect">
            <a:avLst/>
          </a:prstGeom>
          <a:ln w="0">
            <a:noFill/>
          </a:ln>
        </p:spPr>
      </p:pic>
      <p:pic>
        <p:nvPicPr>
          <p:cNvPr id="1311" name="Immagine 3" descr=""/>
          <p:cNvPicPr/>
          <p:nvPr/>
        </p:nvPicPr>
        <p:blipFill>
          <a:blip r:embed="rId3"/>
          <a:stretch/>
        </p:blipFill>
        <p:spPr>
          <a:xfrm>
            <a:off x="2967120" y="4973760"/>
            <a:ext cx="5627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Segnaposto numero diapositiva 1"/>
          <p:cNvSpPr/>
          <p:nvPr/>
        </p:nvSpPr>
        <p:spPr>
          <a:xfrm>
            <a:off x="6912000" y="6386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1E4-C2BA-4468-9060-53542660E7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14" name="CasellaDiTesto 2"/>
          <p:cNvSpPr/>
          <p:nvPr/>
        </p:nvSpPr>
        <p:spPr>
          <a:xfrm>
            <a:off x="5219640" y="181440"/>
            <a:ext cx="34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Personale dipendente 2021-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Immagine 1" descr=""/>
          <p:cNvPicPr/>
          <p:nvPr/>
        </p:nvPicPr>
        <p:blipFill>
          <a:blip r:embed="rId2"/>
          <a:stretch/>
        </p:blipFill>
        <p:spPr>
          <a:xfrm>
            <a:off x="2525760" y="1154160"/>
            <a:ext cx="5067360" cy="3209760"/>
          </a:xfrm>
          <a:prstGeom prst="rect">
            <a:avLst/>
          </a:prstGeom>
          <a:ln w="0">
            <a:noFill/>
          </a:ln>
        </p:spPr>
      </p:pic>
      <p:sp>
        <p:nvSpPr>
          <p:cNvPr id="1316" name="Text Box 15"/>
          <p:cNvSpPr/>
          <p:nvPr/>
        </p:nvSpPr>
        <p:spPr>
          <a:xfrm>
            <a:off x="1241280" y="4630680"/>
            <a:ext cx="763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tabella mostra i dati relativi esclusivamente al personale dipendente conteggiati alla data 31/1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variazione tra il 2021 e il 2019 (anno pre pandemia) registra un incremento complessivo pari a +9,9%, concentrato sul ruolo sanitario (dirigenza medica e comparto infermieristico) e sul ruolo tecnico (comparto operatori socio sanitari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E060-1C92-4D12-95FF-0A28210405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15"/>
          <p:cNvSpPr/>
          <p:nvPr/>
        </p:nvSpPr>
        <p:spPr>
          <a:xfrm>
            <a:off x="5005440" y="169920"/>
            <a:ext cx="37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Fondo Regionale per la Non Autosufficienza (FRNA)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CasellaDiTesto 5"/>
          <p:cNvSpPr/>
          <p:nvPr/>
        </p:nvSpPr>
        <p:spPr>
          <a:xfrm>
            <a:off x="2274480" y="1184400"/>
            <a:ext cx="508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59"/>
                </a:solidFill>
                <a:latin typeface="Arial"/>
                <a:ea typeface="Arial"/>
              </a:rPr>
              <a:t>Utilizzo delle risorse per la non autosufficienza anno 2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Immagine 2" descr=""/>
          <p:cNvPicPr/>
          <p:nvPr/>
        </p:nvPicPr>
        <p:blipFill>
          <a:blip r:embed="rId2"/>
          <a:stretch/>
        </p:blipFill>
        <p:spPr>
          <a:xfrm>
            <a:off x="1843200" y="1623960"/>
            <a:ext cx="6324480" cy="1085760"/>
          </a:xfrm>
          <a:prstGeom prst="rect">
            <a:avLst/>
          </a:prstGeom>
          <a:ln w="0">
            <a:noFill/>
          </a:ln>
        </p:spPr>
      </p:pic>
      <p:pic>
        <p:nvPicPr>
          <p:cNvPr id="1322" name="Immagine 3" descr=""/>
          <p:cNvPicPr/>
          <p:nvPr/>
        </p:nvPicPr>
        <p:blipFill>
          <a:blip r:embed="rId3"/>
          <a:stretch/>
        </p:blipFill>
        <p:spPr>
          <a:xfrm>
            <a:off x="2657520" y="2997360"/>
            <a:ext cx="4678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B2C3-7EEB-4C58-AC30-BB79543246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15"/>
          <p:cNvSpPr/>
          <p:nvPr/>
        </p:nvSpPr>
        <p:spPr>
          <a:xfrm>
            <a:off x="5005440" y="169920"/>
            <a:ext cx="37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Fondo Regionale per la Non Autosufficienza (FRNA)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6" name="Immagine 1" descr=""/>
          <p:cNvPicPr/>
          <p:nvPr/>
        </p:nvPicPr>
        <p:blipFill>
          <a:blip r:embed="rId2"/>
          <a:stretch/>
        </p:blipFill>
        <p:spPr>
          <a:xfrm>
            <a:off x="2575080" y="1292400"/>
            <a:ext cx="4803480" cy="1992240"/>
          </a:xfrm>
          <a:prstGeom prst="rect">
            <a:avLst/>
          </a:prstGeom>
          <a:ln w="0">
            <a:noFill/>
          </a:ln>
        </p:spPr>
      </p:pic>
      <p:pic>
        <p:nvPicPr>
          <p:cNvPr id="1327" name="Immagine 2" descr=""/>
          <p:cNvPicPr/>
          <p:nvPr/>
        </p:nvPicPr>
        <p:blipFill>
          <a:blip r:embed="rId3"/>
          <a:stretch/>
        </p:blipFill>
        <p:spPr>
          <a:xfrm>
            <a:off x="2665440" y="3402000"/>
            <a:ext cx="47131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Segnaposto numero diapositiva 1"/>
          <p:cNvSpPr/>
          <p:nvPr/>
        </p:nvSpPr>
        <p:spPr>
          <a:xfrm>
            <a:off x="6948360" y="6375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C3CC-124D-40CA-A6BD-E72E2FCE77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30" name="Text Box 15"/>
          <p:cNvSpPr/>
          <p:nvPr/>
        </p:nvSpPr>
        <p:spPr>
          <a:xfrm>
            <a:off x="4788000" y="18900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Investimenti - Area interventi e fonte finanziamento -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Immagine 1" descr=""/>
          <p:cNvPicPr/>
          <p:nvPr/>
        </p:nvPicPr>
        <p:blipFill>
          <a:blip r:embed="rId2"/>
          <a:stretch/>
        </p:blipFill>
        <p:spPr>
          <a:xfrm>
            <a:off x="1322280" y="1170000"/>
            <a:ext cx="7450200" cy="2259000"/>
          </a:xfrm>
          <a:prstGeom prst="rect">
            <a:avLst/>
          </a:prstGeom>
          <a:ln w="0">
            <a:noFill/>
          </a:ln>
        </p:spPr>
      </p:pic>
      <p:pic>
        <p:nvPicPr>
          <p:cNvPr id="1332" name="Immagine 4" descr=""/>
          <p:cNvPicPr/>
          <p:nvPr/>
        </p:nvPicPr>
        <p:blipFill>
          <a:blip r:embed="rId3"/>
          <a:stretch/>
        </p:blipFill>
        <p:spPr>
          <a:xfrm>
            <a:off x="2843280" y="3637080"/>
            <a:ext cx="4545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Segnaposto numero diapositiva 1"/>
          <p:cNvSpPr/>
          <p:nvPr/>
        </p:nvSpPr>
        <p:spPr>
          <a:xfrm>
            <a:off x="6948360" y="6375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846-2B69-493F-A608-A5D231FFA9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35" name="Text Box 15"/>
          <p:cNvSpPr/>
          <p:nvPr/>
        </p:nvSpPr>
        <p:spPr>
          <a:xfrm>
            <a:off x="4788000" y="18900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Investimenti - Fonte finanziamento -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Immagine 2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9770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itolo 1"/>
          <p:cNvSpPr/>
          <p:nvPr/>
        </p:nvSpPr>
        <p:spPr>
          <a:xfrm>
            <a:off x="1908000" y="2276640"/>
            <a:ext cx="640908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33"/>
                </a:solidFill>
                <a:latin typeface="Trebuchet MS"/>
              </a:rPr>
              <a:t>PRINCIPALI AZIONI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33"/>
                </a:solidFill>
                <a:latin typeface="Trebuchet MS"/>
              </a:rPr>
              <a:t>DATI DI ATTIVITA’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33"/>
                </a:solidFill>
                <a:latin typeface="Trebuchet MS"/>
              </a:rPr>
              <a:t>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9933"/>
                </a:solidFill>
                <a:uFillTx/>
                <a:latin typeface="Trebuchet MS"/>
              </a:rPr>
              <a:t>AUSL IM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1042920" y="-100080"/>
            <a:ext cx="35053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10"/>
          <p:cNvSpPr/>
          <p:nvPr/>
        </p:nvSpPr>
        <p:spPr>
          <a:xfrm>
            <a:off x="1352520" y="1290600"/>
            <a:ext cx="76755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Programmi regionali scre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A causa della pandemia a partire dal 2020 i tre i programmi di screening hanno subito una battuta d’arresto, come del resto sull’intero territorio regionale, comportando il ritardo nell'avanzamento, ovvero nell'invio delle lettere di invito. Nonostante ciò, anche a seguito delle intervenute nuove raccomandazioni regionali, l’AUSL di Imola ha ripreso il programma di inviti alla popolazione sul territorio aziendale. Nel 2021 è stato recuperato quasi tutto il ritardo. I dati disponibili derivano da una rilevazione regionale non ancora consolidata, che mostra comunque un incremento delle percentuali di avanzamento e di adesione al programma rispetto al 2020, in linea con il quadro regionale e in alcuni casi con performance superior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Segnaposto numero diapositiva 1"/>
          <p:cNvSpPr/>
          <p:nvPr/>
        </p:nvSpPr>
        <p:spPr>
          <a:xfrm>
            <a:off x="70041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9BE1-4C46-4585-931A-205260FBA9B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0"/>
          <p:cNvSpPr/>
          <p:nvPr/>
        </p:nvSpPr>
        <p:spPr>
          <a:xfrm>
            <a:off x="5651640" y="250920"/>
            <a:ext cx="30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Prevenzione collettiva e Sanità Pub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Immagine 1" descr=""/>
          <p:cNvPicPr/>
          <p:nvPr/>
        </p:nvPicPr>
        <p:blipFill>
          <a:blip r:embed="rId3"/>
          <a:stretch/>
        </p:blipFill>
        <p:spPr>
          <a:xfrm>
            <a:off x="1906560" y="3038400"/>
            <a:ext cx="6567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10"/>
          <p:cNvSpPr/>
          <p:nvPr/>
        </p:nvSpPr>
        <p:spPr>
          <a:xfrm>
            <a:off x="1360440" y="1236600"/>
            <a:ext cx="7696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er quanto riguarda le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vaccinazioni infantil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 riferimento al monitoraggio degli indicatori (NSG e SIVER) su piattaforma InSiDER, la tabella che segue riporta le percentuali di copertura vaccinale tratte, per il 2020, dalla suddetta piattaforma, mentre per il 2021 vengono riportati i dati in via di consolidamento resi disponibili al DSP dell’AUSL di Imola da parte del livello regionale, in quanto non disponibili sul portale InSiDER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Segnaposto numero diapositiva 1"/>
          <p:cNvSpPr/>
          <p:nvPr/>
        </p:nvSpPr>
        <p:spPr>
          <a:xfrm>
            <a:off x="7086600" y="6527880"/>
            <a:ext cx="1905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5C6-FD2C-4903-BE5B-AECEDA70F2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5867280" y="250920"/>
            <a:ext cx="28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Prevenzione collettiva e Sanità Pub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ttangolo 3"/>
          <p:cNvSpPr/>
          <p:nvPr/>
        </p:nvSpPr>
        <p:spPr>
          <a:xfrm>
            <a:off x="2286000" y="-21363120"/>
            <a:ext cx="45720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ell’area adulti si evidenziano le seguenti coperture vaccinal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i soggetti &gt;= 65 anni (obiettivo &gt; 7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lla campagna antinfluenzale 2018/2019 si riporta il dato regionale intermedio relativo alla campagna, aggiornato al 16 aprile 2019: 58,4%.</a:t>
            </a:r>
            <a:r>
              <a:rPr b="0" lang="it-IT" sz="10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2) riporta la percentuale di copertura relativa alla precedente campagna antinfluenzale (2017/2018). Il dato regionale aggiornato al 16 aprile 2018: 56,14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gli operatori sanitari (obiettivo &gt; = di 34%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: in riferimento alla campagna 2018/2019 si riporta il dato regionale aggiornato al 16 aprile 2019: 36,8% (che diventa 40,8% se calcolati col denominatore più preciso proposto l'anno scorso dalla Regio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4) per l’anno 2017/2018, aggiornato al 4 aprile 2018, evidenzia una copertura pari al 30,04% che esprime un buona performance nel range “verde” dei valori da 25% a 34% di cop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pneumococco nella popolazione di età = 65 anni (obiettivo &gt;= 5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 questo indicatore, non disponibile sulla piattaforma InSIDER, il dato anticipato dalla regione è il seguente: 41,7% nella coorte di nascita 1952 e 37,9% nella coorte 195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ttangolo 4"/>
          <p:cNvSpPr/>
          <p:nvPr/>
        </p:nvSpPr>
        <p:spPr>
          <a:xfrm>
            <a:off x="2286000" y="-10159920"/>
            <a:ext cx="4572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Nell’area adulti si evidenziano le seguenti coperture vaccinal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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Copertura vaccinale antinfluenzale nei soggetti &gt;= 65 anni (obiettivo &gt; 75): in riferimento alla campagna antinfluenzale 2018/2019 si riporta il dato regionale intermedio relativo alla campagna, aggiornato al 16 aprile 2019: 58,4%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L’indicatore InSIDER (IND0172) riporta la percentuale di copertura relativa alla precedente campagna antinfluenzale (2017/2018). Il dato regionale aggiornato al 16 aprile 2018: 56,14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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Copertura vaccinale antinfluenzale negli operatori sanitari (obiettivo &gt; = di 34%): in riferimento alla campagna 2018/2019 si riporta il dato regionale aggiornato al 16 aprile 2019: 36,8% (che diventa 40,8% se calcolati col denominatore più preciso proposto l'anno scorso dalla Regio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L’indicatore InSIDER (IND0174) per l’anno 2017/2018, aggiornato al 4 aprile 2018, evidenzia una copertura pari al 30,04% che esprime un buona performance nel range “verde” dei valori da 25% a 34% di cop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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ahoma"/>
              </a:rPr>
              <a:t>Copertura vaccinale antipneumococco nella popolazione di età = 65 anni (obiettivo &gt;= 55%): in riferimento a questo indicatore, non disponibile sulla piattaforma InSIDER, il dato anticipato dalla regione è il seguente: 41,7% nella coorte di nascita 1952 e 37,9% nella coorte 195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ttangolo 3"/>
          <p:cNvSpPr/>
          <p:nvPr/>
        </p:nvSpPr>
        <p:spPr>
          <a:xfrm>
            <a:off x="1835280" y="-13276440"/>
            <a:ext cx="57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sichiatria Adulti. Sotto il profilo della degenza ospedaliera si osserva un decremento dei casi totali trattati pari a –7,8% (SPDC); i casi trattati in RTI presentano una riduzione del -3,4%. L’andamento complessivo risulta proporzionale alla riduzione di posti letto. In coerenza con tale decremento risulta in calo anche il valore economico dei DRG (-5,4%). Di contro, si riscontra, un incremento significativo di casi trattati in Day Service (530 casi, pari a +45,8% rispetto all’anno precedente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ul versante territoriale, invece, i dati di attività mettono in evidenza un incremento del volume complessivo dei casi trattati (+2,9%) pur registrando una diminuzione dei nuovi presi in carico e un aumento delle dimissioni rispetto al 2014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ttangolo 6"/>
          <p:cNvSpPr/>
          <p:nvPr/>
        </p:nvSpPr>
        <p:spPr>
          <a:xfrm>
            <a:off x="2286000" y="-21363120"/>
            <a:ext cx="45720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Nell’area adulti si evidenziano le seguenti coperture vaccinal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i soggetti &gt;= 65 anni (obiettivo &gt; 7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lla campagna antinfluenzale 2018/2019 si riporta il dato regionale intermedio relativo alla campagna, aggiornato al 16 aprile 2019: 58,4%.</a:t>
            </a:r>
            <a:r>
              <a:rPr b="0" lang="it-IT" sz="10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2) riporta la percentuale di copertura relativa alla precedente campagna antinfluenzale (2017/2018). Il dato regionale aggiornato al 16 aprile 2018: 56,14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nfluenzale negli operatori sanitari (obiettivo &gt; = di 34%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: in riferimento alla campagna 2018/2019 si riporta il dato regionale aggiornato al 16 aprile 2019: 36,8% (che diventa 40,8% se calcolati col denominatore più preciso proposto l'anno scorso dalla Regio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ndicatore InSIDER (IND0174) per l’anno 2017/2018, aggiornato al 4 aprile 2018, evidenzia una copertura pari al 30,04% che esprime un buona performance nel range “verde” dei valori da 25% a 34% di copertu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pertura vaccinale antipneumococco nella popolazione di età = 65 anni (obiettivo &gt;= 55%):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in riferimento a questo indicatore, non disponibile sulla piattaforma InSIDER, il dato anticipato dalla regione è il seguente: 41,7% nella coorte di nascita 1952 e 37,9% nella coorte 195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Immagine 1" descr=""/>
          <p:cNvPicPr/>
          <p:nvPr/>
        </p:nvPicPr>
        <p:blipFill>
          <a:blip r:embed="rId3"/>
          <a:stretch/>
        </p:blipFill>
        <p:spPr>
          <a:xfrm>
            <a:off x="1785960" y="2492280"/>
            <a:ext cx="6602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2"/>
          <p:cNvSpPr/>
          <p:nvPr/>
        </p:nvSpPr>
        <p:spPr>
          <a:xfrm>
            <a:off x="1325520" y="0"/>
            <a:ext cx="7848720" cy="9651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3"/>
          <p:cNvSpPr/>
          <p:nvPr/>
        </p:nvSpPr>
        <p:spPr>
          <a:xfrm>
            <a:off x="1335240" y="-3024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300320" y="-144360"/>
            <a:ext cx="3335040" cy="919080"/>
          </a:xfrm>
          <a:prstGeom prst="rect">
            <a:avLst/>
          </a:prstGeom>
          <a:ln w="0">
            <a:noFill/>
          </a:ln>
        </p:spPr>
      </p:pic>
      <p:sp>
        <p:nvSpPr>
          <p:cNvPr id="1363" name="Segnaposto numero diapositiva 1"/>
          <p:cNvSpPr/>
          <p:nvPr/>
        </p:nvSpPr>
        <p:spPr>
          <a:xfrm>
            <a:off x="7230960" y="6529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F289-4019-4DA8-AE67-768E35870E3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ttangolo 2"/>
          <p:cNvSpPr/>
          <p:nvPr/>
        </p:nvSpPr>
        <p:spPr>
          <a:xfrm>
            <a:off x="2286000" y="-4741920"/>
            <a:ext cx="4572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Le tabelle seguenti rappresentano le principali attività delle USCA sul territorio al 31 dicembre 2020, con il dettaglio sull’attività di assistenza infermieristica e il dettaglio dei casi totali trattati presso SRC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A questo proposito si ricorda che nella terza fase di gestione dell’emergenza si è proceduto a dedicare la degenza aggiuntiva del 4° piano dell’Ospedale di Comunità presso la Casa della Salute di Castel S. Pietro Terme al post acuti per pazienti Cov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ttangolo 3"/>
          <p:cNvSpPr/>
          <p:nvPr/>
        </p:nvSpPr>
        <p:spPr>
          <a:xfrm>
            <a:off x="6380280" y="1173240"/>
            <a:ext cx="2655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e tabelle evidenziano il dettaglio dell’attività strettamente legata alla gestione della pandemia a livello territoriale, in particolare per quanto concerne l’attività di contact tracing e all’attività di sorveglianza. Anche nel 2021 sono stati erogati volumi importanti rispetto alle attività dettagliate in tabella che mostra, nella maggior parte dei casi, un incremento significativo rispetto al 202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0"/>
          <p:cNvSpPr/>
          <p:nvPr/>
        </p:nvSpPr>
        <p:spPr>
          <a:xfrm>
            <a:off x="5792760" y="152280"/>
            <a:ext cx="28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Emergenza CO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Immagine 5" descr=""/>
          <p:cNvPicPr/>
          <p:nvPr/>
        </p:nvPicPr>
        <p:blipFill>
          <a:blip r:embed="rId3"/>
          <a:stretch/>
        </p:blipFill>
        <p:spPr>
          <a:xfrm>
            <a:off x="1397160" y="1268280"/>
            <a:ext cx="4846320" cy="2068560"/>
          </a:xfrm>
          <a:prstGeom prst="rect">
            <a:avLst/>
          </a:prstGeom>
          <a:ln w="0">
            <a:noFill/>
          </a:ln>
        </p:spPr>
      </p:pic>
      <p:pic>
        <p:nvPicPr>
          <p:cNvPr id="1368" name="Immagine 6" descr=""/>
          <p:cNvPicPr/>
          <p:nvPr/>
        </p:nvPicPr>
        <p:blipFill>
          <a:blip r:embed="rId4"/>
          <a:stretch/>
        </p:blipFill>
        <p:spPr>
          <a:xfrm>
            <a:off x="1446120" y="3622680"/>
            <a:ext cx="5145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9"/>
          <p:cNvSpPr/>
          <p:nvPr/>
        </p:nvSpPr>
        <p:spPr>
          <a:xfrm>
            <a:off x="1332000" y="2060640"/>
            <a:ext cx="7596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59"/>
                </a:solidFill>
                <a:latin typeface="Trebuchet MS"/>
              </a:rPr>
              <a:t>IL BILANCIO DI ESERC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59"/>
                </a:solidFill>
                <a:latin typeface="Trebuchet MS"/>
              </a:rPr>
              <a:t>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9959"/>
                </a:solidFill>
                <a:uFillTx/>
                <a:latin typeface="Trebuchet MS"/>
              </a:rPr>
              <a:t>AUSL IMOLA</a:t>
            </a:r>
            <a:r>
              <a:rPr b="1" lang="it-IT" sz="3200" spc="-1" strike="noStrike">
                <a:solidFill>
                  <a:srgbClr val="009959"/>
                </a:solidFill>
                <a:latin typeface="Trebuchet MS"/>
              </a:rPr>
              <a:t>                  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5049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73" name="Text Box 15"/>
          <p:cNvSpPr/>
          <p:nvPr/>
        </p:nvSpPr>
        <p:spPr>
          <a:xfrm>
            <a:off x="1336680" y="1103400"/>
            <a:ext cx="78073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Ospedale di Comunità (OS.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OSCO di Castel S. Pietro Terme è una Struttura Residenziale di Cure Intermedie (SRCI) ubicata all'interno della Casa della Salute, dove trova collocazione anche l'Hospice Territoriale (HT). Nel 2020 rispetto al 2019 (anno pre-pandemico) era stato registrato un incremento significativo di Posti Letto (da 21 a 36), di casi trattati e giornate di degenza, conseguente l’attivazione delle degenze aggiuntive per post acuti COVID-19. Questa riorganizzazione, avvenuta con la riapertura di spazi del quarto piano della CDS di CSPT per accogliere in degenza post acuti pazienti NO COVID, è stata mantenuta e rimodulata anche nel 202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Tabella che riporta i volumi e i dati di degenza relativi al 2020 e 2021, mostra un incremento di casi trattati (+21,8%) e in coerenza anche di giornate di degenza (+26,8%). Cala solo il tasso medio di occup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D4B0-8263-4FF6-90CF-B752973207F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6" name="Immagine 2" descr=""/>
          <p:cNvPicPr/>
          <p:nvPr/>
        </p:nvPicPr>
        <p:blipFill>
          <a:blip r:embed="rId3"/>
          <a:stretch/>
        </p:blipFill>
        <p:spPr>
          <a:xfrm>
            <a:off x="2435400" y="3360600"/>
            <a:ext cx="5371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9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81" name="Text Box 15"/>
          <p:cNvSpPr/>
          <p:nvPr/>
        </p:nvSpPr>
        <p:spPr>
          <a:xfrm>
            <a:off x="1336680" y="1103400"/>
            <a:ext cx="73389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Assistenza infermieristica domicili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Tabella mostra il numero di pazienti presi in carico, gli accessi e le prestazioni erogate (dati che comprendono anche gli occasionali). I valori 2021 sui volumi rilevano un incremento significativo rispetto al 2020 dei pazienti in carico, delle prestazioni erogate e degli accessi. Buono anche il dato che rileva comunque una media di accessi per paziente quasi invariata rispetto al 202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BCDB-29FE-4302-8998-0CEBD3E70A8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4" name="Immagine 2" descr=""/>
          <p:cNvPicPr/>
          <p:nvPr/>
        </p:nvPicPr>
        <p:blipFill>
          <a:blip r:embed="rId3"/>
          <a:stretch/>
        </p:blipFill>
        <p:spPr>
          <a:xfrm>
            <a:off x="2693880" y="2411280"/>
            <a:ext cx="4762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89" name="Text Box 15"/>
          <p:cNvSpPr/>
          <p:nvPr/>
        </p:nvSpPr>
        <p:spPr>
          <a:xfrm>
            <a:off x="1336680" y="1103400"/>
            <a:ext cx="76993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Dipartimento Salute M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ul versante territoriale - </a:t>
            </a: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Psichiatria Adulti Territorial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 i dati evidenziano un significativo incremento di utenti presi in carico dal CSM pari a +27,2% (+578 casi), in pieno recupero rispetto al decremento registrato nel 2020 conseguente al periodo di emergenza pandemica acu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Nell’ambito della </a:t>
            </a: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Neuropsichiatria Infantil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i registra un incremento significativo degli utenti in carico (+24% pari a +491 casi) a conferma della tendenza in aumento che negli ultimi anni ha visto il potenziamento degli interventi nell’ambito del Progetto PRIA su finanziamento regionale, che hanno riguardato l’Autism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rea della </a:t>
            </a: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Dipendenze Patologich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registra un incremento del numero di utenti (+3%). In ambito di semiresidenzialità, presso il Centro diurno a gestione diretta (Arcobaleno), si registrano 2 utenti in più e un lieve aumento delle giornate di degenz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1BD1-5D5E-4E40-A6A4-B21DF1A6ABC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Immagine 1" descr=""/>
          <p:cNvPicPr/>
          <p:nvPr/>
        </p:nvPicPr>
        <p:blipFill>
          <a:blip r:embed="rId3"/>
          <a:stretch/>
        </p:blipFill>
        <p:spPr>
          <a:xfrm>
            <a:off x="2435400" y="3429000"/>
            <a:ext cx="5630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97" name="Text Box 15"/>
          <p:cNvSpPr/>
          <p:nvPr/>
        </p:nvSpPr>
        <p:spPr>
          <a:xfrm>
            <a:off x="1425600" y="1111320"/>
            <a:ext cx="74120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Consultorio Famili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Gli utenti in carico nel 2021 presso il Consultorio sono aumentati rispetto all’anno precedente (+8%; +568 casi), confermando la tendenza di crescita costante, nonostante il periodo caratterizzato dalla pandemia da COVID-2. In coerenza si registra un incremento degli accessi (+17,4%) e delle prestazioni erogate (individuali e di gruppo) pari a +18%. Sono proseguiti anche nel 2021 gli interventi in "Telemedicina", che nel 2020 in periodo di pandemia acuta hanno garantito con colloqui in video chiamata o telefonici destinati a singoli o gruppi di utenti la prevenzione e cura del disagio psico-fisico, colloqui di sostegno, consulenze e terapie a distanz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4794-56FA-4134-A385-F28B845F2E7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Immagine 1" descr=""/>
          <p:cNvPicPr/>
          <p:nvPr/>
        </p:nvPicPr>
        <p:blipFill>
          <a:blip r:embed="rId3"/>
          <a:stretch/>
        </p:blipFill>
        <p:spPr>
          <a:xfrm>
            <a:off x="2185920" y="2936880"/>
            <a:ext cx="5686560" cy="1905120"/>
          </a:xfrm>
          <a:prstGeom prst="rect">
            <a:avLst/>
          </a:prstGeom>
          <a:ln w="0">
            <a:noFill/>
          </a:ln>
        </p:spPr>
      </p:pic>
      <p:sp>
        <p:nvSpPr>
          <p:cNvPr id="1401" name="CasellaDiTesto 13"/>
          <p:cNvSpPr/>
          <p:nvPr/>
        </p:nvSpPr>
        <p:spPr>
          <a:xfrm>
            <a:off x="1341360" y="4952880"/>
            <a:ext cx="75805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D317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) % utenti degli spazi giovani sulla popolazione target (14-19 anni). (Valore di riferimento &gt;= 7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'indicatore che valuta la capacità di attrazione dei servizi consultoriali rivolti agli adolescenti mostra per L’AUSL di Imola una percentuale pari a 8,93%, in leggero aumento rispetto al 2020 (8,11%) ed entro il target atteso. Il valore regionale 2021 risulta pari a 7,3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IND318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) % utenti dei consultori familiari sulla popolazione target (15-64 anni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apacità di attrazione del servizio consultoriale dell’AUSL di Imola risulta tra le migliori a livello regionale: 7,22%, in incremento rispetto al 2020 (6,64%). Il valore regionale 2021 risulta pari a 6,39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06" name="Text Box 15"/>
          <p:cNvSpPr/>
          <p:nvPr/>
        </p:nvSpPr>
        <p:spPr>
          <a:xfrm>
            <a:off x="1425600" y="1176480"/>
            <a:ext cx="73231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Garanzia dell’accesso alle prestazioni di specialistica ambulato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oerenza con la DGR 603/2019 “Piano Regionale di governo delle liste d’attesa (PRGLA) per il triennio 2019-2021” l’obiettivo prioritario monitorato riguarda la continuità assistenziale attraverso la presa in carico dello specialista, ovvero l’incremento delle prescrizioni e prenotazioni dei controlli/approfondimenti diagnostici da parte degli specialisti che hanno in carico il paziente e che sono tenuti a prescrivere le prestazioni senza rinvio al medico di medicina genera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376F-A5A1-4D68-AE1A-8866F259BA4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Immagine 1" descr=""/>
          <p:cNvPicPr/>
          <p:nvPr/>
        </p:nvPicPr>
        <p:blipFill>
          <a:blip r:embed="rId3"/>
          <a:stretch/>
        </p:blipFill>
        <p:spPr>
          <a:xfrm>
            <a:off x="1523880" y="2846520"/>
            <a:ext cx="7034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2"/>
          <p:cNvSpPr/>
          <p:nvPr/>
        </p:nvSpPr>
        <p:spPr>
          <a:xfrm>
            <a:off x="1295280" y="0"/>
            <a:ext cx="7848720" cy="112536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14" name="Text Box 15"/>
          <p:cNvSpPr/>
          <p:nvPr/>
        </p:nvSpPr>
        <p:spPr>
          <a:xfrm>
            <a:off x="1363680" y="1158840"/>
            <a:ext cx="74563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Specialistica Ambulatoriale – Governo delle liste di att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er quanto concerne i tempi di attesa che il sistema di rilevazione regionale monitora per visite ed esami diagnostici, nel 2021 si sono perseguiti gli obiettivi sotto specificati e monitorati su Piattaforma InSiDER che mettono in evidenza un sostanziale e generale decremento in particolare per i primi accessi alle visite, conseguenza della situazione contingente venutasi a creare causa l’emergenza pandem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egnaposto numero diapositiva 1"/>
          <p:cNvSpPr/>
          <p:nvPr/>
        </p:nvSpPr>
        <p:spPr>
          <a:xfrm>
            <a:off x="7209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E742-1F48-4FE9-8C6A-450082B8B5F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Terri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Immagine 1" descr=""/>
          <p:cNvPicPr/>
          <p:nvPr/>
        </p:nvPicPr>
        <p:blipFill>
          <a:blip r:embed="rId3"/>
          <a:stretch/>
        </p:blipFill>
        <p:spPr>
          <a:xfrm>
            <a:off x="1477800" y="2693880"/>
            <a:ext cx="72010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22" name="Text Box 15"/>
          <p:cNvSpPr/>
          <p:nvPr/>
        </p:nvSpPr>
        <p:spPr>
          <a:xfrm>
            <a:off x="1457280" y="4343400"/>
            <a:ext cx="75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L’attività di degenza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 regime ordinario, nel 2020 (dati SDO) presentava, per le ragioni legate alla gestione dell’emergenza pandemica, un significativo decremento di casi trattati rispetto al 2019 (-2.285 casi, pari a -17,5%). Nel 2021 rispetto all’anno precedente si registra un lieve incremento delle degenze (+92 casi, pari a +0,85%) che, come evidenzia la tabella, riguarda i soli DRG Medici (+205 casi, pari a +2,71%). Per quanto riguarda i DRG Chirurgici si rileva un ulteriore decremento (-110 casi, pari a -3,41%) dovuto in parte al perdurare dell’emergenza da SARS COV-2 e alle necessarie riorganizzazioni volte a contenere la pandemia e in parte alla carenza di risorse di personale infermieristico e medico anestesista nelle sale operatorie che ha inevitabilmente condizionato la programmazione degli interventi chirurgici, rallentando il processo di recupero dell’attività chirurgica ai livelli di produzione del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casistica COIVID, trattata presso l’Ospedale di Imola, registra un volume pari a n. 910 ricoveri nel 2021 e n. 615 nel 20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Segnaposto numero diapositiva 1"/>
          <p:cNvSpPr/>
          <p:nvPr/>
        </p:nvSpPr>
        <p:spPr>
          <a:xfrm>
            <a:off x="704520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11E-ABB9-4578-B7EE-B79F5059578C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Immagine 2" descr=""/>
          <p:cNvPicPr/>
          <p:nvPr/>
        </p:nvPicPr>
        <p:blipFill>
          <a:blip r:embed="rId3"/>
          <a:stretch/>
        </p:blipFill>
        <p:spPr>
          <a:xfrm>
            <a:off x="2054160" y="1424160"/>
            <a:ext cx="6291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8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30" name="Text Box 15"/>
          <p:cNvSpPr/>
          <p:nvPr/>
        </p:nvSpPr>
        <p:spPr>
          <a:xfrm>
            <a:off x="1474920" y="1339920"/>
            <a:ext cx="752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i rappresentano i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Progett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che, nel corso degli ultimi anni, l’Azienda ha perseguito mediante la progressiva attuazione di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Arial"/>
              </a:rPr>
              <a:t>Accordi di integrazione a gestione interazienda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Segnaposto numero diapositiva 1"/>
          <p:cNvSpPr/>
          <p:nvPr/>
        </p:nvSpPr>
        <p:spPr>
          <a:xfrm>
            <a:off x="704520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E1D-02AD-40D7-A741-6C331F7AC8F4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Immagine 1" descr=""/>
          <p:cNvPicPr/>
          <p:nvPr/>
        </p:nvPicPr>
        <p:blipFill>
          <a:blip r:embed="rId3"/>
          <a:stretch/>
        </p:blipFill>
        <p:spPr>
          <a:xfrm>
            <a:off x="1523880" y="2071800"/>
            <a:ext cx="722484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37" name="Segnaposto numero diapositiva 1"/>
          <p:cNvSpPr/>
          <p:nvPr/>
        </p:nvSpPr>
        <p:spPr>
          <a:xfrm>
            <a:off x="723888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5C7-97EF-44B1-B548-4D5BBA97B75C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15"/>
          <p:cNvSpPr/>
          <p:nvPr/>
        </p:nvSpPr>
        <p:spPr>
          <a:xfrm>
            <a:off x="1511280" y="1413000"/>
            <a:ext cx="739944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9959"/>
                </a:solidFill>
                <a:latin typeface="Arial"/>
                <a:ea typeface="Arial"/>
              </a:rPr>
              <a:t>Indicatori di Esi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i riportano gli andamenti degli indicatori di esito di cui al DM 70/2015 e DGR 2040/2015, disponibili su piattaforma regionale InSiDER, a confronto con gli esiti di livello regionale, al fine di dare evidenza dell’andamento generale, conseguente al contesto emergenziale COVID-19, che ha interessato tutte le Aziende sanitarie sul territorio reg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1" name=""/>
          <p:cNvGraphicFramePr/>
          <p:nvPr/>
        </p:nvGraphicFramePr>
        <p:xfrm>
          <a:off x="2168640" y="3054240"/>
          <a:ext cx="6084720" cy="1832040"/>
        </p:xfrm>
        <a:graphic>
          <a:graphicData uri="http://schemas.openxmlformats.org/drawingml/2006/table">
            <a:tbl>
              <a:tblPr/>
              <a:tblGrid>
                <a:gridCol w="2954160"/>
                <a:gridCol w="633600"/>
                <a:gridCol w="626760"/>
                <a:gridCol w="625680"/>
                <a:gridCol w="614160"/>
                <a:gridCol w="630360"/>
              </a:tblGrid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INDICATORI DI ESIT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DM 70/2015 e DGR 2040/20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TARGET R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2f5496"/>
                          </a:solidFill>
                          <a:latin typeface="Tahoma"/>
                          <a:ea typeface="Times New Roman"/>
                        </a:rPr>
                        <a:t>2021 R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771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</a:t>
                      </a:r>
                      <a:r>
                        <a:rPr b="1" lang="it-IT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Frattura di femore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% di interventi effettuati entro 48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= 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,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,3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630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</a:t>
                      </a:r>
                      <a:r>
                        <a:rPr b="1" lang="it-IT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Colecistectomia laparoscopica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% di interventi con degenza post-operatoria inferiore a 3 gior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= 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7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,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632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</a:t>
                      </a:r>
                      <a:r>
                        <a:rPr b="1" lang="it-IT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Tagli cesarei primari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% di interventi in maternità di I livello o comunque con &lt;1000 par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=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7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5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45" name="Segnaposto numero diapositiva 1"/>
          <p:cNvSpPr/>
          <p:nvPr/>
        </p:nvSpPr>
        <p:spPr>
          <a:xfrm>
            <a:off x="7175520" y="644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56DC-7A66-4861-9697-694C20056DB7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5"/>
          <p:cNvSpPr/>
          <p:nvPr/>
        </p:nvSpPr>
        <p:spPr>
          <a:xfrm>
            <a:off x="1295280" y="1287360"/>
            <a:ext cx="768528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59"/>
                </a:solidFill>
                <a:latin typeface="Arial"/>
                <a:ea typeface="Arial"/>
              </a:rPr>
              <a:t>Riduzione Tempi di Attesa per le prestazioni di ricovero ospedali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itoraggio prospettic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. Risultati del monitoraggio prospettico da SIGLA 2.0 al 31/12/2021, di tutti gli interventi chirurgici programmati previsti dal nomenclatore regionale e non soltanto gli interventi monitorati a livello nazionale (fonte ReportERHom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osizioni SIGLA in tempo rispetto alla classe di priorità dell’AUSL di Imola: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sse A 90,38% - Classe B 45,95% - Classe C 41,68% - Classe D 40,78%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. I dati mostrano l’aderenza delle UO del Dipartimento chirurgico alle indicazioni fornite dalla Direzione Sanitaria in merito alle priorità di trattamento in corso di emergenza Pandemica (priorità per classi A oncologiche entro 30gg, avvio recupero a partire dalle classi B scadute e trattamento dei casi improcrastinabili; è sempre stato garantito il trattamento delle urgenze/emergenze). Le UO del Dipartimento chirurgico sono sempre state supportate nel governo delle criticità legate a carenze di PL e offerta di ore di sala operatoria dal GdL multidisciplinare/multiprofessionale costituente la “Cabina di regia della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programmazion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chirurgica”. L’attuazione del piano operativo di recupero degli interventi chirurgici rinviati nel 2020, a causa della Pandemia Covid-19, nel corso del 2021 non ha visto pieno sviluppo, determinando un rallentamento nella ripresa dei volumi di produzione, a causa di importanti e seguitanti criticità nella dotazione e reclutamento di risorse anestesiologiche e infermieristiche dedicate alle attività del Blocco Operatorio. Si aggiunge inoltre l’importante impatto sulla dotazione PL del Dipartimento Chirurgico (fino a -43 PL nel corso dei picchi pandemici) determinato dalla necessità di riassegnare risorse al Dipartimento Medico-Area Covid. In tabella le performance 2021 monitorate su piattaforma InSiDER in merito ai tempi di attesa per ricoveri chirurgici programma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2265480" y="4869000"/>
          <a:ext cx="5810040" cy="1893600"/>
        </p:xfrm>
        <a:graphic>
          <a:graphicData uri="http://schemas.openxmlformats.org/drawingml/2006/table">
            <a:tbl>
              <a:tblPr/>
              <a:tblGrid>
                <a:gridCol w="2390760"/>
                <a:gridCol w="600120"/>
                <a:gridCol w="691920"/>
                <a:gridCol w="695520"/>
                <a:gridCol w="685800"/>
                <a:gridCol w="745920"/>
              </a:tblGrid>
              <a:tr h="282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ICATOR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ARG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RER 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920">
                <a:tc gridSpan="6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empi di Attesa dai dati retrospettivi della SDO (Riferimento InSiD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765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) Per i tumori: casi entro 30g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≥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9,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3,8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89,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77,7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>
                      <a:noFill/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766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) Per le protesi d’anca: casi entro 180g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≥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85,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73,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29,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83,6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(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ND767</a:t>
                      </a: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) Per tutte le altre prestazioni oggetto di monitoraggio: casi entro la classe di priorità assegna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≥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93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69,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54,5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75,2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6666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egnaposto numero diapositiva 1"/>
          <p:cNvSpPr/>
          <p:nvPr/>
        </p:nvSpPr>
        <p:spPr>
          <a:xfrm>
            <a:off x="6913440" y="6332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F0E-E61C-41E8-94D8-E1B8059A51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3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74" name="CasellaDiTesto 2"/>
          <p:cNvSpPr/>
          <p:nvPr/>
        </p:nvSpPr>
        <p:spPr>
          <a:xfrm>
            <a:off x="4788000" y="20808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Contributi in conto esercizio anni 2019-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ttangolo 3"/>
          <p:cNvSpPr/>
          <p:nvPr/>
        </p:nvSpPr>
        <p:spPr>
          <a:xfrm>
            <a:off x="1300320" y="3659040"/>
            <a:ext cx="760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petto al preventivo 2021, i contributi in c/esercizio segnano un incremento di 7,9 milioni. Di tale incremento, la quota più significativa, pari a 7,12 milioni, è riconducibile alle Risorse ad integrazione dell'equilibrio economico finanziario dei bilanci d'esercizio 2021 assegnate con DGR 882/2022 “Assegnazione di risorse a favore delle aziende sanitarie a valere sui bilanci d'esercizio 2021”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Immagine 2" descr=""/>
          <p:cNvPicPr/>
          <p:nvPr/>
        </p:nvPicPr>
        <p:blipFill>
          <a:blip r:embed="rId2"/>
          <a:stretch/>
        </p:blipFill>
        <p:spPr>
          <a:xfrm>
            <a:off x="1311120" y="1695600"/>
            <a:ext cx="7605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2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1" name="Picture 4" descr="C:\Documents and Settings\Coglianese\Desktop\LOGO\PUNTI.gif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" descr="C:\Documents and Settings\Coglianese\Desktop\LOGO\SCRIVI.gif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53" name="Segnaposto numero diapositiva 1"/>
          <p:cNvSpPr/>
          <p:nvPr/>
        </p:nvSpPr>
        <p:spPr>
          <a:xfrm>
            <a:off x="7175520" y="644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F1A5-0979-4E86-B1D1-5ED4B248DB95}" type="slidenum"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0"/>
          <p:cNvSpPr/>
          <p:nvPr/>
        </p:nvSpPr>
        <p:spPr>
          <a:xfrm>
            <a:off x="5800680" y="3747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Narrow"/>
              </a:rPr>
              <a:t>Assistenza Ospedal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3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5"/>
          <p:cNvSpPr/>
          <p:nvPr/>
        </p:nvSpPr>
        <p:spPr>
          <a:xfrm>
            <a:off x="1295280" y="1287360"/>
            <a:ext cx="7453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59"/>
                </a:solidFill>
                <a:latin typeface="Arial"/>
                <a:ea typeface="Arial"/>
              </a:rPr>
              <a:t>Emergenza ospedal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</a:t>
            </a:r>
            <a:r>
              <a:rPr b="1" lang="it-IT" sz="10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1" lang="it-IT" sz="1000" spc="-1" strike="noStrike">
                <a:solidFill>
                  <a:srgbClr val="009959"/>
                </a:solidFill>
                <a:latin typeface="Arial"/>
                <a:ea typeface="Times New Roman"/>
              </a:rPr>
              <a:t>Pronto Soccorso</a:t>
            </a:r>
            <a:r>
              <a:rPr b="0" lang="it-IT" sz="1000" spc="-1" strike="noStrike">
                <a:solidFill>
                  <a:srgbClr val="009959"/>
                </a:solidFill>
                <a:latin typeface="Arial"/>
                <a:ea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 nel 2021, rispetto al totale complessivo, un incremento pari a +3.155 accessi (+8,5%), registrando un significativo recupero rispetto al 2020 che registrava un abbattimento importante riconducibile alla prima situazione di emergenza SARS-COV-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Immagine 1" descr=""/>
          <p:cNvPicPr/>
          <p:nvPr/>
        </p:nvPicPr>
        <p:blipFill>
          <a:blip r:embed="rId3"/>
          <a:stretch/>
        </p:blipFill>
        <p:spPr>
          <a:xfrm>
            <a:off x="2236680" y="2147760"/>
            <a:ext cx="5616720" cy="2325960"/>
          </a:xfrm>
          <a:prstGeom prst="rect">
            <a:avLst/>
          </a:prstGeom>
          <a:ln w="0">
            <a:noFill/>
          </a:ln>
        </p:spPr>
      </p:pic>
      <p:sp>
        <p:nvSpPr>
          <p:cNvPr id="1458" name="CasellaDiTesto 10"/>
          <p:cNvSpPr/>
          <p:nvPr/>
        </p:nvSpPr>
        <p:spPr>
          <a:xfrm>
            <a:off x="1539720" y="4797360"/>
            <a:ext cx="713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Fonte I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D775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 % accessi con permanenza &lt;6 +1 ore in PS con più di 45.000 accessi. (valore riferimento &gt; 90%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USL di Imola, nel 2021, presenta una percentuale tra le migliori a livello regionale, pari a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82,83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%, in calo rispetto al 2020 (86,81%). Il valore medio regionale 2021 risulta pari a 77,55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Segnaposto numero diapositiva 1"/>
          <p:cNvSpPr/>
          <p:nvPr/>
        </p:nvSpPr>
        <p:spPr>
          <a:xfrm>
            <a:off x="6913440" y="6332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0E2-0FA4-4CD8-A177-3CAA4D7EC3C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79" name="CasellaDiTesto 2"/>
          <p:cNvSpPr/>
          <p:nvPr/>
        </p:nvSpPr>
        <p:spPr>
          <a:xfrm>
            <a:off x="577152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Conto 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0" name="Immagine 2" descr=""/>
          <p:cNvPicPr/>
          <p:nvPr/>
        </p:nvPicPr>
        <p:blipFill>
          <a:blip r:embed="rId2"/>
          <a:stretch/>
        </p:blipFill>
        <p:spPr>
          <a:xfrm>
            <a:off x="1649520" y="1122480"/>
            <a:ext cx="695484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egnaposto numero diapositiva 1"/>
          <p:cNvSpPr/>
          <p:nvPr/>
        </p:nvSpPr>
        <p:spPr>
          <a:xfrm>
            <a:off x="6942240" y="6524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2DD-6F00-4FD2-B1DB-0408E630EE3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83" name="Text Box 15"/>
          <p:cNvSpPr/>
          <p:nvPr/>
        </p:nvSpPr>
        <p:spPr>
          <a:xfrm>
            <a:off x="5381640" y="277920"/>
            <a:ext cx="32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Acquisto beni di consu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rebuchet MS"/>
              </a:rPr>
              <a:t>2021-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15"/>
          <p:cNvSpPr/>
          <p:nvPr/>
        </p:nvSpPr>
        <p:spPr>
          <a:xfrm>
            <a:off x="1116000" y="3781440"/>
            <a:ext cx="79200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La spesa per l’acquisto di beni sanitari e non sanitari, comprensivi della variazione delle rimanenze, registrano un incremento di € 2,913 milioni rispetto al consuntivo 2020 (+7,7%). Sull’incremento incide il consumo di scorte giacenti al 31.12.2020 dei Dispositivi Medici e di Protezione Individuale, correlati alla gestione del Covid-19, acquisiti dai soggetti aggregatori in ambito regionale. Principali fattori di incremen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L’aggregato Farmaci registra un incremento di consumo rispetto al 2020 pari a pari a € +1.269.862 determinato prevalentemente da maggiore erogazione diretta di farmaci rivolti alla cura di pazienti affetti da malattie rare € +493.174 e per la parte restante prevalentemente dovuto da maggiore erogazione diretta “per conto”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I farmaci innovativi oncologici e non oncologici rilevano un consuntivo 2021 pari a € 1.359.105 interamente finanziat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Nell’ambito dei beni sanitari, incide la spesa per DM e DPI che comprende i consumi di guanti non chirurgici e camici standard con un aumento di spesa rispettivamente di € +503.670 e di € +665.929 rispetto al 2020, per un complessivo di € +1.169.599, per effetti di maggiori prezzi unitari di acquisto effettuati dai soggetti aggregatori nel corso del 202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I beni non sanitari registrano un aumento di € 479.121: incide la spesa per DPI quali camici di protezione, mascherine FFPP2, calzari, visiere e kit di protezione facciale, tute che nel 2021 sono stati movimentati e valorizzati a costo di acquisto 2020; il confronto tra 2021 ed 2020 per tali fattori produttivi, correlati di fatto alla gestione della pandemia, deve tenere anche conto che nel 2020 si sono registrati consumi dei prodotti valorizzati a prezzo “zero” in quanto forniti dalla Protezione Civil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Si registra un incremento anche della spesa per Dispositivi Medici, quale effetto dell’aumento dell’attività programmata, dei Dispositivi Diagnostici di laboratorio correlati alla pandemia Covid-19, dei DM rivolti a pazienti diabetici, nonché dei Vaccini antinfluenzali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Immagine 1" descr=""/>
          <p:cNvPicPr/>
          <p:nvPr/>
        </p:nvPicPr>
        <p:blipFill>
          <a:blip r:embed="rId2"/>
          <a:stretch/>
        </p:blipFill>
        <p:spPr>
          <a:xfrm>
            <a:off x="2451240" y="1144440"/>
            <a:ext cx="53355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egnaposto numero diapositiva 1"/>
          <p:cNvSpPr/>
          <p:nvPr/>
        </p:nvSpPr>
        <p:spPr>
          <a:xfrm>
            <a:off x="699912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5B11-62D5-4D31-BD22-74A8E0C5A4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88" name="Text Box 15"/>
          <p:cNvSpPr/>
          <p:nvPr/>
        </p:nvSpPr>
        <p:spPr>
          <a:xfrm>
            <a:off x="5219640" y="189000"/>
            <a:ext cx="321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Acquisto servizi sanitari 2021-2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5"/>
          <p:cNvSpPr/>
          <p:nvPr/>
        </p:nvSpPr>
        <p:spPr>
          <a:xfrm>
            <a:off x="1116000" y="3672000"/>
            <a:ext cx="7920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L’aggregato di spesa per servizi sanitari osserva nel 2021 una variazione in incremento di € 10,638 milioni rispetto al consuntivo 2020 (+7,3%). Oltre il 50% della variazione in aumento rispetto al precedente esercizio è determinato dalla </a:t>
            </a:r>
            <a:r>
              <a:rPr b="1" lang="it-IT" sz="900" spc="-1" strike="noStrike">
                <a:solidFill>
                  <a:srgbClr val="339966"/>
                </a:solidFill>
                <a:latin typeface="Arial"/>
                <a:ea typeface="Arial"/>
              </a:rPr>
              <a:t>mobilità passiva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 che presenta una spesa in aumento di € +5,235 milioni. Al netto della mobilità passiva, la variazione per l’acquisto di servizi sanitari, presenta un aumento di € 5,742 milioni rispetto al consuntivo 2020 (+5,2%). Le principali variazioni riguardano i fattori di seguito elencat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Diagnostica di laboratorio per tamponi molecolari COVID: + € 2,595 milion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Degenze - Case di Cura: + € 955 mi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Farmaceutica Convenzionata (compresa la remunerazione aggiuntiva): + € 238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Diagnostica di laboratorio (LUM): + € 217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Medicina di base – Continuità assistenziale – PLS: + € 238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Assistenza termale: + € 143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Test sierologici COVID (farmacie territorio): + € 284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Rimborsi di DPI a strutture socio sanitarie: + € 142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Accordo SPDH utilizzo piattaforma chirurgica: + € 131 mi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Servizio distribuzione farmaci «per conto»: + € 82 mi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Immagine 1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5111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egnaposto numero diapositiva 1"/>
          <p:cNvSpPr/>
          <p:nvPr/>
        </p:nvSpPr>
        <p:spPr>
          <a:xfrm>
            <a:off x="699912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BAD5-C530-482F-9A6F-86B351167D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15"/>
          <p:cNvSpPr/>
          <p:nvPr/>
        </p:nvSpPr>
        <p:spPr>
          <a:xfrm>
            <a:off x="5241960" y="307800"/>
            <a:ext cx="32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Mobilità Pas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Picture 2" descr=""/>
          <p:cNvPicPr/>
          <p:nvPr/>
        </p:nvPicPr>
        <p:blipFill>
          <a:blip r:embed="rId2"/>
          <a:stretch/>
        </p:blipFill>
        <p:spPr>
          <a:xfrm>
            <a:off x="2050920" y="1298520"/>
            <a:ext cx="5718240" cy="2370240"/>
          </a:xfrm>
          <a:prstGeom prst="rect">
            <a:avLst/>
          </a:prstGeom>
          <a:ln w="0">
            <a:noFill/>
          </a:ln>
        </p:spPr>
      </p:pic>
      <p:sp>
        <p:nvSpPr>
          <p:cNvPr id="1295" name="CasellaDiTesto 13"/>
          <p:cNvSpPr/>
          <p:nvPr/>
        </p:nvSpPr>
        <p:spPr>
          <a:xfrm>
            <a:off x="1258920" y="3789360"/>
            <a:ext cx="77058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ll’analisi di dettaglio dei valori di mobilità passiva, si evince che il 70% dell’incremento riguarda l’ambito della degenza ospedaliera che presenta una variazione di € +3,700 milioni (+18,1%) rispetto al precedente esercizio. La maggiore produzione verso residenti imolesi si concentra sulle seguenti Azien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buClr>
                <a:srgbClr val="009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RCSS – Azienda Ospedaliero Universitaria di Bologna la cui produzione registra un incremento del +19% rispetto al 2020 per un valore pari a € + 1,970 milion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buClr>
                <a:srgbClr val="009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USL di Bologna la cui produzione registra un aumento del +10% (€ + 509 mil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buClr>
                <a:srgbClr val="009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OR Istituto Ortopedico Rizzoli, la cui produzione è incrementata del 51% con una variazione di € +655 mi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e variazioni sono conseguenti alla ripresa delle attività programmate; si deve anche tenere conto che la produzione dell’IRCSS – AOU Bologna e dell’AUSL di Bologna comprendono la casistica Covid-19 in degenza per la concentrazione su tali Aziende delle terapie intensive Covid. La valorizzazione delle degenze Covid-19 ammonta complessivamente tra le due Aziende a € 3.244.520, di cui € 1.872.612 verso AUSL Bologna ed € 1.371.908 verso IRCSS-AOU Bolog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Segnaposto numero diapositiva 1"/>
          <p:cNvSpPr/>
          <p:nvPr/>
        </p:nvSpPr>
        <p:spPr>
          <a:xfrm>
            <a:off x="7010280" y="636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E91-9103-4201-918D-ECCFA615FF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298" name="Text Box 15"/>
          <p:cNvSpPr/>
          <p:nvPr/>
        </p:nvSpPr>
        <p:spPr>
          <a:xfrm>
            <a:off x="5219640" y="189000"/>
            <a:ext cx="29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Farmaceutica Convenzion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1332000" y="4292640"/>
            <a:ext cx="7488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In relazione alla farmaceutica convenzionata la programmazione aziendale per il 2021 prevedeva un incremento del +0,8% con un obiettivo regionale per l’anno 2021 era pari ad un aumento medio del +0,1%. Il consuntivo 2021 registra un incremento della spesa convenzionata netta del +0,5% rispetto all’esercizio 2020 pari a € +92.484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L’assistenza farmaceutica comprende inoltre un incremento pari a € +145.932 relativo alla remunerazione aggiuntiva verso le farmacie del territorio per il rimborso dei farmaci erogati in regime di SSN, in applicazione del Decreto 11 agosto 2021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Immagine 1" descr=""/>
          <p:cNvPicPr/>
          <p:nvPr/>
        </p:nvPicPr>
        <p:blipFill>
          <a:blip r:embed="rId2"/>
          <a:stretch/>
        </p:blipFill>
        <p:spPr>
          <a:xfrm>
            <a:off x="2238480" y="1457280"/>
            <a:ext cx="56293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egnaposto numero diapositiva 1"/>
          <p:cNvSpPr/>
          <p:nvPr/>
        </p:nvSpPr>
        <p:spPr>
          <a:xfrm>
            <a:off x="7010280" y="636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4D9-CA9C-48A8-A60B-5F4CD8F54C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Picture 5" descr="C:\Documents and Settings\Coglianese\Desktop\LOGO\SCRIVI.gif"/>
          <p:cNvPicPr/>
          <p:nvPr/>
        </p:nvPicPr>
        <p:blipFill>
          <a:blip r:embed="rId1"/>
          <a:stretch/>
        </p:blipFill>
        <p:spPr>
          <a:xfrm>
            <a:off x="971640" y="-47520"/>
            <a:ext cx="3209760" cy="88416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15"/>
          <p:cNvSpPr/>
          <p:nvPr/>
        </p:nvSpPr>
        <p:spPr>
          <a:xfrm>
            <a:off x="5724360" y="128520"/>
            <a:ext cx="29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rebuchet MS"/>
              </a:rPr>
              <a:t>Spesa Assistenza Farmaceu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15"/>
          <p:cNvSpPr/>
          <p:nvPr/>
        </p:nvSpPr>
        <p:spPr>
          <a:xfrm>
            <a:off x="1116000" y="5113440"/>
            <a:ext cx="7920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complessiva 2021 (convenzionata + acquisto ospedaliero) registra un incremento del +3,9% rispetto al consuntivo 20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339966"/>
                </a:solidFill>
                <a:latin typeface="Arial"/>
                <a:ea typeface="Arial"/>
              </a:rPr>
              <a:t>Acquisto Ospedaliero di Farmaci.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i osserva un incremento (2021 vs 2020) pari a +6,1% a fronte di una media RER del +9,6%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in incremento riguarda prevalentemente la Distribuzione diretta di Farmaci per malattie rare e per Distribuzione «per conto» da parte delle farmaci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a spesa territoriale netta pro capite pesata 2021 è pari a 183,46 con uno scostamento dalla media RER di € 3,74. Tale scostamento risulta inferiore rispetto allo scostamento dalla media RER che si era registrato nel 2020 (€ 5,19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Immagine 1" descr=""/>
          <p:cNvPicPr/>
          <p:nvPr/>
        </p:nvPicPr>
        <p:blipFill>
          <a:blip r:embed="rId2"/>
          <a:stretch/>
        </p:blipFill>
        <p:spPr>
          <a:xfrm>
            <a:off x="2031840" y="1155600"/>
            <a:ext cx="61628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Dell'orto Alessandra</cp:lastModifiedBy>
  <cp:lastPrinted>2022-06-01T12:07:05Z</cp:lastPrinted>
  <dcterms:modified xsi:type="dcterms:W3CDTF">2022-06-06T07:38:27Z</dcterms:modified>
  <cp:revision>769</cp:revision>
  <dc:subject/>
  <dc:title>Presentazione di PowerPoint</dc:title>
</cp:coreProperties>
</file>