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.png" ContentType="image/png"/>
  <Override PartName="/ppt/media/image3.png" ContentType="image/pn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E0BA633-23DA-4B41-852C-2DABE024C87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7029C7-2C94-4F82-B84A-83AAB6E6C31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D7D450-795D-4AF1-AC04-792A5B90407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48D0760-01FA-4CCD-B9F4-D21C68E0DCE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BDEAC9-EAEC-4484-866B-14E76A77B0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CBE0B6-5B58-4ABD-B16C-CFA41C82C69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8AC8A7-0318-4898-9020-702AA166BB4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608A2C-6845-4E9A-9443-572EFC1C7B6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38A8C2-A753-45BC-ACE2-D1ED2A3F0B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CC54956-C1A1-4898-AD9F-225AAC23D7A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973275-0F62-4595-8EF2-0B30C773601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F17A45-3C1C-43A4-9901-92699584D3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754192-CBA4-48F1-ACB6-2FFBDF65897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7D68913-0C94-4F11-8F9D-AA02F3CEE55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E1D7A0-A6CE-437F-8BEF-C43F6D22B6E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C22977-A2D0-4D86-AF58-76D4F139319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F4A5E7-8D16-41B1-9EAD-33ECD371D1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018AEC3-94FE-4B1D-AEBF-FBB52A22D08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7D6658-1DD7-4452-8748-989FAE5A96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CDA423-1AB0-4A48-BC76-8B501C131F9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FB6753-A50B-484F-B0D6-C7E825D40B7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FA7413-968D-4787-8850-F1B22FCA7A6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AE5C29-1C5C-4F05-AAB0-9A8BA2F7B1F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BE5050-739D-4F07-B045-DBB400E7243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E10A185-E085-47DD-99C9-C5EC702EE4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3B3007-3B31-41F5-953F-3191322106C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A3019D0-FBA7-4555-AC99-83E790C1A21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22A69B-F372-4631-944A-B42CED3B211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7A84E8-B87E-4BEC-91FC-2464B85426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FE60B9-EF35-46C4-9591-BDF49C8665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5DB1427-3BDC-4680-A1B8-415F17D0691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A5AB74-88A4-4BB8-BB28-262B70F0F0D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DEC30A-7AB5-476D-85A8-397F36AD4E6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BCE7-FA45-4D82-9747-A4A85258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2F0-8DE4-4669-B8FD-3C7D034A6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8B7-825D-428D-8E85-96427210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B60F-3084-4EB6-89AC-8095C445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7CF4-B202-4A6F-9C38-D37AA226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1FD-B44D-4989-B17F-B5CCA2FA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29F-B960-4947-9DA1-96ADCE10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AAA-95CA-4B3B-80A2-96EB4B32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E76-7F9C-497C-91D8-9C6B2619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06F-E3EE-4D60-93F0-BF171850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6CF-DE87-4B0A-8D27-7D48E07D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CF3F-5FC7-4A64-B89B-0D615EDD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1F2F-9EB4-4B7F-8236-B2F5BE8F474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99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9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79280" y="2133720"/>
            <a:ext cx="8785440" cy="29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800" spc="-1" strike="noStrike">
                <a:solidFill>
                  <a:srgbClr val="000000"/>
                </a:solidFill>
                <a:latin typeface="Cambria"/>
              </a:rPr>
              <a:t>BOLLETTINO SETTIMANALE COVID-19 DELL’ AZIENDA USL DI IMOLA</a:t>
            </a:r>
            <a:endParaRPr b="0" lang="en-US" sz="5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79280" y="585144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Comitato di Distretto, Nuovo Circondario Imolese, 05/04/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5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1"/>
          <p:cNvSpPr/>
          <p:nvPr/>
        </p:nvSpPr>
        <p:spPr>
          <a:xfrm>
            <a:off x="179280" y="5419800"/>
            <a:ext cx="878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ANDREA ROS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58" name="Immagine 2" descr=""/>
          <p:cNvPicPr/>
          <p:nvPr/>
        </p:nvPicPr>
        <p:blipFill>
          <a:blip r:embed="rId4"/>
          <a:stretch/>
        </p:blipFill>
        <p:spPr>
          <a:xfrm>
            <a:off x="5986440" y="4361040"/>
            <a:ext cx="2978280" cy="1299960"/>
          </a:xfrm>
          <a:prstGeom prst="rect">
            <a:avLst/>
          </a:prstGeom>
          <a:ln w="0">
            <a:noFill/>
          </a:ln>
        </p:spPr>
      </p:pic>
      <p:pic>
        <p:nvPicPr>
          <p:cNvPr id="59" name="Immagine 4" descr=""/>
          <p:cNvPicPr/>
          <p:nvPr/>
        </p:nvPicPr>
        <p:blipFill>
          <a:blip r:embed="rId5"/>
          <a:stretch/>
        </p:blipFill>
        <p:spPr>
          <a:xfrm>
            <a:off x="755640" y="4410000"/>
            <a:ext cx="144000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, prevalenza casi attivi e incidenza nuovi casi x 100.000 abitanti,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4" name="Text Box 9"/>
          <p:cNvSpPr/>
          <p:nvPr/>
        </p:nvSpPr>
        <p:spPr>
          <a:xfrm>
            <a:off x="20520" y="145080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COVID PER COMUN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0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68" name="Immagine 1" descr=""/>
          <p:cNvPicPr/>
          <p:nvPr/>
        </p:nvPicPr>
        <p:blipFill>
          <a:blip r:embed="rId4"/>
          <a:stretch/>
        </p:blipFill>
        <p:spPr>
          <a:xfrm>
            <a:off x="449280" y="2205000"/>
            <a:ext cx="8226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magine 1" descr=""/>
          <p:cNvPicPr/>
          <p:nvPr/>
        </p:nvPicPr>
        <p:blipFill>
          <a:blip r:embed="rId1"/>
          <a:stretch/>
        </p:blipFill>
        <p:spPr>
          <a:xfrm>
            <a:off x="34920" y="1700280"/>
            <a:ext cx="9088560" cy="468468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11"/>
          <p:cNvSpPr/>
          <p:nvPr/>
        </p:nvSpPr>
        <p:spPr>
          <a:xfrm>
            <a:off x="179280" y="648648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di incidenza settimanale per 100.000 abitanti residenti,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0520" y="1260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PER COMUNE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4280" y="64990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1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7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79" name="Connettore 1 2"/>
          <p:cNvSpPr/>
          <p:nvPr/>
        </p:nvSpPr>
        <p:spPr>
          <a:xfrm>
            <a:off x="539640" y="378936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0" name="Connettore 1 2"/>
          <p:cNvSpPr/>
          <p:nvPr/>
        </p:nvSpPr>
        <p:spPr>
          <a:xfrm>
            <a:off x="539640" y="4221000"/>
            <a:ext cx="8353440" cy="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1" name="Connettore 1 2"/>
          <p:cNvSpPr/>
          <p:nvPr/>
        </p:nvSpPr>
        <p:spPr>
          <a:xfrm>
            <a:off x="539640" y="4581360"/>
            <a:ext cx="8353440" cy="0"/>
          </a:xfrm>
          <a:prstGeom prst="line">
            <a:avLst/>
          </a:prstGeom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Immagine 1" descr=""/>
          <p:cNvPicPr/>
          <p:nvPr/>
        </p:nvPicPr>
        <p:blipFill>
          <a:blip r:embed="rId1"/>
          <a:stretch/>
        </p:blipFill>
        <p:spPr>
          <a:xfrm>
            <a:off x="1614600" y="1743120"/>
            <a:ext cx="5914800" cy="47815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percentuali di casi attivi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8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8"/>
          <p:cNvSpPr/>
          <p:nvPr/>
        </p:nvSpPr>
        <p:spPr>
          <a:xfrm>
            <a:off x="1787400" y="155736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0520" y="1260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CASI PER SETTING DI ISOLAMENTO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89" name="Text Box 12"/>
          <p:cNvSpPr/>
          <p:nvPr/>
        </p:nvSpPr>
        <p:spPr>
          <a:xfrm>
            <a:off x="11592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2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91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92" name="CasellaDiTesto 14"/>
          <p:cNvSpPr/>
          <p:nvPr/>
        </p:nvSpPr>
        <p:spPr>
          <a:xfrm>
            <a:off x="5407200" y="182556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21 (1,7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3" name="CasellaDiTesto 16"/>
          <p:cNvSpPr/>
          <p:nvPr/>
        </p:nvSpPr>
        <p:spPr>
          <a:xfrm>
            <a:off x="4859280" y="5641920"/>
            <a:ext cx="138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.029 (81,9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4" name="CasellaDiTesto 16"/>
          <p:cNvSpPr/>
          <p:nvPr/>
        </p:nvSpPr>
        <p:spPr>
          <a:xfrm>
            <a:off x="4736880" y="3716280"/>
            <a:ext cx="154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TOTALE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1.257 CAS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5" name="CasellaDiTesto 14"/>
          <p:cNvSpPr/>
          <p:nvPr/>
        </p:nvSpPr>
        <p:spPr>
          <a:xfrm>
            <a:off x="6566760" y="206064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158 (12,6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6" name="CasellaDiTesto 14"/>
          <p:cNvSpPr/>
          <p:nvPr/>
        </p:nvSpPr>
        <p:spPr>
          <a:xfrm>
            <a:off x="7110720" y="2565360"/>
            <a:ext cx="87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8 (0,6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97" name="CasellaDiTesto 14"/>
          <p:cNvSpPr/>
          <p:nvPr/>
        </p:nvSpPr>
        <p:spPr>
          <a:xfrm>
            <a:off x="7342920" y="292428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41 (3,3%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magine 1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  <p:pic>
        <p:nvPicPr>
          <p:cNvPr id="199" name="Immagine 1" descr=""/>
          <p:cNvPicPr/>
          <p:nvPr/>
        </p:nvPicPr>
        <p:blipFill>
          <a:blip r:embed="rId2"/>
          <a:stretch/>
        </p:blipFill>
        <p:spPr>
          <a:xfrm>
            <a:off x="0" y="1160640"/>
            <a:ext cx="9140760" cy="2844720"/>
          </a:xfrm>
          <a:prstGeom prst="rect">
            <a:avLst/>
          </a:prstGeom>
          <a:ln w="0">
            <a:noFill/>
          </a:ln>
        </p:spPr>
      </p:pic>
      <p:sp>
        <p:nvSpPr>
          <p:cNvPr id="20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1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0520" y="119700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OSTI LETTO OCCUPAT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06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07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8" name="CasellaDiTesto 14"/>
          <p:cNvSpPr/>
          <p:nvPr/>
        </p:nvSpPr>
        <p:spPr>
          <a:xfrm>
            <a:off x="4140360" y="210672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09" name="CasellaDiTesto 15"/>
          <p:cNvSpPr/>
          <p:nvPr/>
        </p:nvSpPr>
        <p:spPr>
          <a:xfrm>
            <a:off x="3348000" y="47242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0" name="CasellaDiTesto 13"/>
          <p:cNvSpPr/>
          <p:nvPr/>
        </p:nvSpPr>
        <p:spPr>
          <a:xfrm>
            <a:off x="8126280" y="472428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0520" y="13809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EROGATORE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4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1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0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1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2" name="Immagine 1" descr=""/>
          <p:cNvPicPr/>
          <p:nvPr/>
        </p:nvPicPr>
        <p:blipFill>
          <a:blip r:embed="rId4"/>
          <a:stretch/>
        </p:blipFill>
        <p:spPr>
          <a:xfrm>
            <a:off x="1353960" y="2201760"/>
            <a:ext cx="638676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2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PER CLASSI DI E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5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32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3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5 (+3,5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5" name="Immagine 1" descr=""/>
          <p:cNvPicPr/>
          <p:nvPr/>
        </p:nvPicPr>
        <p:blipFill>
          <a:blip r:embed="rId4"/>
          <a:stretch/>
        </p:blipFill>
        <p:spPr>
          <a:xfrm>
            <a:off x="20520" y="1836720"/>
            <a:ext cx="910296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Sospetti ed accertati, valori assoluti su base settimanale,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37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38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RICOVERI COVID DA PRONTO SOCCORSO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2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6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4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45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6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47" name="Immagine 1" descr=""/>
          <p:cNvPicPr/>
          <p:nvPr/>
        </p:nvPicPr>
        <p:blipFill>
          <a:blip r:embed="rId4"/>
          <a:stretch/>
        </p:blipFill>
        <p:spPr>
          <a:xfrm>
            <a:off x="20520" y="1979640"/>
            <a:ext cx="912348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4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20520" y="15256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CONTAGI NELLA RESIDENZIALITA’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4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7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5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57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8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971640" y="2325600"/>
            <a:ext cx="748800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RA ASP Medicina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9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RA Coccinella                                       7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GA Suore via Petrarca                         1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GA Villa Adele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  7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CDR San Rocco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17 ospiti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TOTALE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66 ospiti  (+8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(solo 1 caso sintomatico ricoverato; -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Cambria"/>
              </a:rPr>
              <a:t>13 (-2) operatori</a:t>
            </a:r>
            <a:r>
              <a:rPr b="1" lang="it-IT" sz="2400" spc="-1" strike="noStrike">
                <a:solidFill>
                  <a:srgbClr val="000000"/>
                </a:solidFill>
                <a:latin typeface="Cambria"/>
              </a:rPr>
              <a:t> in isolamento, in 7 strutture (+3)</a:t>
            </a:r>
            <a:endParaRPr b="0" lang="en-US" sz="2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5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CONTAGI NELLE SCUOLE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6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8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6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6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69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0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179280" y="1916280"/>
            <a:ext cx="8785440" cy="40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Durante la settimana trascorsa sono state gestite in tutto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3 Classi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(-6), 2 Primarie e 1 Secondaria di I grado, per un totale di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18 alunni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(-4) con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ambria"/>
              </a:rPr>
              <a:t>provvedimenti di quarantena parziale</a:t>
            </a: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 (Vs non vaccinati).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mbria"/>
              </a:rPr>
              <a:t>Dal 1 aprile, a seguito dell’introduzione delle nuove norme contumaciali, la presenza di casi di positività non interromperà in alcun caso lo svolgimento della didattica in presenza; non saranno pertanto più previsti provvedimenti di quarantena per le classi.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Immagine 1" descr=""/>
          <p:cNvPicPr/>
          <p:nvPr/>
        </p:nvPicPr>
        <p:blipFill>
          <a:blip r:embed="rId1"/>
          <a:stretch/>
        </p:blipFill>
        <p:spPr>
          <a:xfrm>
            <a:off x="20520" y="4005360"/>
            <a:ext cx="9088560" cy="2852640"/>
          </a:xfrm>
          <a:prstGeom prst="rect">
            <a:avLst/>
          </a:prstGeom>
          <a:ln w="0">
            <a:noFill/>
          </a:ln>
        </p:spPr>
      </p:pic>
      <p:pic>
        <p:nvPicPr>
          <p:cNvPr id="273" name="Immagine 1" descr=""/>
          <p:cNvPicPr/>
          <p:nvPr/>
        </p:nvPicPr>
        <p:blipFill>
          <a:blip r:embed="rId2"/>
          <a:stretch/>
        </p:blipFill>
        <p:spPr>
          <a:xfrm>
            <a:off x="20520" y="1173240"/>
            <a:ext cx="9088560" cy="2832120"/>
          </a:xfrm>
          <a:prstGeom prst="rect">
            <a:avLst/>
          </a:prstGeom>
          <a:ln w="0">
            <a:noFill/>
          </a:ln>
        </p:spPr>
      </p:pic>
      <p:sp>
        <p:nvSpPr>
          <p:cNvPr id="27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75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20520" y="1268280"/>
            <a:ext cx="91234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ATTIVITA’ MENSILE USCA (CONTATTI E VISITE)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-36360" y="648828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19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81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82" name="Figura a mano libera 6"/>
          <p:cNvSpPr/>
          <p:nvPr/>
        </p:nvSpPr>
        <p:spPr>
          <a:xfrm>
            <a:off x="6850080" y="2408400"/>
            <a:ext cx="1152360" cy="2236680"/>
          </a:xfrm>
          <a:custGeom>
            <a:avLst/>
            <a:gdLst/>
            <a:ahLst/>
            <a:rect l="l" t="t" r="r" b="b"/>
            <a:pathLst>
              <a:path w="1152248" h="2237015">
                <a:moveTo>
                  <a:pt x="0" y="0"/>
                </a:moveTo>
                <a:cubicBezTo>
                  <a:pt x="171450" y="532039"/>
                  <a:pt x="342900" y="1064079"/>
                  <a:pt x="530678" y="1436915"/>
                </a:cubicBezTo>
                <a:cubicBezTo>
                  <a:pt x="718456" y="1809751"/>
                  <a:pt x="1277710" y="2073729"/>
                  <a:pt x="1126671" y="22370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3" name="Parentesi graffa chiusa 6"/>
          <p:cNvSpPr/>
          <p:nvPr/>
        </p:nvSpPr>
        <p:spPr>
          <a:xfrm>
            <a:off x="7812000" y="2408400"/>
            <a:ext cx="190440" cy="3020760"/>
          </a:xfrm>
          <a:custGeom>
            <a:avLst/>
            <a:gdLst>
              <a:gd name="textAreaLeft" fmla="*/ 0 w 190440"/>
              <a:gd name="textAreaRight" fmla="*/ 68760 w 190440"/>
              <a:gd name="textAreaTop" fmla="*/ 4680 h 3020760"/>
              <a:gd name="textAreaBottom" fmla="*/ 3016080 h 302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4" name="CasellaDiTesto 16"/>
          <p:cNvSpPr/>
          <p:nvPr/>
        </p:nvSpPr>
        <p:spPr>
          <a:xfrm>
            <a:off x="1403280" y="210672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5" name="CasellaDiTesto 17"/>
          <p:cNvSpPr/>
          <p:nvPr/>
        </p:nvSpPr>
        <p:spPr>
          <a:xfrm>
            <a:off x="3525840" y="4452840"/>
            <a:ext cx="1200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86" name="CasellaDiTesto 15"/>
          <p:cNvSpPr/>
          <p:nvPr/>
        </p:nvSpPr>
        <p:spPr>
          <a:xfrm>
            <a:off x="7966080" y="4452840"/>
            <a:ext cx="1200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0520" y="1260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MESSAGGI CHIAVE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-1810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6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1"/>
          <p:cNvSpPr/>
          <p:nvPr/>
        </p:nvSpPr>
        <p:spPr>
          <a:xfrm>
            <a:off x="42840" y="1857240"/>
            <a:ext cx="8928000" cy="46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Ulteriore balzo dell’incidenza di nuovi ca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654 casi x 100.000; +13,6%)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e della media casi/di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 (125; +15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Trasmissibilità sempre oltre la soglia epidemic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D(t): 1,07; percentuale di test positivi: 19,3%; (+0,9); contagi prevalenti nelle classi di età adulta, con mediana a 47,5 anni (+1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arico sanitario stabi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: ricoveri ordinari (per/con CoviD: 20; -2); terapia intensiva (1; -); età mediana dei ricoveri: 85 anni (+3,5); casi attivi (1.257; +54), test diagnostici (4.533; +355), attività settim. USCA (+3 contatti; -5 visite); ricoveri CoviD da PS (13; +4); OsCo (8; -); contagi nelle residenze (41; -25); contagi nei sanitari (29; +9); decessi CoviD (3; -2); alunni in quarantena (18; -4)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</a:rPr>
              <a:t>Copertura vaccinale in progressione lent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</a:rPr>
              <a:t>; 836 vaccinazioni eseguite, in riduzione di oltre 200 dalla scorsa settimana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Immagine 1" descr=""/>
          <p:cNvPicPr/>
          <p:nvPr/>
        </p:nvPicPr>
        <p:blipFill>
          <a:blip r:embed="rId1"/>
          <a:stretch/>
        </p:blipFill>
        <p:spPr>
          <a:xfrm>
            <a:off x="44280" y="3933720"/>
            <a:ext cx="9031320" cy="2936880"/>
          </a:xfrm>
          <a:prstGeom prst="rect">
            <a:avLst/>
          </a:prstGeom>
          <a:ln w="0">
            <a:noFill/>
          </a:ln>
        </p:spPr>
      </p:pic>
      <p:pic>
        <p:nvPicPr>
          <p:cNvPr id="288" name="Immagine 1" descr=""/>
          <p:cNvPicPr/>
          <p:nvPr/>
        </p:nvPicPr>
        <p:blipFill>
          <a:blip r:embed="rId2"/>
          <a:stretch/>
        </p:blipFill>
        <p:spPr>
          <a:xfrm>
            <a:off x="44280" y="1149480"/>
            <a:ext cx="9055440" cy="278424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0" name="Picture 4" descr="PUNTI"/>
          <p:cNvPicPr/>
          <p:nvPr/>
        </p:nvPicPr>
        <p:blipFill>
          <a:blip r:embed="rId3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SCRIVI"/>
          <p:cNvPicPr/>
          <p:nvPr/>
        </p:nvPicPr>
        <p:blipFill>
          <a:blip r:embed="rId4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20520" y="1125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DECESSI COVID PER SETTIMANA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295" name="Picture 12" descr="SCRIVI"/>
          <p:cNvPicPr/>
          <p:nvPr/>
        </p:nvPicPr>
        <p:blipFill>
          <a:blip r:embed="rId5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296" name="CasellaDiTesto 13"/>
          <p:cNvSpPr/>
          <p:nvPr/>
        </p:nvSpPr>
        <p:spPr>
          <a:xfrm>
            <a:off x="4044960" y="219708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0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7" name="CasellaDiTesto 14"/>
          <p:cNvSpPr/>
          <p:nvPr/>
        </p:nvSpPr>
        <p:spPr>
          <a:xfrm>
            <a:off x="3019320" y="4557600"/>
            <a:ext cx="1198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1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298" name="CasellaDiTesto 15"/>
          <p:cNvSpPr/>
          <p:nvPr/>
        </p:nvSpPr>
        <p:spPr>
          <a:xfrm>
            <a:off x="8028000" y="4557600"/>
            <a:ext cx="1198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ambria"/>
              </a:rPr>
              <a:t>2022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1"/>
          <p:cNvSpPr/>
          <p:nvPr/>
        </p:nvSpPr>
        <p:spPr>
          <a:xfrm>
            <a:off x="108000" y="65055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e Tassi grezzi di mortalità x 1.000 ab.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20520" y="134136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DECESSI COVID PER COMUNE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1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0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11"/>
          <p:cNvSpPr/>
          <p:nvPr/>
        </p:nvSpPr>
        <p:spPr>
          <a:xfrm>
            <a:off x="395280" y="2060640"/>
            <a:ext cx="748980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Totale: 421 (+3) (213M; 208F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mbria"/>
              </a:rPr>
              <a:t>Età media: 82,5 aa. (range 12-100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Imola: 220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S.Pietro: 6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edicina: 4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Dozza: 1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Borgo Tossignano: 16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Mordano: 11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Guelfo: 8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Fontanelic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alfiumanese: 7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Castel del Rio: 5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mbria"/>
              </a:rPr>
              <a:t>Non residenti: 22</a:t>
            </a:r>
            <a:endParaRPr b="0" lang="en-US" sz="16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09" name="Immagine 1" descr=""/>
          <p:cNvPicPr/>
          <p:nvPr/>
        </p:nvPicPr>
        <p:blipFill>
          <a:blip r:embed="rId4"/>
          <a:stretch/>
        </p:blipFill>
        <p:spPr>
          <a:xfrm>
            <a:off x="2627280" y="3152880"/>
            <a:ext cx="633744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11"/>
          <p:cNvSpPr/>
          <p:nvPr/>
        </p:nvSpPr>
        <p:spPr>
          <a:xfrm>
            <a:off x="57240" y="646596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28/03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20520" y="134136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DECESSI COVID PER CLASSI DI ETA’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2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1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1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85 (-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0" name="Immagine 1" descr=""/>
          <p:cNvPicPr/>
          <p:nvPr/>
        </p:nvPicPr>
        <p:blipFill>
          <a:blip r:embed="rId4"/>
          <a:stretch/>
        </p:blipFill>
        <p:spPr>
          <a:xfrm>
            <a:off x="57240" y="1844640"/>
            <a:ext cx="9037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3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2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9"/>
          <p:cNvSpPr/>
          <p:nvPr/>
        </p:nvSpPr>
        <p:spPr>
          <a:xfrm>
            <a:off x="20520" y="171936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DOSI SOMMINISTRATE E PRENOTAZION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29" name="Text Box 11"/>
          <p:cNvSpPr/>
          <p:nvPr/>
        </p:nvSpPr>
        <p:spPr>
          <a:xfrm>
            <a:off x="250920" y="5499000"/>
            <a:ext cx="87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D:  Prime Dosi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B:  Ciclo di Base (II dosi, dosi uniche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C:  Ciclo Completo (dosi aggiuntive, dosi booster)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0" name="Immagine 1" descr=""/>
          <p:cNvPicPr/>
          <p:nvPr/>
        </p:nvPicPr>
        <p:blipFill>
          <a:blip r:embed="rId4"/>
          <a:stretch/>
        </p:blipFill>
        <p:spPr>
          <a:xfrm>
            <a:off x="20520" y="2503440"/>
            <a:ext cx="9123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Immagine 1" descr=""/>
          <p:cNvPicPr/>
          <p:nvPr/>
        </p:nvPicPr>
        <p:blipFill>
          <a:blip r:embed="rId1"/>
          <a:stretch/>
        </p:blipFill>
        <p:spPr>
          <a:xfrm>
            <a:off x="299880" y="2048040"/>
            <a:ext cx="8544240" cy="3828960"/>
          </a:xfrm>
          <a:prstGeom prst="rect">
            <a:avLst/>
          </a:prstGeom>
          <a:ln w="0">
            <a:noFill/>
          </a:ln>
        </p:spPr>
      </p:pic>
      <p:sp>
        <p:nvSpPr>
          <p:cNvPr id="33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3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-10800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4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3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3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PRIM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1" name="Text Box 9"/>
          <p:cNvSpPr/>
          <p:nvPr/>
        </p:nvSpPr>
        <p:spPr>
          <a:xfrm>
            <a:off x="3706920" y="5732640"/>
            <a:ext cx="1873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8,4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Immagine 1" descr=""/>
          <p:cNvPicPr/>
          <p:nvPr/>
        </p:nvPicPr>
        <p:blipFill>
          <a:blip r:embed="rId1"/>
          <a:stretch/>
        </p:blipFill>
        <p:spPr>
          <a:xfrm>
            <a:off x="243000" y="1989000"/>
            <a:ext cx="8658000" cy="3867120"/>
          </a:xfrm>
          <a:prstGeom prst="rect">
            <a:avLst/>
          </a:prstGeom>
          <a:ln w="0">
            <a:noFill/>
          </a:ln>
        </p:spPr>
      </p:pic>
      <p:sp>
        <p:nvSpPr>
          <p:cNvPr id="343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4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46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5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4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 CICLO DI BASE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1" name="Text Box 9"/>
          <p:cNvSpPr/>
          <p:nvPr/>
        </p:nvSpPr>
        <p:spPr>
          <a:xfrm>
            <a:off x="3708360" y="5708520"/>
            <a:ext cx="18734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86,3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2" name="Text Box 11"/>
          <p:cNvSpPr/>
          <p:nvPr/>
        </p:nvSpPr>
        <p:spPr>
          <a:xfrm>
            <a:off x="250920" y="6073920"/>
            <a:ext cx="87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Immagine 1" descr=""/>
          <p:cNvPicPr/>
          <p:nvPr/>
        </p:nvPicPr>
        <p:blipFill>
          <a:blip r:embed="rId1"/>
          <a:stretch/>
        </p:blipFill>
        <p:spPr>
          <a:xfrm>
            <a:off x="266760" y="1920960"/>
            <a:ext cx="8610480" cy="40291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5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6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5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9"/>
          <p:cNvSpPr/>
          <p:nvPr/>
        </p:nvSpPr>
        <p:spPr>
          <a:xfrm>
            <a:off x="57240" y="1479600"/>
            <a:ext cx="91231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Cambria"/>
              </a:rPr>
              <a:t>COPERTURE/ADESIONI TERZE DOSI PER ETA’</a:t>
            </a:r>
            <a:endParaRPr b="0" lang="en-US" sz="2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3451320" y="580536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72,5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3" name="Text Box 9"/>
          <p:cNvSpPr/>
          <p:nvPr/>
        </p:nvSpPr>
        <p:spPr>
          <a:xfrm>
            <a:off x="4829040" y="5805360"/>
            <a:ext cx="881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mbria"/>
              </a:rPr>
              <a:t>72,7</a:t>
            </a:r>
            <a:endParaRPr b="0" lang="en-US" sz="1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250920" y="6073920"/>
            <a:ext cx="87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Copertura %: numero somministr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Adesione %: numero prenotazioni/popolazione target per età x 100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6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6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7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9"/>
          <p:cNvSpPr/>
          <p:nvPr/>
        </p:nvSpPr>
        <p:spPr>
          <a:xfrm>
            <a:off x="20520" y="12682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OPERATORI SOSPESI E ASSENZE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79280" y="616572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* Le riammissioni conseguono a sopraggiunta infezione/malattia o vaccinazione.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5" name="Immagine 1" descr=""/>
          <p:cNvPicPr/>
          <p:nvPr/>
        </p:nvPicPr>
        <p:blipFill>
          <a:blip r:embed="rId4"/>
          <a:stretch/>
        </p:blipFill>
        <p:spPr>
          <a:xfrm>
            <a:off x="1582560" y="2060640"/>
            <a:ext cx="59421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77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8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2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4" name="Rettangolo 1"/>
          <p:cNvSpPr/>
          <p:nvPr/>
        </p:nvSpPr>
        <p:spPr>
          <a:xfrm>
            <a:off x="250920" y="1968480"/>
            <a:ext cx="864216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Nell’ultima settimana sono stat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seguite 836 vaccinazion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 (103 I dosi, 209 II dosi e 544 III dosi), pari a circ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120 vaccinazioni/di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Copertura tendenzial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∼ 90% per le prim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73% per le 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ogressione delle terze dosi: già somministrate oltre 84.000, con ulteriori 282 utenti prenotati; ad oggi ne mancano all’appello circa 4.000 (III dosi a più di 120 gg dalle seconde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zioni di recall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per coloro che non si sono ancora vaccinati o prenotati dopo 120 giorni dalla seconda dose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tà 5/11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: 2.622 prime dosi eseguite (copertura 31,4%); 2.077 cicli completi (copertura 24,8%); 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86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89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29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1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VACCINAZIONE ANTI-COVID-19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3" name="Rettangolo 1"/>
          <p:cNvSpPr/>
          <p:nvPr/>
        </p:nvSpPr>
        <p:spPr>
          <a:xfrm>
            <a:off x="108000" y="1968480"/>
            <a:ext cx="8928000" cy="43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Over 50 non vaccinat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circa 2.700 residenti): accesso diretto in tutti gli hub vaccinali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Disponibilità del vaccino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Novavax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, previa prenotazione (con utilizzo dei consueti canali) per l’avvio di nuovi cicli vaccinali (prime dosi), in soggetti con più di 18 anni di età (ad oggi 110 somministrazioni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ressochè ultimata la somministrazione dell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nelle categorie di soggetti con compromissione della risposta immunitaria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soggetti con insufficienza renale cronica o malattia neoplastica)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Vaccinazioni CoviD nelle sole sedi AUSL 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(Imola Ospedale Vecchio e Case della Salute)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Immagine 1" descr=""/>
          <p:cNvPicPr/>
          <p:nvPr/>
        </p:nvPicPr>
        <p:blipFill>
          <a:blip r:embed="rId1"/>
          <a:stretch/>
        </p:blipFill>
        <p:spPr>
          <a:xfrm>
            <a:off x="20520" y="1717560"/>
            <a:ext cx="9102960" cy="47926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Valori assoluti giornalieri per dat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2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20520" y="126828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NUOVI CASI COVID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7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78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79" name="CasellaDiTesto 11"/>
          <p:cNvSpPr/>
          <p:nvPr/>
        </p:nvSpPr>
        <p:spPr>
          <a:xfrm>
            <a:off x="826920" y="4413240"/>
            <a:ext cx="13687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DELTA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0" name="CasellaDiTesto 12"/>
          <p:cNvSpPr/>
          <p:nvPr/>
        </p:nvSpPr>
        <p:spPr>
          <a:xfrm>
            <a:off x="6875640" y="157644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1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1" name="CasellaDiTesto 14"/>
          <p:cNvSpPr/>
          <p:nvPr/>
        </p:nvSpPr>
        <p:spPr>
          <a:xfrm>
            <a:off x="8028000" y="4292640"/>
            <a:ext cx="1368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Cambria"/>
                <a:ea typeface="Courier New"/>
              </a:rPr>
              <a:t>OMICRON 2</a:t>
            </a:r>
            <a:endParaRPr b="0" lang="en-US" sz="1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5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0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39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399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9"/>
          <p:cNvSpPr/>
          <p:nvPr/>
        </p:nvSpPr>
        <p:spPr>
          <a:xfrm>
            <a:off x="14400" y="12682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1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1" name="Rettangolo 1"/>
          <p:cNvSpPr/>
          <p:nvPr/>
        </p:nvSpPr>
        <p:spPr>
          <a:xfrm>
            <a:off x="117360" y="1844640"/>
            <a:ext cx="8775720" cy="46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Lo stato di emergenza è finito, ma non la pandemia; in questa fase con meno regole da dover osservare, saranno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decisivi i comportamenti individual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 (uso delle mascherine FFP2 al chiuso, 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ventilazione frequente degli ambienti, limitazione dei contatti interpersonali non essenziali, vaccinazione)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per non sovraccaricare ulteriormente i servizi sanitar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Non si può escludere la comparsa di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ulteriori nuove variant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 nel Regno Unito sta iniziando a circolare la variante Xe, combinazione di Omicron 1 e 2, che sembra essere ancor più contagiosa delle precedenti;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potremo quindi aspettarci altri incrementi di ca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, che faranno meno danni che in passato, se il livello di immunità nella popolazione permarrà elevato e se saranno mantenuti comportamenti responsabili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3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1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08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9"/>
          <p:cNvSpPr/>
          <p:nvPr/>
        </p:nvSpPr>
        <p:spPr>
          <a:xfrm>
            <a:off x="14400" y="12682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2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0" name="Rettangolo 1"/>
          <p:cNvSpPr/>
          <p:nvPr/>
        </p:nvSpPr>
        <p:spPr>
          <a:xfrm>
            <a:off x="108000" y="1700280"/>
            <a:ext cx="8928000" cy="53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I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VID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si conferma essere una malattia grave: in Italia è diventata per frequenza l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terza causa di mort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(con circa 160.000 decessi), dopo le malattie cardiovascolari e i tumori; a differenza di queste ultime, l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morti per COVID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sono in gran part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evitabili con la vaccinazion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 a morire sono prevalentemente coloro che non sono vaccinati o che lo sono solo parzialmente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Oggi chi è vaccinato con due dosi non è sufficientemente protetto; è perciò important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completare i cicli vaccinali con le terze do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La malattia non dà immunità permanent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 un soggetto guarito può riammalarsi, circa il 4% delle persone si reinfetta e cominciano ad esserci delle persone che si reinfettano anche più di due volte;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 distanza di sei mes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 anch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la protezione conferita dal vaccino inizia a decrescere, specie nei soggetti più anzian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2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8"/>
          <p:cNvSpPr/>
          <p:nvPr/>
        </p:nvSpPr>
        <p:spPr>
          <a:xfrm>
            <a:off x="1828800" y="1557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32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41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9"/>
          <p:cNvSpPr/>
          <p:nvPr/>
        </p:nvSpPr>
        <p:spPr>
          <a:xfrm>
            <a:off x="14400" y="1309680"/>
            <a:ext cx="912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PER CONCLUDERE (3)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419" name="Rettangolo 1"/>
          <p:cNvSpPr/>
          <p:nvPr/>
        </p:nvSpPr>
        <p:spPr>
          <a:xfrm>
            <a:off x="108000" y="1865160"/>
            <a:ext cx="892800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Per questo motivo si sta discutendo su quando (cioè a quale età) introdurre la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quarta dose negli anziani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 si attende un pronunciamento della Commissione Europea per una decisione uniforme, ispirata alle indicazioni provenienti dalle evidenze scientifiche; per tutti gli altri, l’obiettivo finale è di arrivare ad un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unico vaccino annu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, mirato alle varianti in circolazione: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anticovid ed antinfluenzale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Deve quindi proseguire il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Times New Roman"/>
              </a:rPr>
              <a:t>recupero degli esitanti alla vaccinazione e alla somministrazione della dose di richiamo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Times New Roman"/>
              </a:rPr>
              <a:t>, in particolare nei fragili e negli anziani;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Ci dobbiamo infine preparare a mantenere in essere </a:t>
            </a:r>
            <a:r>
              <a:rPr b="1" lang="it-IT" sz="2200" spc="-1" strike="noStrike" u="sng">
                <a:solidFill>
                  <a:srgbClr val="000000"/>
                </a:solidFill>
                <a:uFillTx/>
                <a:latin typeface="Cambria"/>
                <a:ea typeface="Calibri"/>
              </a:rPr>
              <a:t>misure di mitigazione e di sorveglianza epidemiologica nel lungo periodo</a:t>
            </a:r>
            <a:r>
              <a:rPr b="1" lang="it-IT" sz="2200" spc="-1" strike="noStrike">
                <a:solidFill>
                  <a:srgbClr val="000000"/>
                </a:solidFill>
                <a:latin typeface="Cambria"/>
                <a:ea typeface="Calibri"/>
              </a:rPr>
              <a:t>.</a:t>
            </a: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  <a:p>
            <a:pPr marL="285840" indent="-285840" algn="just">
              <a:lnSpc>
                <a:spcPct val="107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Immagine 1" descr=""/>
          <p:cNvPicPr/>
          <p:nvPr/>
        </p:nvPicPr>
        <p:blipFill>
          <a:blip r:embed="rId1"/>
          <a:stretch/>
        </p:blipFill>
        <p:spPr>
          <a:xfrm>
            <a:off x="44280" y="1792440"/>
            <a:ext cx="9079200" cy="46512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Incidenza cumulativa x 100.000 abitanti per settimana di diagnos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20520" y="13366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CIDENZA SETTIMANALE NUOVI CAS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89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4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1" name="Connettore 1 2"/>
          <p:cNvSpPr/>
          <p:nvPr/>
        </p:nvSpPr>
        <p:spPr>
          <a:xfrm>
            <a:off x="611280" y="522936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magine 1" descr=""/>
          <p:cNvPicPr/>
          <p:nvPr/>
        </p:nvPicPr>
        <p:blipFill>
          <a:blip r:embed="rId1"/>
          <a:stretch/>
        </p:blipFill>
        <p:spPr>
          <a:xfrm>
            <a:off x="20520" y="1828800"/>
            <a:ext cx="9102960" cy="44085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179280" y="62373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Giorno centrale della media mobile (calcolata su 7 giorni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4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95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5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0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20520" y="135900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INDICE DI REPLICAZIONE DIAGNOSTICO RD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(</a:t>
            </a:r>
            <a:r>
              <a:rPr b="0" lang="it-IT" sz="32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2" name="Connettore 1 2"/>
          <p:cNvSpPr/>
          <p:nvPr/>
        </p:nvSpPr>
        <p:spPr>
          <a:xfrm>
            <a:off x="304920" y="4869000"/>
            <a:ext cx="873108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Immagine 1" descr=""/>
          <p:cNvPicPr/>
          <p:nvPr/>
        </p:nvPicPr>
        <p:blipFill>
          <a:blip r:embed="rId1"/>
          <a:stretch/>
        </p:blipFill>
        <p:spPr>
          <a:xfrm>
            <a:off x="23760" y="1380960"/>
            <a:ext cx="9096480" cy="5143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1"/>
          <p:cNvSpPr/>
          <p:nvPr/>
        </p:nvSpPr>
        <p:spPr>
          <a:xfrm>
            <a:off x="179280" y="65102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Media settimanale di test eseguiti e percentuale di positività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5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06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20520" y="1430280"/>
            <a:ext cx="91234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Cambria"/>
              </a:rPr>
              <a:t>TEST POSITIVI/TEST ESEGUITI</a:t>
            </a: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6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12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13" name="CasellaDiTesto 15"/>
          <p:cNvSpPr/>
          <p:nvPr/>
        </p:nvSpPr>
        <p:spPr>
          <a:xfrm>
            <a:off x="7599600" y="143820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26,5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4" name="CasellaDiTesto 15"/>
          <p:cNvSpPr/>
          <p:nvPr/>
        </p:nvSpPr>
        <p:spPr>
          <a:xfrm>
            <a:off x="7814880" y="165420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21,4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5" name="CasellaDiTesto 15"/>
          <p:cNvSpPr/>
          <p:nvPr/>
        </p:nvSpPr>
        <p:spPr>
          <a:xfrm>
            <a:off x="7922520" y="242100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6,7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6" name="CasellaDiTesto 15"/>
          <p:cNvSpPr/>
          <p:nvPr/>
        </p:nvSpPr>
        <p:spPr>
          <a:xfrm>
            <a:off x="8031600" y="352728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6,2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7" name="CasellaDiTesto 15"/>
          <p:cNvSpPr/>
          <p:nvPr/>
        </p:nvSpPr>
        <p:spPr>
          <a:xfrm>
            <a:off x="7383960" y="184464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25,8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8" name="CasellaDiTesto 16"/>
          <p:cNvSpPr/>
          <p:nvPr/>
        </p:nvSpPr>
        <p:spPr>
          <a:xfrm>
            <a:off x="7238520" y="259092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29,7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19" name="CasellaDiTesto 15"/>
          <p:cNvSpPr/>
          <p:nvPr/>
        </p:nvSpPr>
        <p:spPr>
          <a:xfrm>
            <a:off x="7129800" y="278136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1,3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0" name="CasellaDiTesto 15"/>
          <p:cNvSpPr/>
          <p:nvPr/>
        </p:nvSpPr>
        <p:spPr>
          <a:xfrm>
            <a:off x="8175240" y="393372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1,9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1" name="CasellaDiTesto 15"/>
          <p:cNvSpPr/>
          <p:nvPr/>
        </p:nvSpPr>
        <p:spPr>
          <a:xfrm>
            <a:off x="8211600" y="424656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2,6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2" name="CasellaDiTesto 15"/>
          <p:cNvSpPr/>
          <p:nvPr/>
        </p:nvSpPr>
        <p:spPr>
          <a:xfrm>
            <a:off x="8247240" y="475308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1,4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3" name="CasellaDiTesto 15"/>
          <p:cNvSpPr/>
          <p:nvPr/>
        </p:nvSpPr>
        <p:spPr>
          <a:xfrm>
            <a:off x="8390880" y="439884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2,9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4" name="CasellaDiTesto 15"/>
          <p:cNvSpPr/>
          <p:nvPr/>
        </p:nvSpPr>
        <p:spPr>
          <a:xfrm>
            <a:off x="8463240" y="407664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8,7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5" name="CasellaDiTesto 15"/>
          <p:cNvSpPr/>
          <p:nvPr/>
        </p:nvSpPr>
        <p:spPr>
          <a:xfrm>
            <a:off x="8571960" y="503856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8,4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26" name="CasellaDiTesto 15"/>
          <p:cNvSpPr/>
          <p:nvPr/>
        </p:nvSpPr>
        <p:spPr>
          <a:xfrm>
            <a:off x="8714160" y="4221000"/>
            <a:ext cx="534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Calibri"/>
              </a:rPr>
              <a:t>19,3%</a:t>
            </a:r>
            <a:endParaRPr b="0" lang="en-US" sz="11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Immagine 1" descr=""/>
          <p:cNvPicPr/>
          <p:nvPr/>
        </p:nvPicPr>
        <p:blipFill>
          <a:blip r:embed="rId1"/>
          <a:stretch/>
        </p:blipFill>
        <p:spPr>
          <a:xfrm>
            <a:off x="44280" y="1768320"/>
            <a:ext cx="9061560" cy="4675320"/>
          </a:xfrm>
          <a:prstGeom prst="rect">
            <a:avLst/>
          </a:prstGeom>
          <a:ln w="0">
            <a:noFill/>
          </a:ln>
        </p:spPr>
      </p:pic>
      <p:sp>
        <p:nvSpPr>
          <p:cNvPr id="128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29" name="Picture 4" descr="PUNTI"/>
          <p:cNvPicPr/>
          <p:nvPr/>
        </p:nvPicPr>
        <p:blipFill>
          <a:blip r:embed="rId2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SCRIVI"/>
          <p:cNvPicPr/>
          <p:nvPr/>
        </p:nvPicPr>
        <p:blipFill>
          <a:blip r:embed="rId3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1835280" y="153036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0520" y="1268280"/>
            <a:ext cx="91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3333cc"/>
                </a:solidFill>
                <a:latin typeface="Cambria"/>
              </a:rPr>
              <a:t>INCIDENZA SETTIMANALE PER AUSL</a:t>
            </a:r>
            <a:endParaRPr b="0" lang="en-US" sz="4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7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35" name="Picture 12" descr="SCRIVI"/>
          <p:cNvPicPr/>
          <p:nvPr/>
        </p:nvPicPr>
        <p:blipFill>
          <a:blip r:embed="rId4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179280" y="64436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Tassi settimanali di incidenza cumulativa x 100.000 abitanti 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7" name="Connettore 1 2"/>
          <p:cNvSpPr/>
          <p:nvPr/>
        </p:nvSpPr>
        <p:spPr>
          <a:xfrm>
            <a:off x="611280" y="4221000"/>
            <a:ext cx="8353440" cy="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1"/>
          <p:cNvSpPr/>
          <p:nvPr/>
        </p:nvSpPr>
        <p:spPr>
          <a:xfrm>
            <a:off x="179280" y="657684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Frequenza di casi attivi per sesso ed età,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0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0520" y="1306440"/>
            <a:ext cx="91234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3333cc"/>
                </a:solidFill>
                <a:latin typeface="Cambria"/>
              </a:rPr>
              <a:t>CASI ATTIVI PER ETA’</a:t>
            </a:r>
            <a:endParaRPr b="0" lang="en-US" sz="48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8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6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1"/>
          <p:cNvSpPr/>
          <p:nvPr/>
        </p:nvSpPr>
        <p:spPr>
          <a:xfrm>
            <a:off x="331920" y="6237360"/>
            <a:ext cx="848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Eta’ mediana = 47,5 (+1)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48" name="Immagine 1" descr=""/>
          <p:cNvPicPr/>
          <p:nvPr/>
        </p:nvPicPr>
        <p:blipFill>
          <a:blip r:embed="rId4"/>
          <a:stretch/>
        </p:blipFill>
        <p:spPr>
          <a:xfrm>
            <a:off x="214200" y="1846440"/>
            <a:ext cx="871560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1"/>
          <p:cNvSpPr/>
          <p:nvPr/>
        </p:nvSpPr>
        <p:spPr>
          <a:xfrm>
            <a:off x="179280" y="6505560"/>
            <a:ext cx="878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mbria"/>
              </a:rPr>
              <a:t>Prevalenza Casi Attivi x 1.000 ab. x classi di età scolare, al 04/04/2022</a:t>
            </a:r>
            <a:endParaRPr b="0" lang="en-US" sz="14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0" name="Line 3"/>
          <p:cNvSpPr/>
          <p:nvPr/>
        </p:nvSpPr>
        <p:spPr>
          <a:xfrm flipH="1">
            <a:off x="0" y="1125360"/>
            <a:ext cx="1295280" cy="0"/>
          </a:xfrm>
          <a:prstGeom prst="line">
            <a:avLst/>
          </a:prstGeom>
          <a:ln w="9360">
            <a:solidFill>
              <a:srgbClr val="009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1" name="Picture 4" descr="PUNTI"/>
          <p:cNvPicPr/>
          <p:nvPr/>
        </p:nvPicPr>
        <p:blipFill>
          <a:blip r:embed="rId1"/>
          <a:stretch/>
        </p:blipFill>
        <p:spPr>
          <a:xfrm>
            <a:off x="304920" y="152280"/>
            <a:ext cx="860400" cy="844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SCRIVI"/>
          <p:cNvPicPr/>
          <p:nvPr/>
        </p:nvPicPr>
        <p:blipFill>
          <a:blip r:embed="rId2"/>
          <a:stretch/>
        </p:blipFill>
        <p:spPr>
          <a:xfrm>
            <a:off x="1523880" y="0"/>
            <a:ext cx="3505320" cy="9651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"/>
          <p:cNvSpPr/>
          <p:nvPr/>
        </p:nvSpPr>
        <p:spPr>
          <a:xfrm>
            <a:off x="1828800" y="16002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20520" y="1341360"/>
            <a:ext cx="9123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Cambria"/>
              </a:rPr>
              <a:t>EVOLUZIONE CASI IN ETA’ SCOLARE </a:t>
            </a:r>
            <a:endParaRPr b="0" lang="en-US" sz="36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44280" y="6488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mbria"/>
              </a:rPr>
              <a:t>9/32</a:t>
            </a:r>
            <a:endParaRPr b="0" lang="en-US" sz="2000" spc="-1" strike="noStrike">
              <a:solidFill>
                <a:srgbClr val="3333cc"/>
              </a:solidFill>
              <a:latin typeface="Showcard Gothic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1295280" y="0"/>
            <a:ext cx="7848720" cy="1143000"/>
          </a:xfrm>
          <a:prstGeom prst="rect">
            <a:avLst/>
          </a:prstGeom>
          <a:solidFill>
            <a:srgbClr val="009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Showcard Gothic"/>
            </a:endParaRPr>
          </a:p>
        </p:txBody>
      </p:sp>
      <p:pic>
        <p:nvPicPr>
          <p:cNvPr id="157" name="Picture 12" descr="SCRIVI"/>
          <p:cNvPicPr/>
          <p:nvPr/>
        </p:nvPicPr>
        <p:blipFill>
          <a:blip r:embed="rId3"/>
          <a:stretch/>
        </p:blipFill>
        <p:spPr>
          <a:xfrm>
            <a:off x="1353960" y="-57240"/>
            <a:ext cx="3505320" cy="965160"/>
          </a:xfrm>
          <a:prstGeom prst="rect">
            <a:avLst/>
          </a:prstGeom>
          <a:ln w="0">
            <a:noFill/>
          </a:ln>
        </p:spPr>
      </p:pic>
      <p:pic>
        <p:nvPicPr>
          <p:cNvPr id="158" name="Immagine 1" descr=""/>
          <p:cNvPicPr/>
          <p:nvPr/>
        </p:nvPicPr>
        <p:blipFill>
          <a:blip r:embed="rId4"/>
          <a:stretch/>
        </p:blipFill>
        <p:spPr>
          <a:xfrm>
            <a:off x="138240" y="1946160"/>
            <a:ext cx="88675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3T08:57:11Z</dcterms:created>
  <dc:creator>Coglianese</dc:creator>
  <dc:description/>
  <dc:language>en-US</dc:language>
  <cp:lastModifiedBy>Rossi Andrea</cp:lastModifiedBy>
  <cp:lastPrinted>2022-03-29T08:43:29Z</cp:lastPrinted>
  <dcterms:modified xsi:type="dcterms:W3CDTF">2022-04-05T08:16:52Z</dcterms:modified>
  <cp:revision>2595</cp:revision>
  <dc:subject/>
  <dc:title>Presentazione di PowerPoint</dc:title>
</cp:coreProperties>
</file>