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6CED66-C0A0-4E05-BBB5-3199FFECADA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4781F6-4DC4-4943-8D92-50FA0BEE906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CF1AB2-1163-4CE0-AC36-40D2B7E9450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5D906E-B4E3-47EA-B69D-E261C43E444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B1E9B2-529B-46C2-913D-79D62996820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C15D60-BA2F-4A1D-8509-5B3A89C1558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444754-CBFF-4D64-9EE3-54CE1ACBED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BE6F67-D550-490B-9127-0054B20AA3C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B78895-5C55-49DC-AA6D-F802F4B90D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F5DAE1-6871-46C1-AECB-FEA3A1B2B2E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7E51AB-9B87-41E3-AE3F-DE810CCCB7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CA9C6F-9E7B-44EE-9655-ADC9EC82492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F51FF3-BF4F-49CE-8343-80AB2DE0910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0DBD6E-A7F3-43C5-96F3-A870E6F61E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FAE2D1-65D0-41BB-A6D3-114B3CC8ECF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BC9984-CB6D-4372-B525-EE1B046DB77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EDC49C-7D91-4524-BD30-83E50A63911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1A5E9C-F9F9-4177-A057-87E3FC4D9F0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B78D96-A3C5-4263-8913-5FA44DF5916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BD518E-C9F5-4FBD-8E01-FDD725F1CA9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975F59-ED00-49F0-A402-146E419DCA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3F0693-60C3-4EED-B51E-5B409B945EE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463BF7-382D-4C88-9C26-AD655872E93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C020DA-BED2-4DAB-9D08-969FAE18CFE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6E60E5-3E8F-485E-AAFF-85281BC0EEA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FC6D91-F853-4027-BD9D-E08DAF39335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961627-4FE4-4096-A29D-CD370CA18E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87FE65-33E6-42FD-ACC9-B62F00C9D89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D63C17-9F66-4FFF-AECD-468FBFDDE5D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03114C-A9E1-4E83-90DB-7761C91C3D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AFEE88-1F82-40F1-89A4-B9AE48A4B1A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5867FE-28B6-4B7D-B62A-399CDB04E4C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7206DD-A60A-4497-9EA7-B7E8415931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834-D3DB-43E7-9B08-1176BBDC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3A9-EDEC-487E-90DF-F9ADF320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DDC-6A2C-4CB1-A533-6F3C87F5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B1A-F464-42CF-8500-12B55E79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3A1-4015-41B8-BF0B-A4643C66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81F-041F-40DC-84AA-F02F2305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20E-6F21-4ADE-9A43-69927CB2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6D6-6E82-4977-A9EA-8E2BD4B2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A1D-248B-4A4D-8008-58CE490E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1F7-06F5-4D27-ACF3-5293AECA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68E-D16D-4202-980F-0FA7E411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2AA-79C5-4B6E-85F8-B57BF20D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AED8-2B75-4A1D-8EE8-7AE6231E12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2133720"/>
            <a:ext cx="878544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800" spc="-1" strike="noStrike">
                <a:solidFill>
                  <a:srgbClr val="000000"/>
                </a:solidFill>
                <a:latin typeface="Cambria"/>
              </a:rPr>
              <a:t>BOLLETTINO SETTIMANALE COVID-19 DELL’ AZIENDA USL DI IMOLA</a:t>
            </a:r>
            <a:endParaRPr b="0" lang="en-US" sz="5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79280" y="58514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Comitato di Distretto, Nuovo Circondario Imolese, 03/05/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79280" y="54198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ANDREA ROS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8" name="Immagine 2" descr=""/>
          <p:cNvPicPr/>
          <p:nvPr/>
        </p:nvPicPr>
        <p:blipFill>
          <a:blip r:embed="rId4"/>
          <a:stretch/>
        </p:blipFill>
        <p:spPr>
          <a:xfrm>
            <a:off x="5986440" y="4361040"/>
            <a:ext cx="2978280" cy="129996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4" descr=""/>
          <p:cNvPicPr/>
          <p:nvPr/>
        </p:nvPicPr>
        <p:blipFill>
          <a:blip r:embed="rId5"/>
          <a:stretch/>
        </p:blipFill>
        <p:spPr>
          <a:xfrm>
            <a:off x="755640" y="4410000"/>
            <a:ext cx="14400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, prevalenza casi attivi e incidenza nuovi casi x 100.000 abitanti,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0520" y="14508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COVID PER COMUN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0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4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55" name="Immagine 1" descr=""/>
          <p:cNvPicPr/>
          <p:nvPr/>
        </p:nvPicPr>
        <p:blipFill>
          <a:blip r:embed="rId4"/>
          <a:stretch/>
        </p:blipFill>
        <p:spPr>
          <a:xfrm>
            <a:off x="690480" y="2276640"/>
            <a:ext cx="7769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magine 1" descr=""/>
          <p:cNvPicPr/>
          <p:nvPr/>
        </p:nvPicPr>
        <p:blipFill>
          <a:blip r:embed="rId1"/>
          <a:stretch/>
        </p:blipFill>
        <p:spPr>
          <a:xfrm>
            <a:off x="44280" y="1741320"/>
            <a:ext cx="9071280" cy="47451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di incidenza settimanale per 100.000 abitanti residenti,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9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0520" y="1260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PER COMUNE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1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65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66" name="Connettore 1 2"/>
          <p:cNvSpPr/>
          <p:nvPr/>
        </p:nvSpPr>
        <p:spPr>
          <a:xfrm>
            <a:off x="539640" y="3716280"/>
            <a:ext cx="8353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7" name="Connettore 1 2"/>
          <p:cNvSpPr/>
          <p:nvPr/>
        </p:nvSpPr>
        <p:spPr>
          <a:xfrm>
            <a:off x="539640" y="4149720"/>
            <a:ext cx="8353440" cy="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8" name="Connettore 1 2"/>
          <p:cNvSpPr/>
          <p:nvPr/>
        </p:nvSpPr>
        <p:spPr>
          <a:xfrm>
            <a:off x="539640" y="4581360"/>
            <a:ext cx="83534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magine 1" descr=""/>
          <p:cNvPicPr/>
          <p:nvPr/>
        </p:nvPicPr>
        <p:blipFill>
          <a:blip r:embed="rId1"/>
          <a:stretch/>
        </p:blipFill>
        <p:spPr>
          <a:xfrm>
            <a:off x="1614600" y="1743120"/>
            <a:ext cx="5914800" cy="4781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percentuali di casi attivi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2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1787400" y="155736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0520" y="1260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PER SETTING DI ISOLAMENTO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1592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2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9" name="CasellaDiTesto 14"/>
          <p:cNvSpPr/>
          <p:nvPr/>
        </p:nvSpPr>
        <p:spPr>
          <a:xfrm>
            <a:off x="5383080" y="182556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6 (0,6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0" name="CasellaDiTesto 16"/>
          <p:cNvSpPr/>
          <p:nvPr/>
        </p:nvSpPr>
        <p:spPr>
          <a:xfrm>
            <a:off x="4859280" y="564192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772 (76,4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1" name="CasellaDiTesto 16"/>
          <p:cNvSpPr/>
          <p:nvPr/>
        </p:nvSpPr>
        <p:spPr>
          <a:xfrm>
            <a:off x="4735440" y="371628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TOTALE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1.010 CA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2" name="CasellaDiTesto 14"/>
          <p:cNvSpPr/>
          <p:nvPr/>
        </p:nvSpPr>
        <p:spPr>
          <a:xfrm>
            <a:off x="6571800" y="20606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157 (15,5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3" name="CasellaDiTesto 14"/>
          <p:cNvSpPr/>
          <p:nvPr/>
        </p:nvSpPr>
        <p:spPr>
          <a:xfrm>
            <a:off x="7302960" y="276084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4 (0,4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4" name="CasellaDiTesto 14"/>
          <p:cNvSpPr/>
          <p:nvPr/>
        </p:nvSpPr>
        <p:spPr>
          <a:xfrm>
            <a:off x="7530840" y="33098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71 (7,0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magine 1" descr=""/>
          <p:cNvPicPr/>
          <p:nvPr/>
        </p:nvPicPr>
        <p:blipFill>
          <a:blip r:embed="rId1"/>
          <a:stretch/>
        </p:blipFill>
        <p:spPr>
          <a:xfrm>
            <a:off x="20520" y="4005360"/>
            <a:ext cx="9102960" cy="2852640"/>
          </a:xfrm>
          <a:prstGeom prst="rect">
            <a:avLst/>
          </a:prstGeom>
          <a:ln w="0">
            <a:noFill/>
          </a:ln>
        </p:spPr>
      </p:pic>
      <p:pic>
        <p:nvPicPr>
          <p:cNvPr id="186" name="Immagine 1" descr=""/>
          <p:cNvPicPr/>
          <p:nvPr/>
        </p:nvPicPr>
        <p:blipFill>
          <a:blip r:embed="rId2"/>
          <a:stretch/>
        </p:blipFill>
        <p:spPr>
          <a:xfrm>
            <a:off x="0" y="1160640"/>
            <a:ext cx="9140760" cy="2844720"/>
          </a:xfrm>
          <a:prstGeom prst="rect">
            <a:avLst/>
          </a:prstGeom>
          <a:ln w="0">
            <a:noFill/>
          </a:ln>
        </p:spPr>
      </p:pic>
      <p:sp>
        <p:nvSpPr>
          <p:cNvPr id="18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88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OSTI LETTO OCCUPAT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3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4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5" name="CasellaDiTesto 14"/>
          <p:cNvSpPr/>
          <p:nvPr/>
        </p:nvSpPr>
        <p:spPr>
          <a:xfrm>
            <a:off x="4140360" y="210672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6" name="CasellaDiTesto 15"/>
          <p:cNvSpPr/>
          <p:nvPr/>
        </p:nvSpPr>
        <p:spPr>
          <a:xfrm>
            <a:off x="3348000" y="47242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7" name="CasellaDiTesto 13"/>
          <p:cNvSpPr/>
          <p:nvPr/>
        </p:nvSpPr>
        <p:spPr>
          <a:xfrm>
            <a:off x="8126280" y="472428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0520" y="13809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PER EROGATORE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4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07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8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9" name="Immagine 1" descr=""/>
          <p:cNvPicPr/>
          <p:nvPr/>
        </p:nvPicPr>
        <p:blipFill>
          <a:blip r:embed="rId4"/>
          <a:stretch/>
        </p:blipFill>
        <p:spPr>
          <a:xfrm>
            <a:off x="896760" y="2225520"/>
            <a:ext cx="7275600" cy="35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PER CLASSI DI ETA’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5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9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0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77 (+4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2" name="Immagine 1" descr=""/>
          <p:cNvPicPr/>
          <p:nvPr/>
        </p:nvPicPr>
        <p:blipFill>
          <a:blip r:embed="rId4"/>
          <a:stretch/>
        </p:blipFill>
        <p:spPr>
          <a:xfrm>
            <a:off x="20520" y="1836720"/>
            <a:ext cx="9102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Sospetti ed accertati, valori assoluti su base settimanale,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COVID DA PRONTO SOCCORSO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6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2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3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4" name="Immagine 1" descr=""/>
          <p:cNvPicPr/>
          <p:nvPr/>
        </p:nvPicPr>
        <p:blipFill>
          <a:blip r:embed="rId4"/>
          <a:stretch/>
        </p:blipFill>
        <p:spPr>
          <a:xfrm>
            <a:off x="20520" y="1979640"/>
            <a:ext cx="91234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20520" y="162864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CONTAGI NELLA RESIDENZIALITA’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7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4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5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971640" y="2492280"/>
            <a:ext cx="748800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CRA Fontanelice                                 28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CRA F. Baroncini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 3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CRA Cidas Medicina                          26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CF Nonna Clelia                                      5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CA Albatros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  9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TOTALE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71 ospiti  (+33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(nessun ospite ricoverato; -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21 (+5) operatori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in isolamento, in 8 strutture (+2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Immagine 1" descr="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35000"/>
          </a:xfrm>
          <a:prstGeom prst="rect">
            <a:avLst/>
          </a:prstGeom>
          <a:ln w="0">
            <a:noFill/>
          </a:ln>
        </p:spPr>
      </p:pic>
      <p:pic>
        <p:nvPicPr>
          <p:cNvPr id="248" name="Immagine 1" descr=""/>
          <p:cNvPicPr/>
          <p:nvPr/>
        </p:nvPicPr>
        <p:blipFill>
          <a:blip r:embed="rId2"/>
          <a:stretch/>
        </p:blipFill>
        <p:spPr>
          <a:xfrm>
            <a:off x="20520" y="1173240"/>
            <a:ext cx="9088560" cy="2832120"/>
          </a:xfrm>
          <a:prstGeom prst="rect">
            <a:avLst/>
          </a:prstGeom>
          <a:ln w="0">
            <a:noFill/>
          </a:ln>
        </p:spPr>
      </p:pic>
      <p:sp>
        <p:nvSpPr>
          <p:cNvPr id="24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0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20520" y="1268280"/>
            <a:ext cx="9123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ATTIVITA’ MENSILE USCA (CONTATTI E VISITE)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8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6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57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8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9" name="CasellaDiTesto 16"/>
          <p:cNvSpPr/>
          <p:nvPr/>
        </p:nvSpPr>
        <p:spPr>
          <a:xfrm>
            <a:off x="1403280" y="210672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0" name="CasellaDiTesto 17"/>
          <p:cNvSpPr/>
          <p:nvPr/>
        </p:nvSpPr>
        <p:spPr>
          <a:xfrm>
            <a:off x="3525840" y="4452840"/>
            <a:ext cx="1200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1" name="CasellaDiTesto 15"/>
          <p:cNvSpPr/>
          <p:nvPr/>
        </p:nvSpPr>
        <p:spPr>
          <a:xfrm>
            <a:off x="7966080" y="4452840"/>
            <a:ext cx="1200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Immagine 1" descr=""/>
          <p:cNvPicPr/>
          <p:nvPr/>
        </p:nvPicPr>
        <p:blipFill>
          <a:blip r:embed="rId1"/>
          <a:stretch/>
        </p:blipFill>
        <p:spPr>
          <a:xfrm>
            <a:off x="44280" y="3933720"/>
            <a:ext cx="9055440" cy="2924280"/>
          </a:xfrm>
          <a:prstGeom prst="rect">
            <a:avLst/>
          </a:prstGeom>
          <a:ln w="0">
            <a:noFill/>
          </a:ln>
        </p:spPr>
      </p:pic>
      <p:pic>
        <p:nvPicPr>
          <p:cNvPr id="263" name="Immagine 1" descr=""/>
          <p:cNvPicPr/>
          <p:nvPr/>
        </p:nvPicPr>
        <p:blipFill>
          <a:blip r:embed="rId2"/>
          <a:stretch/>
        </p:blipFill>
        <p:spPr>
          <a:xfrm>
            <a:off x="44280" y="1149480"/>
            <a:ext cx="9055440" cy="2784240"/>
          </a:xfrm>
          <a:prstGeom prst="rect">
            <a:avLst/>
          </a:prstGeom>
          <a:ln w="0">
            <a:noFill/>
          </a:ln>
        </p:spPr>
      </p:pic>
      <p:sp>
        <p:nvSpPr>
          <p:cNvPr id="26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5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20520" y="1125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DECESSI COVID PER SETTIMANA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0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1" name="CasellaDiTesto 13"/>
          <p:cNvSpPr/>
          <p:nvPr/>
        </p:nvSpPr>
        <p:spPr>
          <a:xfrm>
            <a:off x="4044960" y="21970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2" name="CasellaDiTesto 14"/>
          <p:cNvSpPr/>
          <p:nvPr/>
        </p:nvSpPr>
        <p:spPr>
          <a:xfrm>
            <a:off x="3019320" y="455760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3" name="CasellaDiTesto 15"/>
          <p:cNvSpPr/>
          <p:nvPr/>
        </p:nvSpPr>
        <p:spPr>
          <a:xfrm>
            <a:off x="8028000" y="455760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0520" y="13320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MESSAGGI CHIAV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-1810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42840" y="1878120"/>
            <a:ext cx="8928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Sensibile riduzione dell’incidenz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587 nuovi casi x 100.000; -15,8%)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e della media casi/di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112; -21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Trasmissibilità marcatamente sotto la soglia epidemic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D(t): 0,84; percentuale di test positivi: 22,0%; (+1,6%); contagi prevalenti nelle classi di età adulta, con mediana a 53 anni (+1,0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arico sanitario in decremento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icoveri ordinari (per/con CoviD: 6; -6); terapia intensiva (0; -); età mediana dei ricoveri: 77 anni (+4); casi attivi (1.010; -106), test diagnostici (3.567; -978), attività settiman. USCA (-6 contatti; -3 visite); ricoveri CoviD da PS (8; -3); OsCo (4; -3); contagi in residenze (71; +33); contagi nei sanitari (25; -1); decessi CoviD (2; +2)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ampagna vaccin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1.162 (-13) vaccinazioni eseguite; progressione lenta delle quarte dosi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1"/>
          <p:cNvSpPr/>
          <p:nvPr/>
        </p:nvSpPr>
        <p:spPr>
          <a:xfrm>
            <a:off x="108000" y="65055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Tassi grezzi di mortalità x 1.000 ab.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DECESSI COVID PER COMUN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0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1"/>
          <p:cNvSpPr/>
          <p:nvPr/>
        </p:nvSpPr>
        <p:spPr>
          <a:xfrm>
            <a:off x="395280" y="2060640"/>
            <a:ext cx="748980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Totale: 425 (-) (213M; 212F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Età media: 82,5 aa. (range 12-100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Imola: 223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S.Pietro: 6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edicina: 48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Dozza: 1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Borgo Tossignano: 16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ordano: 1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Guelfo: 8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Fontanelic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alfiumanes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del Rio: 5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Non residenti: 22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4" name="Immagine 1" descr=""/>
          <p:cNvPicPr/>
          <p:nvPr/>
        </p:nvPicPr>
        <p:blipFill>
          <a:blip r:embed="rId4"/>
          <a:stretch/>
        </p:blipFill>
        <p:spPr>
          <a:xfrm>
            <a:off x="2700360" y="3191040"/>
            <a:ext cx="6264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1"/>
          <p:cNvSpPr/>
          <p:nvPr/>
        </p:nvSpPr>
        <p:spPr>
          <a:xfrm>
            <a:off x="57240" y="64659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20520" y="1341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DECESSI COVID PER CLASSI DI ETA’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1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85 (-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5" name="Immagine 1" descr=""/>
          <p:cNvPicPr/>
          <p:nvPr/>
        </p:nvPicPr>
        <p:blipFill>
          <a:blip r:embed="rId4"/>
          <a:stretch/>
        </p:blipFill>
        <p:spPr>
          <a:xfrm>
            <a:off x="179280" y="1868400"/>
            <a:ext cx="87854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2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9"/>
          <p:cNvSpPr/>
          <p:nvPr/>
        </p:nvSpPr>
        <p:spPr>
          <a:xfrm>
            <a:off x="20520" y="1719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DOSI SOMMINISTRATE E PRENOTAZION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50920" y="5499000"/>
            <a:ext cx="87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D:  Prime Dosi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B:  Ciclo di Base (II dosi, dosi uniche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C:  Ciclo Completo (dosi aggiuntive, dosi booster)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5" name="Immagine 1" descr=""/>
          <p:cNvPicPr/>
          <p:nvPr/>
        </p:nvPicPr>
        <p:blipFill>
          <a:blip r:embed="rId4"/>
          <a:stretch/>
        </p:blipFill>
        <p:spPr>
          <a:xfrm>
            <a:off x="22320" y="2757600"/>
            <a:ext cx="912168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Immagine 1" descr=""/>
          <p:cNvPicPr/>
          <p:nvPr/>
        </p:nvPicPr>
        <p:blipFill>
          <a:blip r:embed="rId1"/>
          <a:stretch/>
        </p:blipFill>
        <p:spPr>
          <a:xfrm>
            <a:off x="299880" y="2048040"/>
            <a:ext cx="8544240" cy="3828960"/>
          </a:xfrm>
          <a:prstGeom prst="rect">
            <a:avLst/>
          </a:prstGeom>
          <a:ln w="0">
            <a:noFill/>
          </a:ln>
        </p:spPr>
      </p:pic>
      <p:sp>
        <p:nvSpPr>
          <p:cNvPr id="30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8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3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3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PRIM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3706920" y="573264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8,4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Immagine 1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8000" cy="3867120"/>
          </a:xfrm>
          <a:prstGeom prst="rect">
            <a:avLst/>
          </a:prstGeom>
          <a:ln w="0">
            <a:noFill/>
          </a:ln>
        </p:spPr>
      </p:pic>
      <p:sp>
        <p:nvSpPr>
          <p:cNvPr id="31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9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4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4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CICLO DI BASE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3708360" y="570852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6,4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Immagine 1" descr=""/>
          <p:cNvPicPr/>
          <p:nvPr/>
        </p:nvPicPr>
        <p:blipFill>
          <a:blip r:embed="rId1"/>
          <a:stretch/>
        </p:blipFill>
        <p:spPr>
          <a:xfrm>
            <a:off x="266760" y="1776240"/>
            <a:ext cx="8610480" cy="4029120"/>
          </a:xfrm>
          <a:prstGeom prst="rect">
            <a:avLst/>
          </a:prstGeom>
          <a:ln w="0">
            <a:noFill/>
          </a:ln>
        </p:spPr>
      </p:pic>
      <p:sp>
        <p:nvSpPr>
          <p:cNvPr id="32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0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5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5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9"/>
          <p:cNvSpPr/>
          <p:nvPr/>
        </p:nvSpPr>
        <p:spPr>
          <a:xfrm>
            <a:off x="57240" y="134136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TERZ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3059280" y="563724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74,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4282920" y="563724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74,4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250920" y="5950080"/>
            <a:ext cx="87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Adesione %: numero prenot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6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9"/>
          <p:cNvSpPr/>
          <p:nvPr/>
        </p:nvSpPr>
        <p:spPr>
          <a:xfrm>
            <a:off x="57240" y="134136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QUART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250920" y="5950080"/>
            <a:ext cx="87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Adesione %: numero prenot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9" name="Immagine 1" descr=""/>
          <p:cNvPicPr/>
          <p:nvPr/>
        </p:nvPicPr>
        <p:blipFill>
          <a:blip r:embed="rId4"/>
          <a:stretch/>
        </p:blipFill>
        <p:spPr>
          <a:xfrm>
            <a:off x="171360" y="1768320"/>
            <a:ext cx="880128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7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OPERATORI SOSPESI E ASSENZE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179280" y="580536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* Le riammissioni conseguono a sopraggiunta infezione/malattia o vaccinazione. 18 operatori riammessi per guarigione risultano guariti da più di tre mesi, senza aver provveduto a vaccinarsi: in queste condizioni saranno nuovamente sospesi ad opera dei rispettivi Ordini Professionali.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0" name="Immagine 1" descr=""/>
          <p:cNvPicPr/>
          <p:nvPr/>
        </p:nvPicPr>
        <p:blipFill>
          <a:blip r:embed="rId4"/>
          <a:stretch/>
        </p:blipFill>
        <p:spPr>
          <a:xfrm>
            <a:off x="1403280" y="1773360"/>
            <a:ext cx="62643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8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9"/>
          <p:cNvSpPr/>
          <p:nvPr/>
        </p:nvSpPr>
        <p:spPr>
          <a:xfrm>
            <a:off x="20520" y="13096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EVOLUZIONE ISOLAMENTI X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0" name="Immagine 2" descr=""/>
          <p:cNvPicPr/>
          <p:nvPr/>
        </p:nvPicPr>
        <p:blipFill>
          <a:blip r:embed="rId4"/>
          <a:stretch/>
        </p:blipFill>
        <p:spPr>
          <a:xfrm>
            <a:off x="109440" y="1916280"/>
            <a:ext cx="8926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9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9" name="Rettangolo 1"/>
          <p:cNvSpPr/>
          <p:nvPr/>
        </p:nvSpPr>
        <p:spPr>
          <a:xfrm>
            <a:off x="250920" y="1968480"/>
            <a:ext cx="8642160" cy="43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Nell’ultima settimana sono stat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eseguite 1.162 vaccinazion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 (64 I dosi, 70 II dosi, 223 III dosi e 805 IV dosi), pari a circa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170 vaccinazioni/di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Copertura tendenziale a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90% per le prim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e a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75% per le terz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Progression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terz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: già somministrate 85.220, con ulteriori 257 utenti prenotati; ad oggi ne mancano all’appello circa 2.900 (III dosi a più di 120 gg dalle seconde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Progression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: domanda molto contenuta (1.891 somministrazioni, 1.199 prenotazioni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Età 5/11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: 2.640 prime dosi eseguite (copertura 31,7%); 2.096 cicli completi (copertura 25,2%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magine 1" descr=""/>
          <p:cNvPicPr/>
          <p:nvPr/>
        </p:nvPicPr>
        <p:blipFill>
          <a:blip r:embed="rId1"/>
          <a:stretch/>
        </p:blipFill>
        <p:spPr>
          <a:xfrm>
            <a:off x="20520" y="1746360"/>
            <a:ext cx="9102960" cy="4724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giornalieri per dat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2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0520" y="12682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NUOVI CAS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11"/>
          <p:cNvSpPr/>
          <p:nvPr/>
        </p:nvSpPr>
        <p:spPr>
          <a:xfrm>
            <a:off x="826920" y="441324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DELTA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0" name="CasellaDiTesto 12"/>
          <p:cNvSpPr/>
          <p:nvPr/>
        </p:nvSpPr>
        <p:spPr>
          <a:xfrm>
            <a:off x="6588000" y="160488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1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1" name="CasellaDiTesto 14"/>
          <p:cNvSpPr/>
          <p:nvPr/>
        </p:nvSpPr>
        <p:spPr>
          <a:xfrm>
            <a:off x="8028000" y="429264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2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8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0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8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8" name="Rettangolo 1"/>
          <p:cNvSpPr/>
          <p:nvPr/>
        </p:nvSpPr>
        <p:spPr>
          <a:xfrm>
            <a:off x="108000" y="1844640"/>
            <a:ext cx="89280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Over 50 non vaccinat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(circa 2.700 residenti): accesso diretto in tutti gli hub vaccinali; disponibilità del vaccino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Novavax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, previa prenotazione (con utilizzo dei consueti canali) per l’avvio di nuovi cicli vaccinali (prime dosi), in soggetti con più di 18 anni di età (ad oggi 138 somministrazioni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a dose nelle categorie di soggetti con compromissione della risposta immunitari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(è stato raggiunto circa il 60% di 500 soggetti con IRC o malattia neoplastica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a dose negli over 80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e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 negli ultra-fragili 60-79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(1.891 somministrazioni ambulatoriali; 1.199 prenotazioni); in corso gli accessi vaccinali nelle strutture residenziali per anziani e avviata la programmazione della chiamata attiva per gli utenti in assistenza domiciliare, in collaborazione con i MMG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1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4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14400" y="123840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6" name="Rettangolo 1"/>
          <p:cNvSpPr/>
          <p:nvPr/>
        </p:nvSpPr>
        <p:spPr>
          <a:xfrm>
            <a:off x="117360" y="1679400"/>
            <a:ext cx="877572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La curva epidemica si è abbassat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rispetto a quella della settimana precedente; i casi di malattia sono ancora molto numerosi, ma continuiamo ad osservare poche conseguenze in termini di carico dei servizi di diagnosi e cura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L’ospedale oggi impegna per il CoviD solo un settore di degenza con 8 PL dedicati a casi sospetti e casi accertati; anche l’OsCo CoviD impegna solo 5 PL dedicati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Continua la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decrescita dei casi di CoviD nelle fasce di età giovanil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(da 0 a 19 anni), mentre al contrario c’è una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tendenza all’aumento nelle fasce di età più avanzat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(over 70); si sono sviluppati due focolai in CRA, ma, grazie alla protezione conferita dal vaccino agli ospiti, con trascurabili conseguenze sanitarie sui soggetti infettati (nessun ricoverato)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2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9"/>
          <p:cNvSpPr/>
          <p:nvPr/>
        </p:nvSpPr>
        <p:spPr>
          <a:xfrm>
            <a:off x="14400" y="126828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5" name="Rettangolo 1"/>
          <p:cNvSpPr/>
          <p:nvPr/>
        </p:nvSpPr>
        <p:spPr>
          <a:xfrm>
            <a:off x="108000" y="1886040"/>
            <a:ext cx="892800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Grazie all’elevato livello di copertura vaccinale, l’impatto clinico della malattia resta quindi molto contenuto; nell’ultima settimana continuano ad esser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azzerati i ricoveri in terapia intensiv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Le forme gravi della malattia, ancorchè in forte riduzione, sono sempre possibili; per questo motivo riteniamo prudente, nel contesto epidemiologico dato, in attesa che la bella stagione convinca tutti o quasi, a passare più tempo all’aperto, ch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al chiuso continuino ad essere indossate le mascherin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, a prescindere dal fatto che le norme lo impongano o meno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E’ nei luoghi chiusi ed affollati infatti che c’è il maggior rischio di contagio e le mascherine conferiscono un protezione molto importante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magine 1" descr=""/>
          <p:cNvPicPr/>
          <p:nvPr/>
        </p:nvPicPr>
        <p:blipFill>
          <a:blip r:embed="rId1"/>
          <a:stretch/>
        </p:blipFill>
        <p:spPr>
          <a:xfrm>
            <a:off x="44280" y="1792440"/>
            <a:ext cx="9064800" cy="4651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cidenza cumulativa x 100.000 abitanti per settiman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5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20520" y="13366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NUOVI CAS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9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4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1" name="Connettore 1 2"/>
          <p:cNvSpPr/>
          <p:nvPr/>
        </p:nvSpPr>
        <p:spPr>
          <a:xfrm>
            <a:off x="468360" y="5229360"/>
            <a:ext cx="8496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magine 1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179280" y="6237360"/>
            <a:ext cx="878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Giorno centrale della media mobile (calcolata su 7 giorni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tervallo di Confidenza al 95% calcolato con metodo binomiale esatto con distribuzione F di Fisher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5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9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20520" y="135900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DICE DI REPLICAZIONE DIAGNOSTICO RD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1" name="Connettore 1 2"/>
          <p:cNvSpPr/>
          <p:nvPr/>
        </p:nvSpPr>
        <p:spPr>
          <a:xfrm>
            <a:off x="304920" y="5229360"/>
            <a:ext cx="8731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magine 1" descr=""/>
          <p:cNvPicPr/>
          <p:nvPr/>
        </p:nvPicPr>
        <p:blipFill>
          <a:blip r:embed="rId1"/>
          <a:stretch/>
        </p:blipFill>
        <p:spPr>
          <a:xfrm>
            <a:off x="23760" y="1600200"/>
            <a:ext cx="9096480" cy="4924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Media settimanale di test eseguiti (antigenici + molecolari) e percentuale di positività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5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0520" y="12682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TEST POSITIVI/TEST ESEGUIT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6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1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2" name="CasellaDiTesto 15"/>
          <p:cNvSpPr/>
          <p:nvPr/>
        </p:nvSpPr>
        <p:spPr>
          <a:xfrm>
            <a:off x="7241040" y="167004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26,5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3" name="CasellaDiTesto 15"/>
          <p:cNvSpPr/>
          <p:nvPr/>
        </p:nvSpPr>
        <p:spPr>
          <a:xfrm>
            <a:off x="8714520" y="41292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22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mmagine 1" descr=""/>
          <p:cNvPicPr/>
          <p:nvPr/>
        </p:nvPicPr>
        <p:blipFill>
          <a:blip r:embed="rId1"/>
          <a:stretch/>
        </p:blipFill>
        <p:spPr>
          <a:xfrm>
            <a:off x="44280" y="1768320"/>
            <a:ext cx="9061560" cy="4613400"/>
          </a:xfrm>
          <a:prstGeom prst="rect">
            <a:avLst/>
          </a:prstGeom>
          <a:ln w="0">
            <a:noFill/>
          </a:ln>
        </p:spPr>
      </p:pic>
      <p:sp>
        <p:nvSpPr>
          <p:cNvPr id="11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1835280" y="1530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0520" y="126828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INCIDENZA SETTIMANALE PER AUSL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7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2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179280" y="64436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settimanali di incidenza cumulativa x 100.000 abitant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4" name="Connettore 1 2"/>
          <p:cNvSpPr/>
          <p:nvPr/>
        </p:nvSpPr>
        <p:spPr>
          <a:xfrm>
            <a:off x="611280" y="4221000"/>
            <a:ext cx="8353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1"/>
          <p:cNvSpPr/>
          <p:nvPr/>
        </p:nvSpPr>
        <p:spPr>
          <a:xfrm>
            <a:off x="179280" y="65768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Frequenza di casi attivi per sesso ed età,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0520" y="13064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CASI ATTIVI PER ETA’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8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53 (+1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5" name="Immagine 1" descr=""/>
          <p:cNvPicPr/>
          <p:nvPr/>
        </p:nvPicPr>
        <p:blipFill>
          <a:blip r:embed="rId4"/>
          <a:stretch/>
        </p:blipFill>
        <p:spPr>
          <a:xfrm>
            <a:off x="44280" y="1916280"/>
            <a:ext cx="9079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revalenza Casi Attivi x 1.000 ab. x classi di età scolare, al 02/05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EVOLUZIONE CASI IN ETA’ SCOLARE 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9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4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45" name="Immagine 1" descr=""/>
          <p:cNvPicPr/>
          <p:nvPr/>
        </p:nvPicPr>
        <p:blipFill>
          <a:blip r:embed="rId4"/>
          <a:stretch/>
        </p:blipFill>
        <p:spPr>
          <a:xfrm>
            <a:off x="138240" y="2017800"/>
            <a:ext cx="88675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57:11Z</dcterms:created>
  <dc:creator>Coglianese</dc:creator>
  <dc:description/>
  <dc:language>en-US</dc:language>
  <cp:lastModifiedBy>Rossi Andrea</cp:lastModifiedBy>
  <cp:lastPrinted>2022-03-29T08:43:29Z</cp:lastPrinted>
  <dcterms:modified xsi:type="dcterms:W3CDTF">2022-05-02T16:13:33Z</dcterms:modified>
  <cp:revision>2714</cp:revision>
  <dc:subject/>
  <dc:title>Presentazione di PowerPoint</dc:title>
</cp:coreProperties>
</file>