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EEFC-EEFB-4E08-B8B4-5E77B5442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921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1640" y="4499640"/>
            <a:ext cx="7921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EBC2-6A17-432A-B0F6-AB82B7585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640" y="449964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30640" y="449964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34A0-5D3D-4628-8A42-CD0FC714F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0040" y="220500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8800" y="220500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1640" y="449964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0040" y="449964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8800" y="449964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5CD8-05D7-4395-A825-E5F970AC6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E8B5-1C50-46DE-B0E6-8789EC1176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640" y="220500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23E1-E408-4837-952F-6C19A6D5E3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30AAA-31F2-46ED-B466-750436B440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C7C8-C843-42A2-B325-91A372A39E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4D48-360B-427A-8B58-095027FE5B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72720" y="981000"/>
            <a:ext cx="79916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8BC5-B9F8-4E9F-9E37-0CFCC25A83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71640" y="449964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9F17-670E-4123-B6EF-2DD0EAFB2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1640" y="220500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6061-9357-48F1-A44B-3149674CA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0640" y="449964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D443-7DA3-4D43-B03F-DD0E6EBE20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1640" y="4499640"/>
            <a:ext cx="7921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4AFC-6D2B-4BD0-8CD8-D3C400ECBF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921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1640" y="4499640"/>
            <a:ext cx="7921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DA5B-0EB6-432E-B95A-72F771422E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1640" y="449964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30640" y="449964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3967-2485-4E62-8284-D5AA1D71E1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50040" y="220500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28800" y="220500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71640" y="449964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50040" y="449964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28800" y="4499640"/>
            <a:ext cx="2550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D1D8-84AB-408F-9AB9-29E55B8D8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19E5-5A01-494E-B2C0-8A2CDCACF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2ED0-52D3-43E0-9E7A-80EECABCB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08A9-EE4B-4ED1-ADB7-D348C7452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2720" y="981000"/>
            <a:ext cx="79916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DB2E-09BE-44CC-A1CB-4AC9B8ED9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1640" y="449964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8417-4E16-41E2-8D9E-DE686EC33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0640" y="449964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07D0-7C9E-4FCA-8BD4-6079AFE77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2720" y="880920"/>
            <a:ext cx="799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640" y="2205000"/>
            <a:ext cx="38653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640" y="4499640"/>
            <a:ext cx="7921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E8ED-99E5-4ADC-B43B-39EAE68A9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2720" y="981000"/>
            <a:ext cx="799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65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220500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55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55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78920" y="5947920"/>
            <a:ext cx="576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9959"/>
                </a:solidFill>
                <a:latin typeface="Frutiger55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3BC-5BF6-49F7-8A19-A43C285DB797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2720" y="981000"/>
            <a:ext cx="799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utiger65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71640" y="220500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55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55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55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55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78920" y="5950080"/>
            <a:ext cx="57636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9959"/>
                </a:solidFill>
                <a:latin typeface="Frutiger55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EFCB-ED26-440C-BC38-88A57C8D0CF3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179280" y="5950080"/>
            <a:ext cx="5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3EAD-87AB-4852-8C59-2C23E8DCD9E0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52560" y="2187360"/>
            <a:ext cx="7291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Frutiger55Roman"/>
              </a:rPr>
              <a:t>PIANO RIDUZIONE ATTIVITÀ ESTIVE 2023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Frutiger55Roman"/>
              </a:rPr>
              <a:t>IRCCS ISTITUTO ORTOPEDICO RIZZOLI</a:t>
            </a:r>
            <a:endParaRPr b="0" lang="en-US" sz="32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71640" y="3198960"/>
            <a:ext cx="40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55Roman"/>
              </a:rPr>
              <a:t>CTSS Bologna - Maggio 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99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Frutiger65"/>
              </a:rPr>
              <a:t>Periodo di riduzione</a:t>
            </a: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71640" y="220500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Frutiger55Roman"/>
              </a:rPr>
              <a:t>La riduzione delle attività dell’Istituto Ortopedico Rizzoli </a:t>
            </a:r>
            <a:r>
              <a:rPr b="1" lang="it-IT" sz="2400" spc="-1" strike="noStrike">
                <a:solidFill>
                  <a:srgbClr val="000000"/>
                </a:solidFill>
                <a:latin typeface="Frutiger55Roman"/>
              </a:rPr>
              <a:t>inizierà sabato 29 luglio e proseguirà fino a domenica 20 agosto compresi.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Frutiger55Roman"/>
              </a:rPr>
              <a:t>La ripresa delle regolari attività è pianificata per lunedì 21 agosto.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83" name="Segnaposto numero diapositiva 3"/>
          <p:cNvSpPr/>
          <p:nvPr/>
        </p:nvSpPr>
        <p:spPr>
          <a:xfrm>
            <a:off x="179280" y="5948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28FE-0A36-46C1-A89B-4ED885C051C5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99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Frutiger65"/>
              </a:rPr>
              <a:t>Reparto unico urgenze</a:t>
            </a: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71640" y="220500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Frutiger55Roman"/>
              </a:rPr>
              <a:t>Da sabato pomeriggio 29 luglio fino a domenica 20 agosto compresi, sarà in funzione il </a:t>
            </a:r>
            <a:r>
              <a:rPr b="0" lang="it-IT" sz="2400" spc="-1" strike="noStrike">
                <a:solidFill>
                  <a:srgbClr val="ff0000"/>
                </a:solidFill>
                <a:latin typeface="Frutiger55Roman"/>
              </a:rPr>
              <a:t>reparto unico urgenze</a:t>
            </a:r>
            <a:r>
              <a:rPr b="0" lang="it-IT" sz="2400" spc="-1" strike="noStrike">
                <a:solidFill>
                  <a:srgbClr val="000000"/>
                </a:solidFill>
                <a:latin typeface="Frutiger55Roman"/>
              </a:rPr>
              <a:t> dotato di </a:t>
            </a:r>
            <a:r>
              <a:rPr b="1" lang="it-IT" sz="2400" spc="-1" strike="noStrike">
                <a:solidFill>
                  <a:srgbClr val="ff0000"/>
                </a:solidFill>
                <a:latin typeface="Frutiger55Roman"/>
              </a:rPr>
              <a:t>66 posti letto</a:t>
            </a:r>
            <a:r>
              <a:rPr b="0" lang="it-IT" sz="2400" spc="-1" strike="noStrike">
                <a:solidFill>
                  <a:srgbClr val="000000"/>
                </a:solidFill>
                <a:latin typeface="Frutiger55Roman"/>
              </a:rPr>
              <a:t>, collocato presso le risorse letto della Clinica Ortopedica e Traumatologica I, CORTI e SPGO, 4° piano, che accoglierà i pazienti provenienti da Pronto Soccorso. 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Frutiger55Roman"/>
              </a:rPr>
              <a:t>Il reparto unico urgenze sarà coordinato dalle UU.OO. CORTI e SPGO.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Frutiger55Roman"/>
              </a:rPr>
              <a:t>Durante il periodo di riduzione sono stati pianificati 15 SLOT di sala operatoria alla settimana dedicati alle urgenze, con possibilità di ampliamento.</a:t>
            </a:r>
            <a:endParaRPr b="0" lang="en-US" sz="24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86" name="Segnaposto numero diapositiva 3"/>
          <p:cNvSpPr/>
          <p:nvPr/>
        </p:nvSpPr>
        <p:spPr>
          <a:xfrm>
            <a:off x="179280" y="5948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0580-340D-47EE-84AB-CE19EBF9423D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99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Frutiger65"/>
              </a:rPr>
              <a:t>Reparti aperti e risorse letto disponibili</a:t>
            </a:r>
            <a:endParaRPr b="0" lang="en-US" sz="36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88" name="Segnaposto numero diapositiva 3"/>
          <p:cNvSpPr/>
          <p:nvPr/>
        </p:nvSpPr>
        <p:spPr>
          <a:xfrm>
            <a:off x="179280" y="5948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3561-451D-4D3E-B1D7-A1C874D2B8F4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2400" y="2276640"/>
          <a:ext cx="8858160" cy="3555720"/>
        </p:xfrm>
        <a:graphic>
          <a:graphicData uri="http://schemas.openxmlformats.org/drawingml/2006/table">
            <a:tbl>
              <a:tblPr/>
              <a:tblGrid>
                <a:gridCol w="3585960"/>
                <a:gridCol w="1671840"/>
                <a:gridCol w="907920"/>
                <a:gridCol w="269244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REPARTI DI DEGENZA IN RIDU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Posti l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SC CORTI-B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SC SP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Frutiger55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C/o 4° piano, reparti CORTI, SPGO, CL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0000"/>
                          </a:solidFill>
                          <a:latin typeface="Frutiger55Roman"/>
                        </a:rPr>
                        <a:t>Reparto unico urgenze</a:t>
                      </a: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Frutiger55Roman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gestito da CORTI e SPG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SC CLINICA III ONCOLOG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Adul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C/o 4° piano, reparto CHP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Coordinamento infermieristico in carico a C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Pediatr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SC CHIRURGIA VERTEB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O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SC ORTOPEDIA PEDIAT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SC TERAPIA INTENSIVA POST-OPERATO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Più Recovery Ro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SC OSTEONC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Totale posti  letto chirurg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Escluse Osteoncologia e 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Totale posti l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Incluse Osteoncologia e 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99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Frutiger65"/>
              </a:rPr>
              <a:t>Reparti di degenza in chiusura</a:t>
            </a: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640" y="220500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 CLINICA ORTOPEDICA E TRAUMATOLOGICA I</a:t>
            </a:r>
            <a:endParaRPr b="0" lang="en-US" sz="1800" spc="-1" strike="noStrike">
              <a:solidFill>
                <a:srgbClr val="000000"/>
              </a:solidFill>
              <a:latin typeface="Frutiger55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 CLINICA ORTOPEDICA E TRAUMATOLOGICA II</a:t>
            </a:r>
            <a:endParaRPr b="0" lang="en-US" sz="1800" spc="-1" strike="noStrike">
              <a:solidFill>
                <a:srgbClr val="000000"/>
              </a:solidFill>
              <a:latin typeface="Frutiger55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HIRURGIA PROTESICA</a:t>
            </a:r>
            <a:endParaRPr b="0" lang="en-US" sz="1800" spc="-1" strike="noStrike">
              <a:solidFill>
                <a:srgbClr val="000000"/>
              </a:solidFill>
              <a:latin typeface="Frutiger55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 CLINICA IV ORTOPLASTICA</a:t>
            </a:r>
            <a:endParaRPr b="0" lang="en-US" sz="1800" spc="-1" strike="noStrike">
              <a:solidFill>
                <a:srgbClr val="000000"/>
              </a:solidFill>
              <a:latin typeface="Frutiger55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S CHIRURGIA GENERALE E TORACICA MUSCOLO SCHELETRICA</a:t>
            </a:r>
            <a:endParaRPr b="0" lang="en-US" sz="1800" spc="-1" strike="noStrike">
              <a:solidFill>
                <a:srgbClr val="000000"/>
              </a:solidFill>
              <a:latin typeface="Frutiger55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 MEDICINA FISICA E RIABILITATIVA</a:t>
            </a:r>
            <a:endParaRPr b="0" lang="en-US" sz="1800" spc="-1" strike="noStrike">
              <a:solidFill>
                <a:srgbClr val="000000"/>
              </a:solidFill>
              <a:latin typeface="Frutiger55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TTIVITÀ IN LIBERA PROFESSIONE</a:t>
            </a:r>
            <a:endParaRPr b="0" lang="en-US" sz="18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92" name="Segnaposto numero diapositiva 3"/>
          <p:cNvSpPr/>
          <p:nvPr/>
        </p:nvSpPr>
        <p:spPr>
          <a:xfrm>
            <a:off x="179280" y="5948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9018-D67A-400D-8970-00B3555E5DEB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99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rutiger65"/>
              </a:rPr>
              <a:t>Prospetto risorse letto in riduzione</a:t>
            </a:r>
            <a:endParaRPr b="0" lang="en-US" sz="32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94" name="Segnaposto numero diapositiva 3"/>
          <p:cNvSpPr/>
          <p:nvPr/>
        </p:nvSpPr>
        <p:spPr>
          <a:xfrm>
            <a:off x="179280" y="5948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8A79-A64D-4320-98E6-252533164FEE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42920" y="1916280"/>
          <a:ext cx="7416720" cy="4465440"/>
        </p:xfrm>
        <a:graphic>
          <a:graphicData uri="http://schemas.openxmlformats.org/drawingml/2006/table">
            <a:tbl>
              <a:tblPr/>
              <a:tblGrid>
                <a:gridCol w="3044880"/>
                <a:gridCol w="1419120"/>
                <a:gridCol w="1513080"/>
                <a:gridCol w="14396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Repa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PL Maggio 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PL Agosto 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Frutiger55Roman"/>
                        </a:rPr>
                        <a:t>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30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0000"/>
                          </a:solidFill>
                          <a:latin typeface="Frutiger55Roman"/>
                        </a:rPr>
                        <a:t>SC CORTI-BTM + SC SPGO (urgenz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Frutiger55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Frutiger55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Frutiger55Roman"/>
                        </a:rPr>
                        <a:t>+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65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CHIRURGIA PROTES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02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CHIRURGIA VERTEBR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65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CL ORTOPEDICA E TRAUMATOLOGICA III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27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CLINICA ORTOPEDICA E TRAUMATOLOGICA 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27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CLINICA ORTOPEDICA E TRAUMATOLOGICA 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65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CLINICA VI ORTOPLAST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27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ORTOPEDIA E TRAUMATOLOGIA PEDIAT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8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OSTEONCOLO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3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TERAPIA INTENSIVA POST-OPERATO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8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S CHIRURGIA GENERALE E TORAC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LIBERA PROFESS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9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TOTALE C/O I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27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SC ORTOPEDIA BENTIVOGLIO C/O BENTIVOGLIO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7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TOTA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Frutiger55Roman"/>
                        </a:rPr>
                        <a:t>-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CasellaDiTesto 1"/>
          <p:cNvSpPr/>
          <p:nvPr/>
        </p:nvSpPr>
        <p:spPr>
          <a:xfrm>
            <a:off x="-7920" y="6595920"/>
            <a:ext cx="174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* In attesa di conferma AU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99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rutiger65"/>
              </a:rPr>
              <a:t>Prospetto attività chirurgica in riduzione</a:t>
            </a:r>
            <a:endParaRPr b="0" lang="en-US" sz="32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179280" y="5948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6C24-7762-46CF-8CDF-3FD1B2682BFD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sellaDiTesto 1"/>
          <p:cNvSpPr/>
          <p:nvPr/>
        </p:nvSpPr>
        <p:spPr>
          <a:xfrm>
            <a:off x="-7920" y="6595920"/>
            <a:ext cx="174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* In attesa di conferma AU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35000" y="4181400"/>
          <a:ext cx="6840720" cy="2325600"/>
        </p:xfrm>
        <a:graphic>
          <a:graphicData uri="http://schemas.openxmlformats.org/drawingml/2006/table">
            <a:tbl>
              <a:tblPr/>
              <a:tblGrid>
                <a:gridCol w="2281320"/>
                <a:gridCol w="1650960"/>
                <a:gridCol w="1467000"/>
                <a:gridCol w="1441440"/>
              </a:tblGrid>
              <a:tr h="677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e di sala </a:t>
                      </a:r>
                      <a:r>
                        <a:rPr b="1" lang="it-IT" sz="12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settimanali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medie per tipologia di attività chirurg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iugno 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duzion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osto 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22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RG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A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 C/O 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 IOR BENTIVOGLIO C/O BENTIVOGL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2920" y="1917720"/>
          <a:ext cx="6842160" cy="2203560"/>
        </p:xfrm>
        <a:graphic>
          <a:graphicData uri="http://schemas.openxmlformats.org/drawingml/2006/table">
            <a:tbl>
              <a:tblPr/>
              <a:tblGrid>
                <a:gridCol w="2293920"/>
                <a:gridCol w="1636920"/>
                <a:gridCol w="1476360"/>
                <a:gridCol w="1434960"/>
              </a:tblGrid>
              <a:tr h="72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LOT di sala </a:t>
                      </a:r>
                      <a:r>
                        <a:rPr b="1" lang="it-IT" sz="12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settimanali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medi per tipologia di attività chirurg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iugno 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duzion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osto 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RG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A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 C/O 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 IOR BENTIVOGLIO C/O BENTIVOGL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99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Frutiger65"/>
              </a:rPr>
              <a:t>Attività ambulatoriale</a:t>
            </a: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640" y="220500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</a:rPr>
              <a:t>La programmazione  dell'attività specialistica  ambulatoriale SSN  dal 1 al 31 agosto  prevede l'apertura  solo al mattino ed  osserverà la chiusura pomeridiana. 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179280" y="5948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01A2-1233-4B5D-A2CF-6B2460D6D1E3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99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Frutiger65"/>
              </a:rPr>
              <a:t>Servizi senza posti letto</a:t>
            </a:r>
            <a:endParaRPr b="0" lang="en-US" sz="4000" spc="-1" strike="noStrike">
              <a:solidFill>
                <a:srgbClr val="000000"/>
              </a:solidFill>
              <a:latin typeface="Frutiger65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640" y="220500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99"/>
              </a:spcBef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Nel periodo di riduzione rimarranno </a:t>
            </a:r>
            <a:r>
              <a:rPr b="1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attivi</a:t>
            </a: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55000"/>
              <a:buFont typeface="Arial Narrow"/>
              <a:buChar char="-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SSD Pronto Soccorso 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55000"/>
              <a:buFont typeface="Arial Narrow"/>
              <a:buChar char="-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SC Banca delle Cellule e del Tessuto Muscolo Scheletrico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55000"/>
              <a:buFont typeface="Arial Narrow"/>
              <a:buChar char="-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Laboratorio di Microbiologia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55000"/>
              <a:buFont typeface="Arial Narrow"/>
              <a:buChar char="-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SSD Anatomia e Istologia Patologica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55000"/>
              <a:buFont typeface="Arial Narrow"/>
              <a:buChar char="-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SIMT-AMBO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55000"/>
              <a:buFont typeface="Arial Narrow"/>
              <a:buChar char="-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Servizio tamponi SARS-CoV-2 (fino a diversa indicazione da Regione)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55000"/>
              <a:buFont typeface="Arial Narrow"/>
              <a:buChar char="-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Servizio distribuzione DPI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55000"/>
              <a:buFont typeface="Arial Narrow"/>
              <a:buChar char="-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Sala Gessi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55000"/>
              <a:buFont typeface="Arial Narrow"/>
              <a:buChar char="-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utiger55Roman"/>
                <a:ea typeface="Times New Roman"/>
              </a:rPr>
              <a:t>Centrale di Sterilizzazione</a:t>
            </a:r>
            <a:endParaRPr b="0" lang="en-US" sz="2000" spc="-1" strike="noStrike">
              <a:solidFill>
                <a:srgbClr val="000000"/>
              </a:solidFill>
              <a:latin typeface="Frutiger55Roman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179280" y="5948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0F59-F9AC-4771-8A93-8DA3B3C0EA85}" type="slidenum">
              <a:rPr b="0" lang="it-IT" sz="2400" spc="-1" strike="noStrike">
                <a:solidFill>
                  <a:srgbClr val="009959"/>
                </a:solidFill>
                <a:latin typeface="Frutiger55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8:44:53Z</dcterms:created>
  <dc:creator>Servizio Informatico</dc:creator>
  <dc:description/>
  <dc:language>en-US</dc:language>
  <cp:lastModifiedBy>direzione_sanitaria.gruppo1</cp:lastModifiedBy>
  <dcterms:modified xsi:type="dcterms:W3CDTF">2023-05-04T09:30:00Z</dcterms:modified>
  <cp:revision>29</cp:revision>
  <dc:subject/>
  <dc:title>Titolo della Slide</dc:title>
</cp:coreProperties>
</file>